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46D76-16A0-4400-ACF5-4225DEB5A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B3213-D21F-4ADE-832A-D2C608E97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02746-70C0-4F14-ACEA-2F08E5171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B2229-851A-4A57-97A9-A075B0852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6004E-EEC0-41D7-AACF-73BC8ED84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4FF80-67A7-4F4E-8163-66B45041C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62CD8-90F2-490D-BB08-2E3D7B5FD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64137-8D81-4102-BE82-1A695F9E5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6CAC2-C856-4455-AFE6-A83CB9E43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FA08C-C618-4FB8-B3EC-10F756FE9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00902-0057-4921-873C-FE1361487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7B40F-13BE-40EA-9AA5-CA2230D21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4B0B8-2EF3-4FE7-ACD3-E142B19F6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CD75F-E065-4ABB-B131-81E4D1D9C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25B6-811F-4E1F-8010-CC2963EE1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959C-12B0-4285-A5DF-19B9FA582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5198-1310-4BCB-A59C-CEC547F70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602F-C224-40AA-92A2-4A0D258A5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070F0-89F2-4C60-91D4-CB2AFC64A7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AE4C4-C253-440D-930C-2ADF69491A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84329-9880-4B4F-8B39-2E112C0F55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0CE0-3E4A-4D72-8098-B20D05137C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CF05B-8CBB-4709-9753-10EA7002FD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D2C21-8E9B-461E-9D36-233EEB3691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0FFDD-2CE1-40D3-9F2D-592415038B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C9ED-99F3-43BB-8651-365C43BF1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13164-FA4F-45BC-8304-4EC2981F4A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EFEC7-FFB1-41CA-B915-C8487C3CF0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7274D-5A76-4F39-BA04-C278389619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8A4BE-9E68-4481-9A7D-16A89EED0E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C43DA-632E-455C-9BD5-C18BFD4636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3BEF-6A5D-4786-A374-CC738C246C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49E7-297A-487B-ACEF-959EEAA3D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C50D-0618-4930-9A9E-BD8BFCEA4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5ADD-404C-4BD1-A811-B38381293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7D12-EA5D-4A97-997A-B61C80E16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DD4C-DBFE-4706-8E13-E1BD24B1F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91F6-856E-4AF0-8A37-8F7A79295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760" y="6307200"/>
            <a:ext cx="657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98A9A-8147-4966-B843-0E4FAB50F3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2"/>
          <p:cNvGrpSpPr/>
          <p:nvPr/>
        </p:nvGrpSpPr>
        <p:grpSpPr>
          <a:xfrm>
            <a:off x="5403960" y="214200"/>
            <a:ext cx="3522600" cy="1287360"/>
            <a:chOff x="5403960" y="214200"/>
            <a:chExt cx="3522600" cy="1287360"/>
          </a:xfrm>
        </p:grpSpPr>
        <p:sp>
          <p:nvSpPr>
            <p:cNvPr id="42" name="WordArt 3"/>
            <p:cNvSpPr txBox="1"/>
            <p:nvPr/>
          </p:nvSpPr>
          <p:spPr>
            <a:xfrm>
              <a:off x="5457960" y="214200"/>
              <a:ext cx="217620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4"/>
            <p:cNvSpPr/>
            <p:nvPr/>
          </p:nvSpPr>
          <p:spPr>
            <a:xfrm>
              <a:off x="5403960" y="858960"/>
              <a:ext cx="352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760" y="6356160"/>
            <a:ext cx="657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EE40C-6713-40C2-A9CC-64B0D4066E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Derek Simmel</a:t>
            </a:r>
            <a:br>
              <a:rPr sz="3200"/>
            </a:b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(delivered by David [Groep|Kelsey]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ae00"/>
                </a:solidFill>
                <a:latin typeface="Calibri"/>
              </a:rPr>
              <a:t>31</a:t>
            </a:r>
            <a:r>
              <a:rPr b="0" lang="en-GB" sz="2200" spc="-1" strike="noStrike" baseline="30000">
                <a:solidFill>
                  <a:srgbClr val="00ae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ae00"/>
                </a:solidFill>
                <a:latin typeface="Calibri"/>
              </a:rPr>
              <a:t> EUGridPMA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Tartu, Estoni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May 14, 2014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Upcoming TAGPMA F2F Meetings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9 (Lehi, Utah)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June 4-6, 2014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osted by DigiCert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indico.rnp.br/conferenceDisplay.py?confId=190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20 (Valparaiso, Chile)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October 20-22, 2014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-located with CARLA conference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indico.rnp.br/conferenceDisplay.py?confId=191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carla2014.hpclatam.org/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317600"/>
            <a:ext cx="822960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Leadersh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TAGPMA Membersh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ws and Current wor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unication Infrastruc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Conference Cal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pcoming Face to face meetings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19 (Lehi, Utah) June 4-6,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ttp://indico.rnp.br/conferenceDisplay.py?confId=19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20 (Valparaiso, Chile) Oct. 20-22,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ttp://indico.rnp.br/conferenceDisplay.py?confId=19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ocated with CARLA confer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ttp://carla2014.hpclatam.org/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7B2AF-ECBC-4782-BD01-2E22BF7D0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457200" y="1317600"/>
            <a:ext cx="82296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air: Derek Simmel (PS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simmel@psc.ed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* Chair for Latin America: Ale Stolk (ULAGri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stolk@ula.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ordinates activities with Spanish-speaking partners and members and leads TAGPMA </a:t>
            </a:r>
            <a:r>
              <a:rPr b="0" i="1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spañol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meet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ce Chair: Scott Rea (DigiCert + REBC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cott@DigiCert.co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retary: TBD - Ale Stolk (ULAGrid) in interi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* Webmaster: TB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*new posi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6AEF4-6832-4B28-A9FD-0E8AD9BA8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039680" y="990720"/>
          <a:ext cx="7067520" cy="5659200"/>
        </p:xfrm>
        <a:graphic>
          <a:graphicData uri="http://schemas.openxmlformats.org/drawingml/2006/table">
            <a:tbl>
              <a:tblPr/>
              <a:tblGrid>
                <a:gridCol w="1667160"/>
                <a:gridCol w="1655640"/>
                <a:gridCol w="2160720"/>
                <a:gridCol w="1584000"/>
              </a:tblGrid>
              <a:tr h="316440">
                <a:tc>
                  <a:txBody>
                    <a:bodyPr lIns="90000" rIns="90000" tIns="72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628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628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Wynkoo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rardo Jaco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el Quinte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G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an Sil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Text Box 106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317600"/>
            <a:ext cx="822960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6 Members from North, Central and South Ameri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vering Argentina, Brazil, Canada, Chile, Colombia, Mexico, Panama, Peru, U.S.A. and Venezuela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2 IGTF Accredited C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3 Classic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rgentina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LPGri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razil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FF BrGrid &amp; UFF LACGrid, ANSPGri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anada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ridCanad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ile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U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ombia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IAND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exico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A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.S.A.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igiCert(2), DOEGrid (EUGridPMA), InComm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enezuela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LAGrid UNA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7 SLC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.S.A.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(3), FermiLab, NERSC, PSC, NICS UTK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.S.A.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, InComm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D1724-E7D6-4895-B47C-BD8B3D83C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5 CA accreditations in-proces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 Classic pending CP/CPS (SENAMHI – Peru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 pending CP/CPS (SDSC, NCAR – US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CA – Operational Review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ILogon BASIC CA – (IOTA) – Operational Review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9 Relying Part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CIDETYS/UTP, ESNet, FNAL, LCG, OGF, OSG, REBCA, redCLARA, XSED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SNet moved from AP to R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Prospective memb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cuador and Costa Rica in becoming AP member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hio Supercomputer Center CA for State of Ohio K-12/Univ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5F0D6-6F9B-451F-9A92-3AC7B6884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57200" y="1317600"/>
            <a:ext cx="822960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14FAA-FD83-4F77-8BA8-1D14711AB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58840" y="1371600"/>
            <a:ext cx="84963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News and Current Work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OTA Profile 1.1 approved by TAGPMA members for use in accreditation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ILogon BASIC CA is first candid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434160" indent="-43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</a:t>
            </a:r>
            <a:r>
              <a:rPr b="0" i="1" lang="en-US" sz="2400" spc="-1" strike="noStrike">
                <a:solidFill>
                  <a:srgbClr val="1f497d"/>
                </a:solidFill>
                <a:latin typeface="Calibri"/>
              </a:rPr>
              <a:t>Español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meetings launched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panish language monthly cal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0" lang="en-US" sz="2000" spc="-1" strike="noStrike" baseline="30000">
                <a:solidFill>
                  <a:srgbClr val="1f497d"/>
                </a:solidFill>
                <a:latin typeface="Calibri"/>
              </a:rPr>
              <a:t>st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Tuesday each Month, 14:00 UTC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http://dev1.redclara.net/sivicv2/8/23982 web conferenc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Ale Stolk (new Chair for Latin America) leading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434160" indent="-43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-do Lis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ominations accepted for TAGPMA officers (next 2-year term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Ongoing Accreditations, Membership renewals, website overhaul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rafting guidance documentation for developers and sysadmi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94480" indent="-434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opics include SHA-2 compliance and profile upd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457200" y="13176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static, public information &amp; profi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verhaul still way overdue </a:t>
            </a:r>
            <a:r>
              <a:rPr b="0" lang="en-US" sz="20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in-process TAGPMA documents, notes, tutorials 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tains agenda and minutes from monthly meet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-mail any issues direct to the Chair (dsimmel@psc.edu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F992E-B3C8-4F4B-9F7F-CFE0F3CB5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457200" y="1317600"/>
            <a:ext cx="822960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English Video Conference Calls are Monthly, at 12:00 noon Eastern (US) time on the 2</a:t>
            </a:r>
            <a:r>
              <a:rPr b="0" lang="en-US" sz="2400" spc="-1" strike="noStrike" baseline="30000">
                <a:solidFill>
                  <a:srgbClr val="1f497d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Wednesday of each month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call after June TAGPMA 19 F2F will be July 9,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deo arrangements: RedCLARA VC Espress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quest for agenda items goes out ~1 week before the next cal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agenda is usually posted on tagpma-general e-mail list no later than 1 day before the meet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Spanish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Video Conference Calls are Monthly, at 14:00 UTC time on the 1</a:t>
            </a:r>
            <a:r>
              <a:rPr b="0" lang="en-US" sz="2400" spc="-1" strike="noStrike" baseline="30000">
                <a:solidFill>
                  <a:srgbClr val="1f497d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Tuesday of each month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call after June TAGPMA 19 F2F will be July 1,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deo arrangements: RedCLARA VC Espress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quest for agenda items goes out ~1 week before the next cal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agenda is usually posted on tagpma-general e-mail list no later than 1 day before the meet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0EEF2-1ECA-43E0-A02E-443A20D67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4-05-13T19:53:09Z</cp:lastPrinted>
  <dcterms:modified xsi:type="dcterms:W3CDTF">2014-05-13T19:54:21Z</dcterms:modified>
  <cp:revision>39</cp:revision>
  <dc:subject/>
  <dc:title>PowerPoint Presentation</dc:title>
</cp:coreProperties>
</file>