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E9BDF-8350-44A7-904E-63C9C2DB1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198845-6CEF-4C0E-A7D1-F312FC1BC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1805C1-32AF-4DBD-B488-D395D931F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63690E-9CF6-489E-937E-24DE014CD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FCA4F-CC34-4A81-8BBA-C8ECC572F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C42123-FA01-417D-9F28-622343D038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1719F1-A6CE-4948-A90B-F686BB94B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398AF-EC1F-470C-B752-136739355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595D38-3808-459D-B2F9-AB136208FC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F8F6D4-D952-4E38-ABB8-5469E0562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CE0F19-5A75-4004-8953-50180531E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1D1E6-4DB9-481A-BF58-10BE9226ED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45EB1-A997-4C06-BD18-FDF44975F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061EA-A44A-4FA8-8570-5BF06C139F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C7334-9491-487A-96DE-B54928AFE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D4B01-F844-44B3-9604-7B4E25EE70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12F03-A31A-475B-A938-D206761C7B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C62F9-B439-4CE1-9A20-FD46ADE27A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7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7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5B618-6573-4A6B-B9F1-E78CDECF05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EB0E4-0685-4DDE-AECE-D182D81F28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DE9E9-CAAF-4C07-911C-40DBCD50C3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129DB-FF14-4704-B015-C30969FB67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4922C-9784-4AD1-92A3-F8F4913C5F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19032-ADD8-4BC8-909F-3A5CF09D49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833480" y="-3600"/>
            <a:ext cx="68486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2E8F6-B18F-4F3A-95F3-C05732E1C0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B6376-7EE3-4B31-BE90-30806E4EF7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F4D29-DB52-4845-8CD9-AD4A4544F8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84846-6CC6-403A-826E-40FECFF856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078DD-ECF7-4EED-AB60-5E3EEE2492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18197-04B6-4FCD-99EC-6A6BFB6604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8A1E0-6237-4736-8187-6704BEB2EC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7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7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6687C-4DE8-4318-8CC9-881A3472F15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3C66A-2501-4B62-B77F-63911FDC6C6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833480" y="-3600"/>
            <a:ext cx="68486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7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8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6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7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8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196A3-F44D-417C-A3D1-A6279536EC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F603B-C0D8-476B-A624-5F115EAEE3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833480" y="-3600"/>
            <a:ext cx="68486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2B64A-73BD-4E4F-ADDC-EC514A44FA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629D3-504B-4317-B39D-D67D86CBAB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E0190-1033-47D3-AE78-E93ACD94E6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0C029-0FCF-42A3-9BF2-6B1E502085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24760" y="6307200"/>
            <a:ext cx="657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88AAA3-90CC-43FD-B3DC-CB3D3F4842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  <p:grpSp>
        <p:nvGrpSpPr>
          <p:cNvPr id="41" name="Group 2"/>
          <p:cNvGrpSpPr/>
          <p:nvPr/>
        </p:nvGrpSpPr>
        <p:grpSpPr>
          <a:xfrm>
            <a:off x="5403960" y="214200"/>
            <a:ext cx="3522600" cy="1287360"/>
            <a:chOff x="5403960" y="214200"/>
            <a:chExt cx="3522600" cy="1287360"/>
          </a:xfrm>
        </p:grpSpPr>
        <p:sp>
          <p:nvSpPr>
            <p:cNvPr id="42" name="WordArt 3"/>
            <p:cNvSpPr txBox="1"/>
            <p:nvPr/>
          </p:nvSpPr>
          <p:spPr>
            <a:xfrm>
              <a:off x="5457960" y="214200"/>
              <a:ext cx="2176200" cy="64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GPM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" name="Text Box 4"/>
            <p:cNvSpPr/>
            <p:nvPr/>
          </p:nvSpPr>
          <p:spPr>
            <a:xfrm>
              <a:off x="5403960" y="858960"/>
              <a:ext cx="3522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he Americas Grid 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Policy Management Authority</a:t>
              </a: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8024760" y="6356160"/>
            <a:ext cx="657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67843D-F812-4846-93C5-248EA4F40C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ndico.rnp.br/conferenceDisplay.py?ovw=True&amp;confId=173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Updat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VE" sz="3200" spc="-1" strike="noStrike">
                <a:solidFill>
                  <a:srgbClr val="898989"/>
                </a:solidFill>
                <a:latin typeface="Calibri"/>
              </a:rPr>
              <a:t>Derek Simmel &amp;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VE" sz="3200" spc="-1" strike="noStrike">
                <a:solidFill>
                  <a:srgbClr val="898989"/>
                </a:solidFill>
                <a:latin typeface="Calibri"/>
              </a:rPr>
              <a:t>Alejandra Stol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250920" y="4941720"/>
            <a:ext cx="8713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ae00"/>
                </a:solidFill>
                <a:latin typeface="Calibri"/>
              </a:rPr>
              <a:t>EUGridPMA Meeting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898989"/>
                </a:solidFill>
                <a:latin typeface="Calibri"/>
              </a:rPr>
              <a:t>Buchares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898989"/>
                </a:solidFill>
                <a:latin typeface="Calibri"/>
              </a:rPr>
              <a:t>Sep 9th, 2013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1833480" y="63360"/>
            <a:ext cx="6853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VE" sz="3200" spc="-1" strike="noStrike">
                <a:solidFill>
                  <a:srgbClr val="c0504d"/>
                </a:solidFill>
                <a:latin typeface="Calibri"/>
              </a:rPr>
              <a:t>Current wor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731880" y="1317600"/>
            <a:ext cx="7954920" cy="52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F1991-8253-41DD-94D9-BA1C5D9D39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36440" y="1397160"/>
            <a:ext cx="8953560" cy="51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(2) InCommon CA CPS evaluation completed;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Vote to ACCEPT/DECLINE for accreditation currently under way via e-mail vote (due Sept. 11, 2013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(3) IGTF All Hands Meeting scheduled for November 6-8, 2013,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Hosted by UNLP in La Plata, Argentina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nference details available 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1560" indent="-22716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Calibri"/>
                <a:ea typeface="ＭＳ Ｐゴシック"/>
                <a:hlinkClick r:id="rId1"/>
              </a:rPr>
              <a:t>http://indico.rnp.br/conferenceDisplay.py?ovw=True&amp;confId=17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raft agenda to be added shortly - suggestions welcome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183348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Updat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457200" y="1317600"/>
            <a:ext cx="8229600" cy="50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AGPMA Leadership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urrent TAGPMA Membership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mmunication Infrastructur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AGPMA Conference Cal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ext meeting is TAGPMA 18 (IGTF All Hand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urrent work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CA254-A34D-4B3F-8E9B-B3F12011E4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183348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Leadership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457200" y="1317600"/>
            <a:ext cx="822960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urrent Offic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hair: Derek Simmel (PSC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simmel@psc.ed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Vice Chair: Scott Rea (DigiCert + REBCA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cott@DigiCert.co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ecretary: Ale Stolk (ULAGrid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astolk@ula.v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79FB57-7EA7-4AAC-A1AC-55E1E6E6DA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039680" y="1143000"/>
          <a:ext cx="7067520" cy="5454720"/>
        </p:xfrm>
        <a:graphic>
          <a:graphicData uri="http://schemas.openxmlformats.org/drawingml/2006/table">
            <a:tbl>
              <a:tblPr/>
              <a:tblGrid>
                <a:gridCol w="1667160"/>
                <a:gridCol w="1655640"/>
                <a:gridCol w="2160720"/>
                <a:gridCol w="1584000"/>
              </a:tblGrid>
              <a:tr h="317520"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V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ganiz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V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presentativ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V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P/R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Ce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Re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Ne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hiva Murugananth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idCanad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ad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ger Impe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BDS ANS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gio Lietti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omm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CA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ve Bea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C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RS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reyas Choli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ctor Hazlewood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ek Simme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UN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dra Jaqu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DS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Sakai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AMH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u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to Huiman Carrasc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FF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od Rebell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LAGri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ezuel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jandra Stolk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xic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ncisco Martinez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AND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dres Holgui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56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L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ula Venos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DETYS / UT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am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erube Urriol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win Gaine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56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BC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Re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56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CLAR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e/LA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is A. Núñez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LC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itzerlan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ve Kelse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SE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Marsteller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2" name="Text Box 106"/>
          <p:cNvSpPr/>
          <p:nvPr/>
        </p:nvSpPr>
        <p:spPr>
          <a:xfrm>
            <a:off x="1833480" y="1440"/>
            <a:ext cx="6853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1833480" y="1440"/>
            <a:ext cx="6853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317600"/>
            <a:ext cx="8229600" cy="57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25 Members from North, Central and South America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vering Canada, US, Mexico, Venezuela, Chile, Peru, Argentina, Brazil, Colombia and Panama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21 IGTF Accredited CA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12 Classic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igiCert(2) – US, UFF BrGrid &amp; UFF LACGrid - Brazil, ANSPGrid – Brazil, UNLPGrid - Argentina, REUNA – Chile, ULAGrid – Venezuela, GridCanada, UNAM – Mexico, UNIANDES - Colombia.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OE Grid accredited by EUGridP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7 SLC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CSA x 3, FermiLab, NERSC, PSC, NICS UTK - U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2 MIC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CSA – US and CILogon – U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26D6B9-7BFF-4F7E-8F6E-0A965B9B11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1833480" y="1440"/>
            <a:ext cx="6853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457200" y="1317600"/>
            <a:ext cx="8229600" cy="55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4 CA accreditations in-proces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2 Classic pending (SENAMHI – Peru, InCommon – US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2 MICS pending (SDSC, NCAR – US)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nCommon CA (Comodo for low-cost host certs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7 Relying Partie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(CIDETYS/UTP, FNAL, LCG, OSG, REBCA, redCLARA, XSEDE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New member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nCommon voted in as new prospective AP memb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OGF has expressed interest in membership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nterest expressed (again) by Ecuador and Costa Rica in becoming AP member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FAC66-6464-456F-958B-71F1C3A70A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1833480" y="1440"/>
            <a:ext cx="6853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ommunication Infrastructur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457200" y="1317600"/>
            <a:ext cx="822960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IGTF Website http://www.igtf.ne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AGPMA Website http://www.tagpma.org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Hosts static, public information &amp; profil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Overhaul still way overdue </a:t>
            </a:r>
            <a:r>
              <a:rPr b="0" lang="en-US" sz="2000" spc="-1" strike="noStrike">
                <a:solidFill>
                  <a:srgbClr val="1f497d"/>
                </a:solidFill>
                <a:latin typeface="Wingdings"/>
                <a:ea typeface="Wingdings"/>
              </a:rPr>
              <a:t>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AGPMA twiki </a:t>
            </a: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http(s)://tagpma.es.net/wiki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hosts in-process TAGPMA documents, notes, tutorials etc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ntains agenda and minutes from monthly meeting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Mailing lists tagpma-general, tagpma-privat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ailing lists have been moved over to Google Apps for Education, also enabling Calendar, Docs &amp; Sit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E-mail any issues direct to the Chair (dsimmel@psc.edu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0387E-FA69-4D03-B25D-DB49BEBA4D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183348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Conference Call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457200" y="1317600"/>
            <a:ext cx="822960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Regular Video Conference Calls are now Monthly, at 12noon Eastern (US) time on the 2nd Wednesday of each month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ext call will be September 11, 2013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Video arrangements: RedCLARA VC Espresso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Request for agenda items goes out ~1 week before the next call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he agenda is usually posted on tagpma-general e-mail list no later than 1 day before the meeting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1f497d"/>
                </a:solidFill>
                <a:latin typeface="Calibri"/>
              </a:rPr>
              <a:t>All IGTF members and prospective TAGPMA members are welcome to attend our TAGPMA meetings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155B4-5299-4C90-94EF-9C09708E07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1833480" y="63360"/>
            <a:ext cx="6853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VE" sz="3200" spc="-1" strike="noStrike">
                <a:solidFill>
                  <a:srgbClr val="c0504d"/>
                </a:solidFill>
                <a:latin typeface="Calibri"/>
              </a:rPr>
              <a:t>Current wor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457200" y="1317600"/>
            <a:ext cx="8229600" cy="58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A79C6-F8B9-49EE-9695-55F7AEA7C7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258840" y="1371600"/>
            <a:ext cx="849636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indent="-457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arenR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Updated MICS profile to (v.1.3) add the following statement in Section 3.1 </a:t>
            </a:r>
            <a:r>
              <a:rPr b="0" i="1" lang="en-US" sz="2000" spc="-1" strike="noStrike">
                <a:solidFill>
                  <a:srgbClr val="1f497d"/>
                </a:solidFill>
                <a:latin typeface="Calibri"/>
              </a:rPr>
              <a:t>Identity vetting rules for the primary identity management system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"On the Kantara Initiative Identity Assurance Framework Levels of Assurance scale [Kantara2010], Assurance Level 2 and higher are considered sufficient for MICS PKI identity vetting."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with the reference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[Kantara2010]  Glade, B. (Ed.). “Identity Assurance Framework: Assurance Levels” Version 2.0 24 April 2010. Kantara Initiative. http://kantarainitiative.org/confluence/download/attachments/41649275/Kantara+IAF-1200-Levels+of+Assurance.pdf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04:52:24Z</dcterms:created>
  <dc:creator>Derek Simmel</dc:creator>
  <dc:description/>
  <dc:language>en-US</dc:language>
  <cp:lastModifiedBy>Derek Simmel</cp:lastModifiedBy>
  <cp:lastPrinted>2013-01-14T06:34:15Z</cp:lastPrinted>
  <dcterms:modified xsi:type="dcterms:W3CDTF">2013-09-09T02:42:02Z</dcterms:modified>
  <cp:revision>23</cp:revision>
  <dc:subject/>
  <dc:title>PowerPoint Presentation</dc:title>
</cp:coreProperties>
</file>