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829D290-07D2-4112-ACE5-F986B53867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CEA4F5F-3436-4CC9-A41D-4122FAF7C5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F86D6D51-B9C8-48D7-B3B4-8D8EEB94754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3E4562B9-ED71-4F55-92FD-0104D879F48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C9AEDAB7-A062-4DAC-A889-1B17C291B43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26CBA7A8-82E3-473C-80D3-DDE086BE4D0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6E287289-CAAC-4B95-B00A-847FAEAA8DD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2E25F0ED-A179-4D60-95AF-31B4A7A439F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5BC073EC-56FD-45E0-AB86-4E3E8058C36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79CE8187-1C2D-4F7A-A93F-497A1FAEE28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8DBB402F-8AD5-4ED1-8813-C0C3559578D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1CDC81E1-6A4F-4A54-A8E4-7758DA4724B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43636319-9997-4FBD-B3EC-9B39B6447D6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IOTA Questions for RP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Sept 9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Bucharest, Romani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TechWednesday topic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 certificate renewal guidance (serial number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esting possibilities for production use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P questionnaire (cntd)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iding certificates from end-users and increased use of credential repos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ogress on the IGTF test suite construction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eparation for the IGTF All Hands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GI TF session on identity management requirements;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Basic Premis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Subject names must be globally uniqu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Subject names must be persistent (for the life time of the authorit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t’s about people and robo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Naming of IOTA subjects must be different from other profil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OTA Questions for RP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/RCs need the ‘real name’ of the person the certificate subjec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Is it enough to be able to ask another entity to give you the name (e.g. the VO, community, other site or central LDAP)?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assurance level do you expect from this 3</a:t>
            </a:r>
            <a:r>
              <a:rPr b="0" lang="en-GB" sz="18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 party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need this information up-front (before or at use tim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need this information at end (e.g. for accounting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or It is sufficient to be able to ask an entity to contact the user on your behalf (like a privacy servic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Should pseudonyms be clearly identifiable (e.g. if they look like a name they should be the real nam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Lucida Sans"/>
              </a:rPr>
              <a:t>The email use case will not work: since emailAddress must be embedded in the SAN, but the mail will be pseudonymous as well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OTA 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Vetting assurance level and responsibilit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iven that the name may be a pseudonym and is weakly verified, do you (RP, community) have the mechanisms in place to strongly identify the real user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hould we enforce obfuscated naming for all subject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will you (RP, VO) deal with ‘identity spoofing’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do you currently enrol users in the community? Do you use or rely on the commonName of the subject for adding people to your databases (or get a ‘warm fuzzy’ feeling in association with e.g. unsigned email)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racability by the V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re you set up to provide traceability for your user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you have means and procedures for incident response and mitigation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uditability, traceabilit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ccess to the user information by R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Do you insist that the collection of this data is verifiable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of processes be documented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of processes be audited periodically (expensive!)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be auditable? Or contract/sanction-based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A user may and will have many credentials and changing names: does this pose issues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Do you expect e.g. the community to provide a real name up-front with every access request (e.g. in a VOMS generic attribute)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 (RCs) need to be able to independently trace the user without involving the user community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Can a registration mechanism, retrievable or callable by the RP, satisfy this requirement (e.g. like the EGEE CIC portal having an ability to send email to the owner of a DN)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 need to be able to trace without involving the CA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Which are the ‘emergency cases’ where they expect CA involvement in tracing or contacting subscribers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ncident respons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RPs/RCs expect the CA to be involved in incident response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is an incident where you expect CA involvement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is the level of involvement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see a classification of incidents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If there are up-stream IdPs, are you ‘happy’ with just the CA response even if upstream does not participate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expect more than pure credential revocation in case of demonstrable credential compromise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see the CA more than a fall back to point to in case LEA comes after you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expect/prefer suspension possibilities? Do you have this capability at the RP level (through authorization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Can you get by with just your own response capability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9-11T08:13:17Z</dcterms:modified>
  <cp:revision>622</cp:revision>
  <dc:subject/>
  <dc:title>European Grid Policy Management Authority</dc:title>
</cp:coreProperties>
</file>