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90EBC-DC03-4F2E-AAA4-EF73B4DC6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218E5-467E-400D-A616-AA19CB767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AF4F4-E666-4692-87EF-DDC12545D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36B61-81B3-489D-B87B-29D2C4EA8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0C658-4324-4279-AD0D-E30312C3D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F739D-17D9-4E3B-AF0A-14AE8BA36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B83C2-D558-47BB-B523-635790AEF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1478A-8D2D-4DE2-BAF5-AE5A96E50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CEE7B-64FD-439A-94D9-5A761ECD0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A70C9-828B-4E77-8995-6097A50B3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A54FF-7F26-4216-9108-5BBCD3046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848F6-F627-4710-9845-37A641750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568A8-1090-4ADA-B87E-4092B94E7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244B3-65C8-4C6E-A120-BCADCF05F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C2028-E97C-4A6A-B6DB-13D74C63B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422E-D11A-4BA9-BDFA-D93C9609C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3351-1FEB-48B7-AA75-A7D507728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B795-EC34-442A-ABF5-A54383ED1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60BE-D8EB-456A-9A28-83EAFAC1C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83E29-EEAC-4E31-85A2-A0EF766B0F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F025-6F71-495A-B4E1-1136FC7301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9E6F-7E59-4D51-B996-94189EE7D5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7046-1401-46D3-88A2-CADD2BB6B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E961-D8D4-4D44-B0E8-F0A712DDC4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935B-3E97-493E-981A-FB8751B7C3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1DCB-0683-42F1-B4FF-432E6BF2F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EDC5-B5FB-4D4C-9F68-8438AA001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75DA-984C-485F-8AA5-E0E101EDEE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03A5-C3BC-477B-8D0F-0E73F4FB88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FFE7-804D-4D2F-8307-D1A14829E2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1FAF-D9EF-4EA0-9B3C-443C556DBD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6614F-4FF5-4EF0-A976-67BE7D1E3E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8D28-E075-49C9-8679-3530809F2D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C5FF-127A-4E75-A6D8-7257B285E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997B-15AA-4FF4-ACC0-F4F0F4207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CD0D-471C-43C3-B26B-DC48EC3A6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ACCF-6BFB-4563-850E-F2F30A790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034D-CBCF-4E72-9E13-444829137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991F-EBE5-4FE4-97F3-0E0253B76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760" y="6307200"/>
            <a:ext cx="657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20465-06CE-406B-B9B4-18E3194947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"/>
          <p:cNvGrpSpPr/>
          <p:nvPr/>
        </p:nvGrpSpPr>
        <p:grpSpPr>
          <a:xfrm>
            <a:off x="5403960" y="214200"/>
            <a:ext cx="3522600" cy="1287360"/>
            <a:chOff x="5403960" y="214200"/>
            <a:chExt cx="3522600" cy="1287360"/>
          </a:xfrm>
        </p:grpSpPr>
        <p:sp>
          <p:nvSpPr>
            <p:cNvPr id="42" name="WordArt 3"/>
            <p:cNvSpPr txBox="1"/>
            <p:nvPr/>
          </p:nvSpPr>
          <p:spPr>
            <a:xfrm>
              <a:off x="5457960" y="214200"/>
              <a:ext cx="21762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4"/>
            <p:cNvSpPr/>
            <p:nvPr/>
          </p:nvSpPr>
          <p:spPr>
            <a:xfrm>
              <a:off x="5403960" y="858960"/>
              <a:ext cx="352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760" y="6356160"/>
            <a:ext cx="65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8DA49-05DA-4F5F-87F6-CDFF1019E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ovw=True&amp;confId=17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Derek Simmel &amp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Alejandra Stol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EUGridPMA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Buchares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Sep 9th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731880" y="1317600"/>
            <a:ext cx="795492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6232E-844A-4C9B-8AA7-9035D17F2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36440" y="1397160"/>
            <a:ext cx="895356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2) InCommon CA CPS evaluation completed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ote to ACCEPT/DECLINE for accreditation currently under way via e-mail vote (due Sept. 11, 201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3) IGTF All Hands Meeting scheduled for November 6-8, 2013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ed by UNLP in La Plata, Argentina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ference details available 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1560" indent="-2271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ea typeface="ＭＳ Ｐゴシック"/>
                <a:hlinkClick r:id="rId1"/>
              </a:rPr>
              <a:t>http://indico.rnp.br/conferenceDisplay.py?ovw=True&amp;confId=17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raft agenda to be added shortly - suggestions welcom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317600"/>
            <a:ext cx="822960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Lead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TAGPMA Memb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 Infrastruc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Conference Ca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meeting is TAGPMA 18 (IGTF All Hand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wor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6B95F-DF99-44C8-82C8-1DB195805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317600"/>
            <a:ext cx="82296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ir: Derek Simmel (PS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simmel@psc.ed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ce Chair: Scott Rea (DigiCert + REBC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cott@DigiCert.c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y: Ale Stolk (ULAGri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stolk@ula.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115AC-1C0D-47D6-98DA-4003409BA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39680" y="1143000"/>
          <a:ext cx="7067520" cy="545472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60720"/>
                <a:gridCol w="1584000"/>
              </a:tblGrid>
              <a:tr h="3175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106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317600"/>
            <a:ext cx="82296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5 Members from North, Central and South Americ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vering Canada, US, Mexico, Venezuela, Chile, Peru, Argentina, Brazil, Colombia and Panam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 Classic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OE Grid accredited by EUGridP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7 SL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x 3, FermiLab, NERSC, PSC, NICS UTK -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– US and CILogon –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E7BDC-C5A5-42EC-91AA-DE4E2D3D4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317600"/>
            <a:ext cx="82296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Classic pending (SENAMHI – Peru, InCommon – U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 pending (SDSC, NCAR – U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CA (Comodo for low-cost host cert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7 Relying Part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CIDETYS/UTP, FNAL, LCG, OSG, REBCA, redCLARA, XSE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voted in as new prospective AP memb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GF has expressed interest in membersh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est expressed (again) by Ecuador and Costa Rica in becoming AP memb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9FA83-EE32-4AE3-AFD7-77D2B710A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7200" y="13176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static, public information &amp;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verhaul still way overdue </a:t>
            </a:r>
            <a:r>
              <a:rPr b="0" lang="en-US" sz="20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in-process TAGPMA documents, notes, tutorials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ains agenda and minutes from monthly m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-mail any issues direct to the Chair (dsimmel@psc.edu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076FF-E3FA-49A3-A1DF-A4B0372B2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317600"/>
            <a:ext cx="82296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will be September 11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74F4C-CC49-4AA4-8829-70C3EC57D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1317600"/>
            <a:ext cx="8229600" cy="58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984B7-D140-4882-BA65-355E52AAF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58840" y="1371600"/>
            <a:ext cx="8496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Updated MICS profile to (v.1.3) add the following statement in Section 3.1 </a:t>
            </a: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Identity vetting rules for the primary identity management system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"On the Kantara Initiative Identity Assurance Framework Levels of Assurance scale [Kantara2010], Assurance Level 2 and higher are considered sufficient for MICS PKI identity vetting."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with the referenc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Kantara2010]  Glade, B. (Ed.). “Identity Assurance Framework: Assurance Levels” Version 2.0 24 April 2010. Kantara Initiative. http://kantarainitiative.org/confluence/download/attachments/41649275/Kantara+IAF-1200-Levels+of+Assurance.pd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9-09T02:42:02Z</dcterms:modified>
  <cp:revision>23</cp:revision>
  <dc:subject/>
  <dc:title>PowerPoint Presentation</dc:title>
</cp:coreProperties>
</file>