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0.png" ContentType="image/png"/>
  <Override PartName="/ppt/media/image12.png" ContentType="image/png"/>
  <Override PartName="/ppt/media/image1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9.wmf" ContentType="image/x-wmf"/>
  <Override PartName="/ppt/media/image14.png" ContentType="image/png"/>
  <Override PartName="/ppt/media/image6.png" ContentType="image/png"/>
  <Override PartName="/ppt/media/image7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47F3-0368-4449-8D7C-F343FF34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1891-E7F1-41F9-A77A-C7D3D65D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52BB-9D45-4C50-B238-96861F53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259F-D96B-4EF8-8697-1113EDFD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9803-B8CE-4089-9770-95138A62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E96E-25D9-44B0-8971-F158672A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287F-6B71-47EA-8291-C9A9AB90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5210-B4A2-49EA-B1CE-0120DB09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C2E1-A6E6-4490-A8E3-542D33EE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F071-2B5D-4BE1-BC16-589F76DA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4CB1-B5EC-49FE-9CCB-34528EC1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EF4C-74B5-40FA-AC60-9A926B9C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29BB-81B3-4879-ADCC-FFB6D70A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E906-D8E1-4BC8-936D-3B5A2E7C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8FFC-05FA-4F8F-AF09-24C02FDF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27A3-AF04-464A-A9A0-EBEDF8DC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E2CF1-0841-423F-99B8-7950838A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6349-53CC-4E6A-8FD7-9A3F42AC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3B421-B5B7-4DA5-8370-919D63E7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CC809-EBB5-4DAF-B06D-BE42EE1D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BE3D6-6D36-449E-ACF9-7630D3F5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D9E68-51EA-44E1-93AC-E90B6F37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E42CA-5C56-4C3D-B3CE-5C3231D4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C1D9C-484A-4E4D-AE88-57A824EB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0105E-3512-45AA-8DEB-CEF737B8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46955-E536-4664-95EE-D35A752A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2CA8D-90DC-4730-9A14-58111210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70375-112E-42D7-A23B-7D25588B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4705-E345-4291-A6EB-6C62E1D4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FFCA1-B65B-4477-937E-2672EE0F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10FAA-C34C-41F9-90D7-552716C1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ED4D5-495B-422F-A295-60C28AAB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4F666-7613-41FA-A5E7-32982DE6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DE421-1614-4489-91AD-7CDC36E1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20A6A-F894-40A4-A9E5-5CA3EC65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53083-FAF4-4070-B996-0FE2C9DC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51D8D-C7F0-4B94-B67A-BE8B5AE5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161CB-D0C2-41FA-8DA6-44C2474C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16909-7985-4968-B1E3-436292F5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9BCF-FF4B-4449-BC24-56D5C7BD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426C4-7D3E-4031-AD5C-8D9459EF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96D89-ED9E-4490-8CD6-3341CFA1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B6DF9-ACDA-4388-ACDC-A3328238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A1F1-8A9F-4436-ACA2-00DEF14F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292-FBA2-4456-87F7-FF614DD2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212F-153B-4FBA-ABA3-01F472B5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44DD-7AD0-453F-AF4F-62C5E216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88CA-3086-4E89-90A6-1C6A69AB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6BF151D9-90E2-447E-ACEF-F79A3E9B3E5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2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7E4C9A18-7C38-4F68-ACE5-9483FA3BC71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162A974C-E054-4818-AEDB-31D99A5D5B9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7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71B9179A-38C5-4D0A-ACC3-190F1FF7F88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6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6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055D0F9A-6F68-4AAB-9C6B-3291F73EEBA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6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60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61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00BDEB08-7DF6-4985-9737-46DFC8DAF43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1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grpSp>
        <p:nvGrpSpPr>
          <p:cNvPr id="616" name="Group 21"/>
          <p:cNvGrpSpPr/>
          <p:nvPr/>
        </p:nvGrpSpPr>
        <p:grpSpPr>
          <a:xfrm>
            <a:off x="0" y="0"/>
            <a:ext cx="9215280" cy="1081080"/>
            <a:chOff x="0" y="0"/>
            <a:chExt cx="9215280" cy="1081080"/>
          </a:xfrm>
        </p:grpSpPr>
        <p:sp>
          <p:nvSpPr>
            <p:cNvPr id="617" name="Rectangle 13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8" name="Picture 14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73484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Rectangle 15"/>
            <p:cNvSpPr/>
            <p:nvPr/>
          </p:nvSpPr>
          <p:spPr>
            <a:xfrm>
              <a:off x="1619280" y="0"/>
              <a:ext cx="1800000" cy="97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6"/>
            <p:cNvSpPr/>
            <p:nvPr/>
          </p:nvSpPr>
          <p:spPr>
            <a:xfrm>
              <a:off x="1619280" y="0"/>
              <a:ext cx="1800000" cy="97956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12"/>
            <p:cNvSpPr/>
            <p:nvPr/>
          </p:nvSpPr>
          <p:spPr>
            <a:xfrm>
              <a:off x="2050920" y="503280"/>
              <a:ext cx="7164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GI (IGTF Liaison Function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13-04-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owards differentiated collaborative Lo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6"/>
          </p:nvPr>
        </p:nvSpPr>
        <p:spPr>
          <a:xfrm>
            <a:off x="6975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BB78-C454-4F2F-BC88-8FAB22048290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665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6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1" descr=""/>
          <p:cNvPicPr/>
          <p:nvPr/>
        </p:nvPicPr>
        <p:blipFill>
          <a:blip r:embed="rId3"/>
          <a:stretch/>
        </p:blipFill>
        <p:spPr>
          <a:xfrm>
            <a:off x="0" y="685800"/>
            <a:ext cx="1447920" cy="579420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21"/>
          <p:cNvGrpSpPr/>
          <p:nvPr/>
        </p:nvGrpSpPr>
        <p:grpSpPr>
          <a:xfrm>
            <a:off x="0" y="0"/>
            <a:ext cx="9215280" cy="1081080"/>
            <a:chOff x="0" y="0"/>
            <a:chExt cx="9215280" cy="1081080"/>
          </a:xfrm>
        </p:grpSpPr>
        <p:sp>
          <p:nvSpPr>
            <p:cNvPr id="674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5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73484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Rectangle 6"/>
            <p:cNvSpPr/>
            <p:nvPr/>
          </p:nvSpPr>
          <p:spPr>
            <a:xfrm>
              <a:off x="1619280" y="0"/>
              <a:ext cx="1800000" cy="97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7"/>
            <p:cNvSpPr/>
            <p:nvPr/>
          </p:nvSpPr>
          <p:spPr>
            <a:xfrm>
              <a:off x="1619280" y="0"/>
              <a:ext cx="1800000" cy="97956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12"/>
            <p:cNvSpPr/>
            <p:nvPr/>
          </p:nvSpPr>
          <p:spPr>
            <a:xfrm>
              <a:off x="1258560" y="0"/>
              <a:ext cx="79567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GI.eu</a:t>
              </a:r>
              <a:br>
                <a:rPr sz="3200"/>
              </a:b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uropean Grid Infrastructu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9" name="Picture 3" descr=""/>
          <p:cNvPicPr/>
          <p:nvPr/>
        </p:nvPicPr>
        <p:blipFill>
          <a:blip r:embed="rId5"/>
          <a:stretch/>
        </p:blipFill>
        <p:spPr>
          <a:xfrm>
            <a:off x="8244000" y="5713560"/>
            <a:ext cx="780840" cy="5238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"/>
          <p:cNvPicPr/>
          <p:nvPr/>
        </p:nvPicPr>
        <p:blipFill>
          <a:blip r:embed="rId6"/>
          <a:stretch/>
        </p:blipFill>
        <p:spPr>
          <a:xfrm>
            <a:off x="6516720" y="5640480"/>
            <a:ext cx="1447920" cy="58896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7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8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9"/>
          </p:nvPr>
        </p:nvSpPr>
        <p:spPr>
          <a:xfrm>
            <a:off x="6975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EE6E-2739-4565-8AED-420B2634AC9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726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7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10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11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sldNum" idx="12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33AC-F7DF-4835-801A-F72211EFAE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49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1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2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3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C7E4-ED92-4479-BD05-228FF815EC2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156F7936-EE80-4E85-A4B9-DD41AE3D111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BE00F9D2-B569-447D-AFCE-BE12DF51A96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6A67A218-C650-4B29-B84B-568E11447E9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8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9E9A3ACB-1CBF-4D75-AAD6-4E9B6AEF94B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EF9AEBE6-0351-4F29-BAFA-02F0923CD7B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3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3" name="Straight Connector 1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DD0A7E65-95E5-46C3-8300-20D4865AB4A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321768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IOTA AP</a:t>
            </a:r>
            <a:br>
              <a:rPr sz="4000"/>
            </a:b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Towards Differentiated </a:t>
            </a:r>
            <a:br>
              <a:rPr sz="4000"/>
            </a:b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Identity Assurance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4" name="TextBox 1"/>
          <p:cNvSpPr/>
          <p:nvPr/>
        </p:nvSpPr>
        <p:spPr>
          <a:xfrm>
            <a:off x="108000" y="595008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vid Groep, Nikhef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ed by the Netherlands e-Infrastructur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SURFs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8" descr="H:\Home\davidg\Template\Logos\NIKHEF.wmf"/>
          <p:cNvPicPr/>
          <p:nvPr/>
        </p:nvPicPr>
        <p:blipFill>
          <a:blip r:embed="rId1"/>
          <a:stretch/>
        </p:blipFill>
        <p:spPr>
          <a:xfrm>
            <a:off x="6265800" y="5985000"/>
            <a:ext cx="1258920" cy="5554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12" descr="H:\Home\davidg\EUGridPMA\IGTF\IGTF-logos\IGTF-logo-full.wmf"/>
          <p:cNvPicPr/>
          <p:nvPr/>
        </p:nvPicPr>
        <p:blipFill>
          <a:blip r:embed="rId2"/>
          <a:stretch/>
        </p:blipFill>
        <p:spPr>
          <a:xfrm>
            <a:off x="7713720" y="57240"/>
            <a:ext cx="1338120" cy="61920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13" descr="H:\Home\davidg\EUGridPMA\Meetings\2013-04-TAGPMA-Boulder\8F587723-C9D8-48EF-8C07-EE3053C0EF70[5].png"/>
          <p:cNvPicPr/>
          <p:nvPr/>
        </p:nvPicPr>
        <p:blipFill>
          <a:blip r:embed="rId3"/>
          <a:stretch/>
        </p:blipFill>
        <p:spPr>
          <a:xfrm>
            <a:off x="7667640" y="6024600"/>
            <a:ext cx="1276200" cy="476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Technical trust remain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611280" y="14130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loosing technical trust would make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any authentication infrastructure useless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so integrity of the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issuer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 has to be retained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just like for the AA Operations Guidelin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imilar to the classic, mics and slcs profil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both issuing system and ID management secur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retention of records for incident respons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Arial"/>
              </a:rPr>
              <a:t>When contracting back-end (university) IdPs</a:t>
            </a:r>
            <a:br>
              <a:rPr sz="2800"/>
            </a:b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Arial"/>
              </a:rPr>
              <a:t>the requirements must apply to them as well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LIGHT-WEIGHT IDENTITY VETTING ENVIRONMENT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The Profi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Box 5"/>
          <p:cNvSpPr/>
          <p:nvPr/>
        </p:nvSpPr>
        <p:spPr>
          <a:xfrm rot="19619400">
            <a:off x="1428120" y="2327040"/>
            <a:ext cx="72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a5a5e9"/>
                </a:solidFill>
                <a:latin typeface="Arial"/>
              </a:rPr>
              <a:t>DRAFT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LIVE AP Identit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611280" y="1125000"/>
            <a:ext cx="8075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Persistency of name bind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any single subject name in a credential must be linked with one and only one entity for the whole lifetime of the servic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Nam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name elements […] sufficient to uniquely identify individua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sourced from ‘reasonable’ system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real name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or pseudonym with compensatory controls: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only in conjunction w/verified name element allowing </a:t>
            </a:r>
            <a:br>
              <a:rPr sz="2000"/>
            </a:b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contact to subject -- and the pseudonymity should be ‘obvious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Re-issuance, renewal and re-key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authority should keep enough data to re-vet use of nam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racability requiremen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t issuance tim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 the authority should identify user, and that relationship should be documented and verifiab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40" name="Picture 2" descr="H:\Home\davidg\EUGridPMA\eugridpma-color-small.png"/>
          <p:cNvPicPr/>
          <p:nvPr/>
        </p:nvPicPr>
        <p:blipFill>
          <a:blip r:embed="rId1"/>
          <a:stretch/>
        </p:blipFill>
        <p:spPr>
          <a:xfrm>
            <a:off x="7956720" y="334800"/>
            <a:ext cx="952200" cy="40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Box 7"/>
          <p:cNvSpPr/>
          <p:nvPr/>
        </p:nvSpPr>
        <p:spPr>
          <a:xfrm rot="19619400">
            <a:off x="1428120" y="2327040"/>
            <a:ext cx="72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a5a5e9"/>
                </a:solidFill>
                <a:latin typeface="Arial"/>
              </a:rPr>
              <a:t>DRAFT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LIVE AP Technical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We expect a secure, on-line CA syste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Long-term commitment, security controls and trained personne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With FIPS140-2 level 3 or equivalent HDM controlling ke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2+ tier system on monitored controlled network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revocation capabl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so at least better than ssh ;-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Documented, transparent, policy and practic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cluding provisions for auditing by pe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  <a:ea typeface="Arial"/>
              </a:rPr>
              <a:t>Some requirements propagate back to upstream IdPs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redentials in common recognisable forma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itially X.509v3 certificates, but profile is mostly generic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44" name="Picture 2" descr="H:\Home\davidg\EUGridPMA\eugridpma-color-small.png"/>
          <p:cNvPicPr/>
          <p:nvPr/>
        </p:nvPicPr>
        <p:blipFill>
          <a:blip r:embed="rId1"/>
          <a:stretch/>
        </p:blipFill>
        <p:spPr>
          <a:xfrm>
            <a:off x="7956720" y="334800"/>
            <a:ext cx="952200" cy="40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http://wiki.eugridpma.org/Main/LiveAPSecuredInfra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1"/>
          <a:stretch/>
        </p:blipFill>
        <p:spPr>
          <a:xfrm>
            <a:off x="0" y="1163520"/>
            <a:ext cx="9144000" cy="4719600"/>
          </a:xfrm>
          <a:prstGeom prst="rect">
            <a:avLst/>
          </a:prstGeom>
          <a:ln w="0">
            <a:noFill/>
          </a:ln>
        </p:spPr>
      </p:pic>
      <p:sp>
        <p:nvSpPr>
          <p:cNvPr id="847" name="TextBox 3"/>
          <p:cNvSpPr/>
          <p:nvPr/>
        </p:nvSpPr>
        <p:spPr>
          <a:xfrm rot="19619400">
            <a:off x="1409400" y="2334240"/>
            <a:ext cx="72439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7878de"/>
                </a:solidFill>
                <a:latin typeface="Arial"/>
              </a:rPr>
              <a:t>DRAFT</a:t>
            </a:r>
            <a:br>
              <a:rPr sz="14400"/>
            </a:br>
            <a:r>
              <a:rPr b="0" lang="en-GB" sz="4400" spc="-1" strike="noStrike">
                <a:solidFill>
                  <a:srgbClr val="7878de"/>
                </a:solidFill>
                <a:latin typeface="Arial"/>
              </a:rPr>
              <a:t>wil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New Authentication Profil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e AP currently being drafted on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ttps://wiki.eugridpma.org/Main/LiveAPSecuredInfr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atisfy RP requirements (PRACE, XSEDE) –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nd aim to get SARoNGS and CI Logon Basic includ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any things to be decided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eed for HSM FIPS 140-2 level 3 or 2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What audit requirements needed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Real or pseudonymous naming? Robots or not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Distribution would be through separate ‘bundle’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ext to ‘classic’, ‘mics’, ‘slcs’, and ‘experimental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ote there never was an ‘all’ bundle for this very reas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RPs will have to make an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explicit choice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to accept thi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50" name="Picture 2" descr="H:\Home\davidg\EUGridPMA\IGTF\IGTF-logos\IGTF-logo-mini.wmf"/>
          <p:cNvPicPr/>
          <p:nvPr/>
        </p:nvPicPr>
        <p:blipFill>
          <a:blip r:embed="rId1"/>
          <a:stretch/>
        </p:blipFill>
        <p:spPr>
          <a:xfrm>
            <a:off x="8101080" y="369720"/>
            <a:ext cx="736560" cy="389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Outlin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ntroduction and retro-active rational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Assurance level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GTF ‘common criteria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Current AP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Towards collaborative differentiated LoA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Distributing elements of trust decisi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Use cases for the LiveAP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OTA AP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Light-weight Identity Vetting Environment: towards LoA 1+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Limitations of a ‘IOTA AP’ and new LoA level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0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Redistributing responsibi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3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6"/>
          <p:cNvSpPr/>
          <p:nvPr/>
        </p:nvSpPr>
        <p:spPr>
          <a:xfrm>
            <a:off x="108000" y="1093680"/>
            <a:ext cx="4680000" cy="24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Subject (ID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ffecti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oA is re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given actions, resources, and acceptable residual risk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ed ID assurance is a 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n shift ‘line’ in identity trus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7"/>
          <p:cNvSpPr/>
          <p:nvPr/>
        </p:nvSpPr>
        <p:spPr>
          <a:xfrm>
            <a:off x="4932360" y="2313000"/>
            <a:ext cx="3959280" cy="210600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Action (app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constraint actions ca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er need for identity L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J)SPG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VO Portal polic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d just that: 4 levels of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8"/>
          <p:cNvSpPr/>
          <p:nvPr/>
        </p:nvSpPr>
        <p:spPr>
          <a:xfrm>
            <a:off x="684360" y="4581360"/>
            <a:ext cx="8207280" cy="149616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Resource (value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access to wireless network does not pose huge risk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can live with a lower identity LoA (eduro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2" descr="H:\Home\davidg\EUGridPMA\IGTF\IGTF-logos\IGTF-logo-mini.wmf"/>
          <p:cNvPicPr/>
          <p:nvPr/>
        </p:nvPicPr>
        <p:blipFill>
          <a:blip r:embed="rId1"/>
          <a:stretch/>
        </p:blipFill>
        <p:spPr>
          <a:xfrm>
            <a:off x="3832200" y="1190520"/>
            <a:ext cx="593640" cy="312840"/>
          </a:xfrm>
          <a:prstGeom prst="rect">
            <a:avLst/>
          </a:prstGeom>
          <a:ln w="0">
            <a:noFill/>
          </a:ln>
        </p:spPr>
      </p:pic>
      <p:sp>
        <p:nvSpPr>
          <p:cNvPr id="789" name="TextBox 16"/>
          <p:cNvSpPr/>
          <p:nvPr/>
        </p:nvSpPr>
        <p:spPr>
          <a:xfrm>
            <a:off x="5148360" y="1093680"/>
            <a:ext cx="37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policy eco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00000"/>
                </a:solidFill>
                <a:latin typeface="Arial"/>
              </a:rPr>
              <a:t>commensurate to risk level</a:t>
            </a:r>
            <a:br>
              <a:rPr sz="2000"/>
            </a:br>
            <a:r>
              <a:rPr b="0" i="1" lang="en-GB" sz="2000" spc="-1" strike="noStrike">
                <a:solidFill>
                  <a:srgbClr val="c00000"/>
                </a:solidFill>
                <a:latin typeface="Arial"/>
              </a:rPr>
              <a:t>of the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Trust Element Distribution (Classic, MICS)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7"/>
          <p:cNvSpPr/>
          <p:nvPr/>
        </p:nvSpPr>
        <p:spPr>
          <a:xfrm>
            <a:off x="250920" y="1093680"/>
            <a:ext cx="4249800" cy="41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Technic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ity of the roots of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ity of issuanc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 incid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ocation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dential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id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9"/>
          <p:cNvSpPr/>
          <p:nvPr/>
        </p:nvSpPr>
        <p:spPr>
          <a:xfrm>
            <a:off x="4653000" y="1093680"/>
            <a:ext cx="4248000" cy="463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Identity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i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-binding and rev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nding to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ceability of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ergency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ular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’ attribute asse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relating ident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0"/>
          <p:cNvSpPr/>
          <p:nvPr/>
        </p:nvSpPr>
        <p:spPr>
          <a:xfrm>
            <a:off x="250920" y="5877000"/>
            <a:ext cx="865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Verifiability &amp; Response, mitigation,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traight Connector 12"/>
          <p:cNvSpPr/>
          <p:nvPr/>
        </p:nvSpPr>
        <p:spPr>
          <a:xfrm>
            <a:off x="4932360" y="4076640"/>
            <a:ext cx="3743280" cy="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traight Connector 13"/>
          <p:cNvSpPr/>
          <p:nvPr/>
        </p:nvSpPr>
        <p:spPr>
          <a:xfrm>
            <a:off x="503280" y="3645000"/>
            <a:ext cx="3744720" cy="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1"/>
          <p:cNvSpPr/>
          <p:nvPr/>
        </p:nvSpPr>
        <p:spPr>
          <a:xfrm rot="16200000">
            <a:off x="3691440" y="2686680"/>
            <a:ext cx="17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00000"/>
                </a:solidFill>
                <a:latin typeface="Arial"/>
              </a:rPr>
              <a:t>IGTF Classic 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10"/>
          <p:cNvSpPr/>
          <p:nvPr/>
        </p:nvSpPr>
        <p:spPr>
          <a:xfrm rot="16200000">
            <a:off x="3617640" y="4818960"/>
            <a:ext cx="191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060"/>
                </a:solidFill>
                <a:latin typeface="Arial"/>
              </a:rPr>
              <a:t>RP, Community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  <a:ea typeface="Arial"/>
              </a:rPr>
              <a:t>Collaborative assurance?</a:t>
            </a:r>
            <a:endParaRPr b="1" lang="en-US" sz="36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838080" y="1295280"/>
            <a:ext cx="82965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PRACE T1 (“DEISA”) centr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Users run applications across the infrastructur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ll originate from a home site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inside 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infrastructure where they are fully known personally and have gone through a thorough vetting proces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me site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distributes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this knowledge actively towards the other centres (through a central LDAP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So some of the </a:t>
            </a:r>
            <a:r>
              <a:rPr b="0" i="1" lang="en-GB" sz="2000" spc="-1" strike="noStrike">
                <a:solidFill>
                  <a:srgbClr val="c00000"/>
                </a:solidFill>
                <a:latin typeface="Lucida Sans"/>
              </a:rPr>
              <a:t>identity elements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 of trust already don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XSEDE might be similar?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ven wLCG is somewhat similar … through CERN HR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2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5"/>
          <p:cNvSpPr/>
          <p:nvPr/>
        </p:nvSpPr>
        <p:spPr>
          <a:xfrm>
            <a:off x="1220760" y="104472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c00000"/>
                </a:solidFill>
                <a:latin typeface="Arial"/>
              </a:rPr>
              <a:t>I’m hopefully not misrepresenting Jules Wolfrat for PRACE her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Down Arrow 1"/>
          <p:cNvSpPr/>
          <p:nvPr/>
        </p:nvSpPr>
        <p:spPr>
          <a:xfrm>
            <a:off x="3780000" y="5300640"/>
            <a:ext cx="2016000" cy="289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3"/>
          <p:cNvSpPr/>
          <p:nvPr/>
        </p:nvSpPr>
        <p:spPr>
          <a:xfrm>
            <a:off x="1477080" y="570384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istribution of  responsibilities: a new prof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Light-weight ID vetting environment A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Cater for those use cases wher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RPs (VOs) already collect identity dat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is RP (VO) data is authoritative and provides traceabilit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‘identity’ component of the credential is not us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rough an AP where the authority provides on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persistent, non-reused identifi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raceability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only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at time of issuanc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aming be real or pseudonymous (discussion on going!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good security for issuance processes and system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nd where the RP will have to take care of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ubscribers changing name often (in case traceability at issuing authority is los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ll ‘named’ identity vetting, naming and contact detail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07720" y="151920"/>
            <a:ext cx="89010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00000"/>
                </a:solidFill>
                <a:latin typeface="Lucida Sans"/>
              </a:rPr>
              <a:t>‘</a:t>
            </a:r>
            <a:r>
              <a:rPr b="1" lang="en-GB" sz="3000" spc="-1" strike="noStrike">
                <a:solidFill>
                  <a:srgbClr val="c00000"/>
                </a:solidFill>
                <a:latin typeface="Lucida Sans"/>
              </a:rPr>
              <a:t>Light-weight Identity Vetting Environment’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611280" y="1196640"/>
            <a:ext cx="80755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s seen from the IdP/authority sid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ust be complemented by the RP 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o profile full vetting and integrit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cxnSp>
        <p:nvCxnSpPr>
          <p:cNvPr id="811" name="Straight Arrow Connector 6"/>
          <p:cNvCxnSpPr/>
          <p:nvPr/>
        </p:nvCxnSpPr>
        <p:spPr>
          <a:xfrm>
            <a:off x="1414080" y="3565440"/>
            <a:ext cx="1080" cy="26647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headEnd len="med" type="stealth" w="lg"/>
            <a:tailEnd len="med" type="oval" w="med"/>
          </a:ln>
        </p:spPr>
      </p:cxnSp>
      <p:sp>
        <p:nvSpPr>
          <p:cNvPr id="812" name="TextBox 7"/>
          <p:cNvSpPr/>
          <p:nvPr/>
        </p:nvSpPr>
        <p:spPr>
          <a:xfrm>
            <a:off x="539640" y="4305240"/>
            <a:ext cx="8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tt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A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Callout 1 (Accent Bar) 10"/>
          <p:cNvSpPr/>
          <p:nvPr/>
        </p:nvSpPr>
        <p:spPr>
          <a:xfrm>
            <a:off x="3143160" y="5929200"/>
            <a:ext cx="5100840" cy="4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804" y="82363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2f2f2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LoA 0: ‘like conventional unsigned email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Line Callout 1 (Accent Bar) 11" descr=""/>
          <p:cNvPicPr/>
          <p:nvPr/>
        </p:nvPicPr>
        <p:blipFill>
          <a:blip r:embed="rId1"/>
          <a:stretch/>
        </p:blipFill>
        <p:spPr>
          <a:xfrm>
            <a:off x="1719360" y="5425920"/>
            <a:ext cx="6522840" cy="451080"/>
          </a:xfrm>
          <a:prstGeom prst="rect">
            <a:avLst/>
          </a:prstGeom>
          <a:ln w="0">
            <a:noFill/>
          </a:ln>
        </p:spPr>
      </p:pic>
      <p:pic>
        <p:nvPicPr>
          <p:cNvPr id="815" name="Line Callout 1 (Accent Bar) 12" descr=""/>
          <p:cNvPicPr/>
          <p:nvPr/>
        </p:nvPicPr>
        <p:blipFill>
          <a:blip r:embed="rId2"/>
          <a:stretch/>
        </p:blipFill>
        <p:spPr>
          <a:xfrm>
            <a:off x="1652760" y="4900680"/>
            <a:ext cx="7253280" cy="585720"/>
          </a:xfrm>
          <a:prstGeom prst="rect">
            <a:avLst/>
          </a:prstGeom>
          <a:ln w="0">
            <a:noFill/>
          </a:ln>
        </p:spPr>
      </p:pic>
      <p:pic>
        <p:nvPicPr>
          <p:cNvPr id="816" name="Line Callout 1 (Accent Bar) 13" descr=""/>
          <p:cNvPicPr/>
          <p:nvPr/>
        </p:nvPicPr>
        <p:blipFill>
          <a:blip r:embed="rId3"/>
          <a:stretch/>
        </p:blipFill>
        <p:spPr>
          <a:xfrm>
            <a:off x="1663560" y="4346640"/>
            <a:ext cx="7559640" cy="506520"/>
          </a:xfrm>
          <a:prstGeom prst="rect">
            <a:avLst/>
          </a:prstGeom>
          <a:ln w="0">
            <a:noFill/>
          </a:ln>
        </p:spPr>
      </p:pic>
      <p:pic>
        <p:nvPicPr>
          <p:cNvPr id="817" name="Line Callout 1 (Accent Bar) 14" descr=""/>
          <p:cNvPicPr/>
          <p:nvPr/>
        </p:nvPicPr>
        <p:blipFill>
          <a:blip r:embed="rId4"/>
          <a:stretch/>
        </p:blipFill>
        <p:spPr>
          <a:xfrm>
            <a:off x="1652760" y="3943440"/>
            <a:ext cx="7607160" cy="585720"/>
          </a:xfrm>
          <a:prstGeom prst="rect">
            <a:avLst/>
          </a:prstGeom>
          <a:ln w="0">
            <a:noFill/>
          </a:ln>
        </p:spPr>
      </p:pic>
      <p:pic>
        <p:nvPicPr>
          <p:cNvPr id="818" name="Line Callout 1 (Accent Bar) 15" descr=""/>
          <p:cNvPicPr/>
          <p:nvPr/>
        </p:nvPicPr>
        <p:blipFill>
          <a:blip r:embed="rId5"/>
          <a:stretch/>
        </p:blipFill>
        <p:spPr>
          <a:xfrm>
            <a:off x="1700280" y="3389400"/>
            <a:ext cx="6462720" cy="585720"/>
          </a:xfrm>
          <a:prstGeom prst="rect">
            <a:avLst/>
          </a:prstGeom>
          <a:ln w="0">
            <a:noFill/>
          </a:ln>
        </p:spPr>
      </p:pic>
      <p:sp>
        <p:nvSpPr>
          <p:cNvPr id="819" name="TextBox 8"/>
          <p:cNvSpPr/>
          <p:nvPr/>
        </p:nvSpPr>
        <p:spPr>
          <a:xfrm>
            <a:off x="5040" y="5478480"/>
            <a:ext cx="106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somewha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 person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ew …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rry for 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16"/>
          <p:cNvSpPr/>
          <p:nvPr/>
        </p:nvSpPr>
        <p:spPr>
          <a:xfrm>
            <a:off x="1104480" y="546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17"/>
          <p:cNvSpPr/>
          <p:nvPr/>
        </p:nvSpPr>
        <p:spPr>
          <a:xfrm>
            <a:off x="1093320" y="379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18"/>
          <p:cNvSpPr/>
          <p:nvPr/>
        </p:nvSpPr>
        <p:spPr>
          <a:xfrm>
            <a:off x="639360" y="3195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3" name="Straight Arrow Connector 3"/>
          <p:cNvCxnSpPr/>
          <p:nvPr/>
        </p:nvCxnSpPr>
        <p:spPr>
          <a:xfrm>
            <a:off x="1692000" y="4397400"/>
            <a:ext cx="108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24" name="TextBox 4"/>
          <p:cNvSpPr/>
          <p:nvPr/>
        </p:nvSpPr>
        <p:spPr>
          <a:xfrm>
            <a:off x="1692360" y="44928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P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From IGTF to R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IGTF Distribution is </a:t>
            </a:r>
            <a:r>
              <a:rPr b="0" i="1" lang="en-GB" sz="2800" spc="-1" strike="noStrike">
                <a:solidFill>
                  <a:srgbClr val="000066"/>
                </a:solidFill>
                <a:latin typeface="Lucida Sans"/>
              </a:rPr>
              <a:t>not monolithic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uthorities comes in ‘bundles’ for each profil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RPs select one or more ‘profiles’ as sufficient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nd may add their own authorities as wel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.g: “EGI policy on trusted authorities” accepts Classic, MICS and  SLC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And there is no ‘IGTF all’ distribution – </a:t>
            </a:r>
            <a:r>
              <a:rPr b="0" i="1" lang="en-GB" sz="2400" spc="-1" strike="noStrike">
                <a:solidFill>
                  <a:srgbClr val="c00000"/>
                </a:solidFill>
                <a:latin typeface="Lucida Sans"/>
              </a:rPr>
              <a:t>on purpose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With more diverse profiles (and LoAs)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RPs will make </a:t>
            </a:r>
            <a:r>
              <a:rPr b="0" lang="en-GB" sz="2800" spc="-1" strike="noStrike">
                <a:solidFill>
                  <a:srgbClr val="c00000"/>
                </a:solidFill>
                <a:latin typeface="Lucida Sans"/>
              </a:rPr>
              <a:t>more diverse choices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7" name="TextBox 5"/>
          <p:cNvSpPr/>
          <p:nvPr/>
        </p:nvSpPr>
        <p:spPr>
          <a:xfrm>
            <a:off x="8640" y="6070680"/>
            <a:ext cx="776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00000"/>
                </a:solidFill>
                <a:latin typeface="Arial"/>
              </a:rPr>
              <a:t>For your interest: EGI SPG policy on Approval of Certification Authorities, https://documents.egi.eu/document/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  <a:ea typeface="Arial"/>
              </a:rPr>
              <a:t>LiveAP and its Caveats</a:t>
            </a:r>
            <a:endParaRPr b="1" lang="en-US" sz="36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611280" y="11970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Live AP assurance level </a:t>
            </a:r>
            <a:r>
              <a:rPr b="0" i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is</a:t>
            </a: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different, and rest </a:t>
            </a:r>
            <a:br>
              <a:rPr sz="2400"/>
            </a:br>
            <a:r>
              <a:rPr b="0" i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must</a:t>
            </a: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be taken up by somebody els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  <a:ea typeface="Arial"/>
              </a:rPr>
              <a:t>But e.g. in EGI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many communities rely on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names to enrol peop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communities do not keep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much of auditable record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users are a-priori unknown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to the resource own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RPs support loosely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organised communiti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RPs thus need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dependent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authoritative real nam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0" name="TextBox 5"/>
          <p:cNvSpPr/>
          <p:nvPr/>
        </p:nvSpPr>
        <p:spPr>
          <a:xfrm>
            <a:off x="5651640" y="2173320"/>
            <a:ext cx="3313080" cy="3416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Identity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i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-binding and re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nding to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ceability of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ergency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ular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ch’ attribute asser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lating ident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6"/>
          <p:cNvSpPr/>
          <p:nvPr/>
        </p:nvSpPr>
        <p:spPr>
          <a:xfrm>
            <a:off x="5931000" y="3355920"/>
            <a:ext cx="2919240" cy="0"/>
          </a:xfrm>
          <a:prstGeom prst="line">
            <a:avLst/>
          </a:prstGeom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Curved Right Arrow 3"/>
          <p:cNvSpPr/>
          <p:nvPr/>
        </p:nvSpPr>
        <p:spPr>
          <a:xfrm flipH="1" flipV="1">
            <a:off x="8850240" y="3289320"/>
            <a:ext cx="216000" cy="1154160"/>
          </a:xfrm>
          <a:custGeom>
            <a:avLst/>
            <a:gdLst>
              <a:gd name="textAreaLeft" fmla="*/ 28800 w 216000"/>
              <a:gd name="textAreaRight" fmla="*/ 187200 w 216000"/>
              <a:gd name="textAreaTop" fmla="*/ 268560 h 1154160"/>
              <a:gd name="textAreaBottom" fmla="*/ 859320 h 115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43" stAng="-5400000" swAng="-5400000"/>
                <a:lnTo>
                  <a:pt x="0" y="11053"/>
                </a:lnTo>
                <a:arcTo wR="21600" hR="10043" stAng="10800000" swAng="-3657265"/>
                <a:lnTo>
                  <a:pt x="16200" y="21281"/>
                </a:lnTo>
                <a:lnTo>
                  <a:pt x="21600" y="20590"/>
                </a:lnTo>
                <a:lnTo>
                  <a:pt x="16200" y="19261"/>
                </a:lnTo>
                <a:lnTo>
                  <a:pt x="16200" y="19766"/>
                </a:lnTo>
                <a:arcTo wR="21600" hR="10043" stAng="7142735" swAng="3576805"/>
                <a:lnTo>
                  <a:pt x="27" y="10548"/>
                </a:lnTo>
                <a:arcTo wR="21600" hR="10043" stAng="-10719540" swAng="5319540"/>
                <a:close/>
              </a:path>
              <a:path fill="darkenLess" w="21600" h="21600">
                <a:moveTo>
                  <a:pt x="21600" y="0"/>
                </a:moveTo>
                <a:arcTo wR="21600" hR="10043" stAng="-5400000" swAng="-5400000"/>
                <a:lnTo>
                  <a:pt x="0" y="10043"/>
                </a:lnTo>
                <a:arcTo wR="21600" hR="10043" stAng="10800000" swAng="-80460"/>
                <a:lnTo>
                  <a:pt x="27" y="10548"/>
                </a:lnTo>
                <a:arcTo wR="21600" hR="10043" stAng="-10719540" swAng="531954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9:14:57Z</dcterms:created>
  <dc:creator>davidg</dc:creator>
  <dc:description/>
  <dc:language>en-US</dc:language>
  <cp:lastModifiedBy>davidg</cp:lastModifiedBy>
  <dcterms:modified xsi:type="dcterms:W3CDTF">2013-09-09T08:25:50Z</dcterms:modified>
  <cp:revision>249</cp:revision>
  <dc:subject/>
  <dc:title>Slide 1</dc:title>
</cp:coreProperties>
</file>