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767D0-37FE-4FF8-A4E0-6D86C6BF0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BBDD6-F7F2-4DF7-BB71-1F0D67826F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4DAB7-3354-4571-95D8-19A01502F0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883AE-BD70-46C6-80DB-E952E63D1E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B270C-01B5-4874-8E69-D41F466187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001C-8F3E-4EC7-904E-706C1808C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8AA2-21BB-44F9-B7F2-97258FFDF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A91B-0E30-4CC6-8514-F44EE09D1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E3A3-3AB9-4D33-B1A8-2605CCEC1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B1D2-2692-4A3C-86D3-EA0D974748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F495-29F0-4A1B-A194-A0B66F05F1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EBE2-F7A8-4A85-8D10-6A012B81FC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C560-E5D5-4508-9C0A-08404DAEF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AC32-D054-4502-A4A0-456AC3CFA2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9562-6A20-4759-9C71-33C1F791D4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5FB3-EE82-4CC0-B20F-BF769334E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29A9-616A-4B3D-8D65-424027D07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C1DE9-C5D0-4BD1-AF4D-C86895BD1E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B672-7418-4D9A-92CC-2E5E212F5C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6974-F381-40D8-AC0F-5D8174F5CE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76EC-A49F-4993-8753-A29AE9611F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3FD3-5BE3-46E4-B0BC-E64C05F7D4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31A6-51DB-4C9D-A874-30F7C1CB8D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1724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9200"/>
            <a:ext cx="264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52AD-93F0-4BB3-8831-5B9AB7CC9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0EC0-DFB8-4D1E-83EE-AE5BF3ED4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3120" y="274680"/>
            <a:ext cx="685332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E621-0228-46EA-9758-690EB840A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B9C8-DACA-4F28-A26B-8C5996D92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920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3669-1F0F-4FF6-BCBB-6CE0F8ED4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17240"/>
            <a:ext cx="401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0933-4F86-43D1-A394-CF98F0F10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2881E-90A3-4D93-B92B-3DDAD4261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1" name="Group 7"/>
          <p:cNvGrpSpPr/>
          <p:nvPr/>
        </p:nvGrpSpPr>
        <p:grpSpPr>
          <a:xfrm>
            <a:off x="5403960" y="214200"/>
            <a:ext cx="3527280" cy="1287000"/>
            <a:chOff x="5403960" y="214200"/>
            <a:chExt cx="3527280" cy="1287000"/>
          </a:xfrm>
        </p:grpSpPr>
        <p:sp>
          <p:nvSpPr>
            <p:cNvPr id="42" name="WordArt 5"/>
            <p:cNvSpPr txBox="1"/>
            <p:nvPr/>
          </p:nvSpPr>
          <p:spPr>
            <a:xfrm>
              <a:off x="5457960" y="2142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Text Box 6"/>
            <p:cNvSpPr/>
            <p:nvPr/>
          </p:nvSpPr>
          <p:spPr>
            <a:xfrm>
              <a:off x="5403960" y="8586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02440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5D69B-9602-4D7E-B885-6A9D9AB28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TAGPMA-med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simmel@psc.edu" TargetMode="External"/><Relationship Id="rId2" Type="http://schemas.openxmlformats.org/officeDocument/2006/relationships/hyperlink" Target="mailto:Scott@DigiCer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rek Simm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(with few mods by David Kelsey)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494172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APGridPMA Meeting</a:t>
            </a:r>
            <a:br>
              <a:rPr sz="2600"/>
            </a:br>
            <a:r>
              <a:rPr b="0" lang="en-GB" sz="2600" spc="-1" strike="noStrike">
                <a:solidFill>
                  <a:srgbClr val="008000"/>
                </a:solidFill>
                <a:latin typeface="Calibri"/>
              </a:rPr>
              <a:t>Taipei, Taiw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898989"/>
                </a:solidFill>
                <a:latin typeface="Calibri"/>
              </a:rPr>
              <a:t>March 22,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HA-2 Deployment Timeline discussion</a:t>
            </a:r>
            <a:endParaRPr b="0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AGPMA members voted and di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pprove the SHA-2 timeline as described in David Groep’s e-mail of September 10, 2012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n alternate SHA-2 deployment timeline, addressing TAGPMA concerns, has been developed and is available for review at</a:t>
            </a:r>
            <a:br>
              <a:rPr sz="3200"/>
            </a:b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ttp://tagpma.es.net/wiki/bin/view/Main/SHA2Timelin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 and questions are welcom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69D79-381A-461A-AAC5-38F572DA3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Updat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Lead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ent TAGPMA Membership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Infrastructure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Conference Calls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&amp; 18 (IGTF All Hands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HA-2 Deployment Timeline discussion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A25CB-7213-4761-B90D-E09873FE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Lead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urrent Officer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hair: Derek Simmel (PSC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immel@psc.edu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ice Chair: Scott Rea (DigiCert + REBCA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cott@DigiCert.co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retary: Ale Stolk (ULAGrid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stolk@ula.ve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44DDF-E6D7-41C9-92D5-2979ACF0A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39680" y="1117440"/>
          <a:ext cx="7066080" cy="5389560"/>
        </p:xfrm>
        <a:graphic>
          <a:graphicData uri="http://schemas.openxmlformats.org/drawingml/2006/table">
            <a:tbl>
              <a:tblPr/>
              <a:tblGrid>
                <a:gridCol w="1667160"/>
                <a:gridCol w="1655640"/>
                <a:gridCol w="2158920"/>
                <a:gridCol w="1584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resen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/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C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hiva Murugananth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ger Imp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BDS AN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gio Liet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 Bea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R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reyas Chol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tor Hazlew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 Simm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dra Jaqu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Sak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8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AM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o Huiman Carrasc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od Rebell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jandra Stol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co Martin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N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es Holgu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L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Veno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win Gai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Bas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tt 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Gr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an Sil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2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L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ve Kelse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S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m Marste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DETYS / U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rube Urrio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954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CL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/L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 A. Núñ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6 Members from North, Central and South Amer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overing Canada, US, Mexico, Venezuela, Chile, Peru, Argentina, Brazil, Colombia and Panama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21 IGTF Accredited CA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2 Classic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giCert(2) – US, UFF BrGrid &amp; UFF LACGrid - Brazil, ANSPGrid – Brazil, UNLPGrid - Argentina, REUNA – Chile, ULAGrid – Venezuela, GridCanada, UNAM – Mexico, UNIANDES - Colombia. 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OE Grid accredited by EUGridPM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7 SL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x 3, FermiLabs, NERSC, PSC, NICS UTK -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NCSA – US and CILogon – U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E91E8-5039-40D3-98DB-9EF48E1A1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urrent TAGPMA Membership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TACC retired their membership in TAGPM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CAs should be removed from IGTF &amp; TACAR distributions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4 CA accreditations in-proces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Classic pending (SENAMHI – Peru, InCommon – U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 MICS pending (SDSC, NCAR – US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ommon CA (Comodo for low-cost host cer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8 Relying Partie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FNAL, OSG, XSEDE, THEgrid, LCG, REBCA, CIDETYS/UTP, redCLARA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New members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nCommon voted in as new prospective AP member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GF has expressed interest in membership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E630C-67DF-4BFE-887B-C173DE6D2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Communication Infrastructure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GTF Website http://www.igtf.net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Website http://www.tagpma.org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static, public information &amp; profil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verhaul still way overdue </a:t>
            </a:r>
            <a:r>
              <a:rPr b="0" lang="en-US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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AGPMA twiki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http(s)://tagpma.es.net/wiki 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hosts in-process TAGPMA documents, notes, tutorials etc.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ontains agenda and minutes from monthly meeting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ailing lists tagpma-general, tagpma-private </a:t>
            </a:r>
            <a:endParaRPr b="0" lang="en-US" sz="25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iling lists have been moved over to Google Apps for Education, also enabling Calendar, Docs &amp; Sites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-mail any issues direct to the Chair (dsimmel@psc.edu)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D4E8C-A845-47A8-B928-AA5A3E707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Conference Calls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Regular Video Conference Calls are now Monthly, at 12noon Eastern (US) time on the 2nd Wednesday of each month. 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Next call will be April 10, 2013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Video arrangements: RedCLARA VC Espress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Request for agenda items goes out ~1 week before the next cal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agenda is usually posted on tagpma-general e-mail list no later than 1 day before the meeting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700" spc="-1" strike="noStrike">
                <a:solidFill>
                  <a:srgbClr val="1f497d"/>
                </a:solidFill>
                <a:latin typeface="Calibri"/>
              </a:rPr>
              <a:t>All IGTF members and prospective TAGPMA members are welcome to attend our TAGPMA meetings!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DEE8B-385E-4381-BC71-07AA289FB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3120" y="274680"/>
            <a:ext cx="6853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TAGPMA 17 &amp; 18 (IGTF All Hands)</a:t>
            </a:r>
            <a:endParaRPr b="0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172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7 – Colorado – May 6-8, 2013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osted by the National Center for Atmospheric Research (NCAR, USA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SCI meeting also taking place (7-8 May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Link to registration page is now open at </a:t>
            </a:r>
            <a:r>
              <a:rPr b="0" i="1" lang="en-US" sz="1800" spc="-1" strike="noStrike">
                <a:solidFill>
                  <a:srgbClr val="1f497d"/>
                </a:solidFill>
                <a:latin typeface="Calibri"/>
              </a:rPr>
              <a:t>http://indico.rnp.br/conferenceDisplay.py?ovw=True&amp;confId=161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GPMA 18 – Argentina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dates TBD soon in October ~ November 2013 timeframe - stay tuned for a doodle poll link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AGPMA 18 will be the next IGTF All Hands meeting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024760" y="6356520"/>
            <a:ext cx="662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F35AC-77C1-4910-B8EE-9A039B3BD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4:52:24Z</dcterms:created>
  <dc:creator>Derek Simmel</dc:creator>
  <dc:description/>
  <dc:language>en-US</dc:language>
  <cp:lastModifiedBy>Derek Simmel</cp:lastModifiedBy>
  <cp:lastPrinted>2013-01-14T06:34:15Z</cp:lastPrinted>
  <dcterms:modified xsi:type="dcterms:W3CDTF">2013-03-21T14:23:38Z</dcterms:modified>
  <cp:revision>15</cp:revision>
  <dc:subject/>
  <dc:title>PowerPoint Presentation</dc:title>
</cp:coreProperties>
</file>