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83FFBFC-35D7-45A9-83AD-CF86DA3C6D1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A3F987A-8A3B-4B15-A10F-4DC5A4F2E56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3F13740-07E0-4E0C-9AF9-E51D0D34C1C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69F6C463-ACFB-4354-8541-61FB49B7094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56E72A34-9B8E-4572-826C-B6F2CF9B098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17F1DC3F-6FEC-4113-B5A1-93EF4FD6FA2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2F308965-0BE6-4144-AA20-3DF9C15A81F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3AF6084A-4EC6-4AAC-874F-26790FC843A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60D9363D-3B4C-48F4-AAAA-63830E09031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CB5F1DC9-2C55-4A81-B6D1-5F5F9AF79AE1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02879A0B-AD96-436A-8010-B922E0A9ED4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61564AF8-3113-42CA-8EA6-6DE27BA4FEA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2BEDA87A-ACA6-4330-A69A-54BCAA64CB0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260280"/>
            <a:chOff x="5259240" y="6597720"/>
            <a:chExt cx="3628800" cy="26028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8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th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Kyiv – May 2013- </a:t>
              </a:r>
              <a:fld id="{FBF12C5C-3FD8-4547-83B1-33661E62CFD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28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th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 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May 13-15, 2013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Kyiv, Ukraine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Lucida Sans"/>
              </a:rPr>
              <a:t>NTUU KPI and the UGrid CA</a:t>
            </a:r>
            <a:br>
              <a:rPr sz="4000"/>
            </a:br>
            <a:endParaRPr b="1" lang="en-US" sz="28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7464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 Big Thank you for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Lucida Sans"/>
              </a:rPr>
              <a:t>LOGISTICS AND INFO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Agenda &amp; Practicaliti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r Presenter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Upload your presentations to the agenda pag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http://www.eugridpma.org/meetings/2013-05/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nd follow the link to the on-line agend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ry and share your application/desktop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Modification  password for the whole meeting: </a:t>
            </a:r>
            <a:r>
              <a:rPr b="1" lang="en-US" sz="1800" spc="-1" strike="noStrike">
                <a:solidFill>
                  <a:srgbClr val="c00000"/>
                </a:solidFill>
                <a:latin typeface="Lucida Sans"/>
              </a:rPr>
              <a:t>see board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Adobe connect</a:t>
            </a:r>
            <a:br>
              <a:rPr sz="2400"/>
            </a:br>
            <a:r>
              <a:rPr b="0" lang="en-US" sz="2400" spc="-1" strike="noStrike">
                <a:solidFill>
                  <a:srgbClr val="990000"/>
                </a:solidFill>
                <a:latin typeface="Lucida Sans"/>
              </a:rPr>
              <a:t>  https://webconf.vc.dfn.de/r17159825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Vidyo desktop client has basic screen sharing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  </a:t>
            </a:r>
            <a:r>
              <a:rPr b="0" lang="en-US" sz="1600" spc="-1" strike="noStrike">
                <a:solidFill>
                  <a:srgbClr val="990000"/>
                </a:solidFill>
                <a:latin typeface="Lucida Sans"/>
              </a:rPr>
              <a:t>http://vidyoportal.cern.ch/flex.html?roomdirect.html&amp;key=hJyvnjcRuVLC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Monday agend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72" name="Picture 4" descr=""/>
          <p:cNvPicPr/>
          <p:nvPr/>
        </p:nvPicPr>
        <p:blipFill>
          <a:blip r:embed="rId1"/>
          <a:stretch/>
        </p:blipFill>
        <p:spPr>
          <a:xfrm>
            <a:off x="830160" y="1074600"/>
            <a:ext cx="764712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Tuesday agend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Upcoming event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838080" y="1328760"/>
            <a:ext cx="804096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29</a:t>
            </a:r>
            <a:r>
              <a:rPr b="0" lang="en-GB" sz="2400" spc="-1" strike="noStrike" baseline="30000">
                <a:solidFill>
                  <a:srgbClr val="000066"/>
                </a:solidFill>
                <a:latin typeface="Lucida Sans"/>
              </a:rPr>
              <a:t>th</a:t>
            </a: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 EUGridPMA meeting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September 9-11, Bucharest, RO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1</a:t>
            </a:r>
            <a:r>
              <a:rPr b="0" lang="en-GB" sz="2400" spc="-1" strike="noStrike" baseline="30000">
                <a:solidFill>
                  <a:srgbClr val="990000"/>
                </a:solidFill>
                <a:latin typeface="Lucida Sans"/>
              </a:rPr>
              <a:t>st</a:t>
            </a: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 week of November: IGTF All Hands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La Plata, AR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3-05-09T01:53:08Z</dcterms:modified>
  <cp:revision>607</cp:revision>
  <dc:subject/>
  <dc:title>European Grid Policy Management Authority</dc:title>
</cp:coreProperties>
</file>