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2.png" ContentType="image/png"/>
  <Override PartName="/ppt/media/image7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6.png" ContentType="image/png"/>
  <Override PartName="/ppt/media/image9.wmf" ContentType="image/x-wmf"/>
  <Override PartName="/ppt/media/image14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3.jpeg" ContentType="image/jpeg"/>
  <Override PartName="/ppt/media/image15.png" ContentType="image/png"/>
  <Override PartName="/ppt/media/image5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E12B-6332-4AD0-A2EB-AEAB3C368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9BA5-7120-4DDF-B8C8-76EEC8E4D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9722-21D3-47C9-A652-923B87A9B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8295B-F1A4-4886-8B52-90D9170CB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61D94-BAC4-43F4-948E-2518E1643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F83C7-E976-4958-A460-9DE7F4D5A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63CB-19A5-480C-919D-1D703FAD9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61076-1C73-4862-B851-C6E215190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15CBA-4BBD-4A26-B899-3D5587E43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62E8C-D466-484F-AF40-589AE4331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2791E-E668-4CA1-AA87-0FA6B2B9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C7BC4-154B-45CF-AC5C-3D4AEB64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D965A-C88E-4079-93B8-272D6E5E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E9957-9142-4014-87AC-0A0E46AB7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143BA-7A95-4933-B3C7-828A20F55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5EC5A-9536-4170-97F1-BAC08D98E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1474E-8117-4EC4-BF32-127C82F35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431D-1959-484E-80C9-7AF709575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4B457-9F26-4586-A64E-DA66B3490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67E47-8468-44E4-B1CC-EA23AB97A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BA907-6B27-4641-BEC8-762173E30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BB686-CAB5-4FA0-BDE8-83D6085FB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C2F21-609B-4CE6-9940-81813B3B9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3E5C0-DCE1-4C18-8CB8-75D0A368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09A3C-4DE9-4CA1-A5C4-9269E27A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281B5-983B-44A7-BDF2-A0EFE32B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CB61F-380B-41ED-B832-84A7F1316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34D06-EA6F-4B4B-A8CA-08AE6C0AD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80F3-D820-4B8B-8ACB-5CD360270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BCDC2-1D01-4589-8C2F-A27EFCFB4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51003-3659-40CF-A898-AB9142F68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AC85C-689B-4B1D-9542-FEF1F9E19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3A35D-A826-4A74-B512-96941FD94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302BC-BBCE-4DDD-8B28-AB142482E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0872E-AB10-4023-9584-C2D0AB0F5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FB395-94C3-4AC0-AA99-D95E89260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6B197-2778-44FD-9FE2-7E4CB34B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4F60A-A3B0-4D2D-84F7-D3E9FE83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49666-50CC-4182-A71D-C7F7F838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13F9-9836-4636-B969-25F2777E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3B9BD-C36B-4C09-A574-1BBF9F51F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689CD-CEC6-4BAD-B6EC-583176D9B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9F5B8-B8E4-4BE7-B740-01E6B8722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0BA90-0E8F-46E4-84A4-859D7CCA1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782E8-A904-4067-9F9D-26BA5F4D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19598-2847-408A-930F-F53197C0E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9900B-53EC-45AF-9D80-C223CB6FA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C1717-A99E-4A7B-A927-4B57F4880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55DD5-39DF-40EB-B3B1-CCA667CDA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9CAD2-7E13-43EF-9DF9-1C4D4327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CE12-9078-44FC-A3B9-C35ADBAC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45099-64DD-4BF8-B81E-71915464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2D3CD-E609-42AF-81B6-DE84C71E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60FBC-7097-4CCA-B063-958315414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57D39-0E74-40D9-BCF9-C9528E0EB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1D7F7-73FC-4C18-AA05-73B6E8A76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3AF7-C7CF-4593-A1AB-7BF7602B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88A6-2CFC-461B-BB11-B27BEB0CC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11B7-84B5-4EDD-8F5B-948A385E7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9141-5B03-4C44-954F-718C34737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APGridPMA  Taipei 2013 meeting –  </a:t>
              </a:r>
              <a:fld id="{425E2EDB-E538-43F6-81A7-D117DAB800EA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1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21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422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APGridPMA  Taipei 2013 meeting –  </a:t>
              </a:r>
              <a:fld id="{CCCD3421-F71B-453D-8B07-A1C5074C830A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25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7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68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46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APGridPMA  Taipei 2013 meeting –  </a:t>
              </a:r>
              <a:fld id="{852BE565-1BD7-4120-8EF3-965E34D1BED7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7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15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51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APGridPMA  Taipei 2013 meeting –  </a:t>
              </a:r>
              <a:fld id="{8D4C30E1-6A8F-43C9-96B3-08D17C2DF296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1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6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56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APGridPMA  Taipei 2013 meeting –  </a:t>
              </a:r>
              <a:fld id="{99A9B54A-DE53-44DF-AE71-DACF1FEC573B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6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609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61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APGridPMA  Taipei 2013 meeting –  </a:t>
              </a:r>
              <a:fld id="{4F077307-3191-4F98-9625-2A4379EEF40B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1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grpSp>
        <p:nvGrpSpPr>
          <p:cNvPr id="616" name="Group 21"/>
          <p:cNvGrpSpPr/>
          <p:nvPr/>
        </p:nvGrpSpPr>
        <p:grpSpPr>
          <a:xfrm>
            <a:off x="0" y="0"/>
            <a:ext cx="9215280" cy="1081080"/>
            <a:chOff x="0" y="0"/>
            <a:chExt cx="9215280" cy="1081080"/>
          </a:xfrm>
        </p:grpSpPr>
        <p:sp>
          <p:nvSpPr>
            <p:cNvPr id="617" name="Rectangle 13"/>
            <p:cNvSpPr/>
            <p:nvPr/>
          </p:nvSpPr>
          <p:spPr>
            <a:xfrm>
              <a:off x="0" y="0"/>
              <a:ext cx="9144000" cy="1044720"/>
            </a:xfrm>
            <a:prstGeom prst="rect">
              <a:avLst/>
            </a:pr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8" name="Picture 14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734840" cy="9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9" name="Rectangle 15"/>
            <p:cNvSpPr/>
            <p:nvPr/>
          </p:nvSpPr>
          <p:spPr>
            <a:xfrm>
              <a:off x="1619280" y="0"/>
              <a:ext cx="1800000" cy="979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16"/>
            <p:cNvSpPr/>
            <p:nvPr/>
          </p:nvSpPr>
          <p:spPr>
            <a:xfrm>
              <a:off x="1619280" y="0"/>
              <a:ext cx="1800000" cy="979560"/>
            </a:xfrm>
            <a:custGeom>
              <a:avLst/>
              <a:gdLst/>
              <a:ahLst/>
              <a:rect l="l" t="t" r="r" b="b"/>
              <a:pathLst>
                <a:path w="5001" h="2721">
                  <a:moveTo>
                    <a:pt x="5000" y="0"/>
                  </a:moveTo>
                  <a:lnTo>
                    <a:pt x="5000" y="2720"/>
                  </a:lnTo>
                  <a:lnTo>
                    <a:pt x="0" y="2720"/>
                  </a:lnTo>
                  <a:cubicBezTo>
                    <a:pt x="2000" y="2720"/>
                    <a:pt x="0" y="0"/>
                    <a:pt x="2000" y="0"/>
                  </a:cubicBezTo>
                  <a:cubicBezTo>
                    <a:pt x="2667" y="0"/>
                    <a:pt x="4333" y="0"/>
                    <a:pt x="5000" y="0"/>
                  </a:cubicBezTo>
                </a:path>
              </a:pathLst>
            </a:cu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Text Box 12"/>
            <p:cNvSpPr/>
            <p:nvPr/>
          </p:nvSpPr>
          <p:spPr>
            <a:xfrm>
              <a:off x="2050920" y="503280"/>
              <a:ext cx="716436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  <a:ea typeface="SimSun"/>
                </a:rPr>
                <a:t>EGI (IGTF Liaison Function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4"/>
          </p:nvPr>
        </p:nvSpPr>
        <p:spPr>
          <a:xfrm>
            <a:off x="6156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13-04-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owards differentiated collaborative Lo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6"/>
          </p:nvPr>
        </p:nvSpPr>
        <p:spPr>
          <a:xfrm>
            <a:off x="69750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3532B-B945-499C-A2FF-22A05A5B918F}" type="slidenum"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665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66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APGridPMA  Taipei 2013 meeting –  </a:t>
              </a:r>
              <a:fld id="{54BC2287-DAD1-4FA9-9985-3C88F83F8057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6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dt" idx="7"/>
          </p:nvPr>
        </p:nvSpPr>
        <p:spPr>
          <a:xfrm>
            <a:off x="6156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13-04-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wards differentiated collaborative Lo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 type="sldNum" idx="9"/>
          </p:nvPr>
        </p:nvSpPr>
        <p:spPr>
          <a:xfrm>
            <a:off x="7020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8F34A-1833-44C3-B05A-8A854962CF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 Box 2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67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Group 12"/>
          <p:cNvGrpSpPr/>
          <p:nvPr/>
        </p:nvGrpSpPr>
        <p:grpSpPr>
          <a:xfrm>
            <a:off x="0" y="0"/>
            <a:ext cx="9144000" cy="1044720"/>
            <a:chOff x="0" y="0"/>
            <a:chExt cx="9144000" cy="1044720"/>
          </a:xfrm>
        </p:grpSpPr>
        <p:sp>
          <p:nvSpPr>
            <p:cNvPr id="715" name="Rectangle 4"/>
            <p:cNvSpPr/>
            <p:nvPr/>
          </p:nvSpPr>
          <p:spPr>
            <a:xfrm>
              <a:off x="0" y="0"/>
              <a:ext cx="9144000" cy="1044720"/>
            </a:xfrm>
            <a:prstGeom prst="rect">
              <a:avLst/>
            </a:pr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6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735200" cy="97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Rectangle 6"/>
            <p:cNvSpPr/>
            <p:nvPr/>
          </p:nvSpPr>
          <p:spPr>
            <a:xfrm>
              <a:off x="1619280" y="0"/>
              <a:ext cx="1800000" cy="97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7"/>
            <p:cNvSpPr/>
            <p:nvPr/>
          </p:nvSpPr>
          <p:spPr>
            <a:xfrm>
              <a:off x="1619280" y="0"/>
              <a:ext cx="1800000" cy="979920"/>
            </a:xfrm>
            <a:custGeom>
              <a:avLst/>
              <a:gdLst/>
              <a:ahLst/>
              <a:rect l="l" t="t" r="r" b="b"/>
              <a:pathLst>
                <a:path w="5001" h="2721">
                  <a:moveTo>
                    <a:pt x="5000" y="0"/>
                  </a:moveTo>
                  <a:lnTo>
                    <a:pt x="5000" y="2720"/>
                  </a:lnTo>
                  <a:lnTo>
                    <a:pt x="0" y="2720"/>
                  </a:lnTo>
                  <a:cubicBezTo>
                    <a:pt x="2000" y="2720"/>
                    <a:pt x="0" y="0"/>
                    <a:pt x="2000" y="0"/>
                  </a:cubicBezTo>
                  <a:cubicBezTo>
                    <a:pt x="2667" y="0"/>
                    <a:pt x="4333" y="0"/>
                    <a:pt x="5000" y="0"/>
                  </a:cubicBezTo>
                </a:path>
              </a:pathLst>
            </a:cu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Rectangle 17"/>
          <p:cNvSpPr/>
          <p:nvPr/>
        </p:nvSpPr>
        <p:spPr>
          <a:xfrm>
            <a:off x="7667640" y="658656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SimSun"/>
              </a:rPr>
              <a:t>www.egi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18"/>
          <p:cNvSpPr/>
          <p:nvPr/>
        </p:nvSpPr>
        <p:spPr>
          <a:xfrm>
            <a:off x="54000" y="660564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SimSun"/>
              </a:rPr>
              <a:t>EGI-InSPIRE RI-2613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1" name="Picture 1" descr=""/>
          <p:cNvPicPr/>
          <p:nvPr/>
        </p:nvPicPr>
        <p:blipFill>
          <a:blip r:embed="rId3"/>
          <a:stretch/>
        </p:blipFill>
        <p:spPr>
          <a:xfrm>
            <a:off x="0" y="685800"/>
            <a:ext cx="1447920" cy="5794200"/>
          </a:xfrm>
          <a:prstGeom prst="rect">
            <a:avLst/>
          </a:prstGeom>
          <a:ln w="0">
            <a:noFill/>
          </a:ln>
        </p:spPr>
      </p:pic>
      <p:sp>
        <p:nvSpPr>
          <p:cNvPr id="722" name="Text Box 2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67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3" name="Group 21"/>
          <p:cNvGrpSpPr/>
          <p:nvPr/>
        </p:nvGrpSpPr>
        <p:grpSpPr>
          <a:xfrm>
            <a:off x="0" y="0"/>
            <a:ext cx="9215280" cy="1081080"/>
            <a:chOff x="0" y="0"/>
            <a:chExt cx="9215280" cy="1081080"/>
          </a:xfrm>
        </p:grpSpPr>
        <p:sp>
          <p:nvSpPr>
            <p:cNvPr id="724" name="Rectangle 4"/>
            <p:cNvSpPr/>
            <p:nvPr/>
          </p:nvSpPr>
          <p:spPr>
            <a:xfrm>
              <a:off x="0" y="0"/>
              <a:ext cx="9144000" cy="1044720"/>
            </a:xfrm>
            <a:prstGeom prst="rect">
              <a:avLst/>
            </a:pr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5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734840" cy="9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6" name="Rectangle 6"/>
            <p:cNvSpPr/>
            <p:nvPr/>
          </p:nvSpPr>
          <p:spPr>
            <a:xfrm>
              <a:off x="1619280" y="0"/>
              <a:ext cx="1800000" cy="979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7"/>
            <p:cNvSpPr/>
            <p:nvPr/>
          </p:nvSpPr>
          <p:spPr>
            <a:xfrm>
              <a:off x="1619280" y="0"/>
              <a:ext cx="1800000" cy="979560"/>
            </a:xfrm>
            <a:custGeom>
              <a:avLst/>
              <a:gdLst/>
              <a:ahLst/>
              <a:rect l="l" t="t" r="r" b="b"/>
              <a:pathLst>
                <a:path w="5001" h="2721">
                  <a:moveTo>
                    <a:pt x="5000" y="0"/>
                  </a:moveTo>
                  <a:lnTo>
                    <a:pt x="5000" y="2720"/>
                  </a:lnTo>
                  <a:lnTo>
                    <a:pt x="0" y="2720"/>
                  </a:lnTo>
                  <a:cubicBezTo>
                    <a:pt x="2000" y="2720"/>
                    <a:pt x="0" y="0"/>
                    <a:pt x="2000" y="0"/>
                  </a:cubicBezTo>
                  <a:cubicBezTo>
                    <a:pt x="2667" y="0"/>
                    <a:pt x="4333" y="0"/>
                    <a:pt x="5000" y="0"/>
                  </a:cubicBezTo>
                </a:path>
              </a:pathLst>
            </a:cu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Text Box 12"/>
            <p:cNvSpPr/>
            <p:nvPr/>
          </p:nvSpPr>
          <p:spPr>
            <a:xfrm>
              <a:off x="1258560" y="0"/>
              <a:ext cx="795672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  <a:ea typeface="SimSun"/>
                </a:rPr>
                <a:t>EGI.eu</a:t>
              </a:r>
              <a:br>
                <a:rPr sz="3200"/>
              </a:b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  <a:ea typeface="SimSun"/>
                </a:rPr>
                <a:t>European Grid Infrastructu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9" name="Picture 3" descr=""/>
          <p:cNvPicPr/>
          <p:nvPr/>
        </p:nvPicPr>
        <p:blipFill>
          <a:blip r:embed="rId5"/>
          <a:stretch/>
        </p:blipFill>
        <p:spPr>
          <a:xfrm>
            <a:off x="8244000" y="5713560"/>
            <a:ext cx="780840" cy="52380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4" descr=""/>
          <p:cNvPicPr/>
          <p:nvPr/>
        </p:nvPicPr>
        <p:blipFill>
          <a:blip r:embed="rId6"/>
          <a:stretch/>
        </p:blipFill>
        <p:spPr>
          <a:xfrm>
            <a:off x="6516720" y="5640480"/>
            <a:ext cx="1447920" cy="588960"/>
          </a:xfrm>
          <a:prstGeom prst="rect">
            <a:avLst/>
          </a:prstGeom>
          <a:ln w="0">
            <a:noFill/>
          </a:ln>
        </p:spPr>
      </p:pic>
      <p:sp>
        <p:nvSpPr>
          <p:cNvPr id="731" name="Rectangle 17"/>
          <p:cNvSpPr/>
          <p:nvPr/>
        </p:nvSpPr>
        <p:spPr>
          <a:xfrm>
            <a:off x="7667640" y="658656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SimSun"/>
              </a:rPr>
              <a:t>www.egi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18"/>
          <p:cNvSpPr/>
          <p:nvPr/>
        </p:nvSpPr>
        <p:spPr>
          <a:xfrm>
            <a:off x="54000" y="660564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SimSun"/>
              </a:rPr>
              <a:t>EGI-InSPIRE RI-2613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124000" y="115560"/>
            <a:ext cx="6840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1128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dt" idx="10"/>
          </p:nvPr>
        </p:nvSpPr>
        <p:spPr>
          <a:xfrm>
            <a:off x="6156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 type="ftr" idx="11"/>
          </p:nvPr>
        </p:nvSpPr>
        <p:spPr>
          <a:xfrm>
            <a:off x="3124080" y="6524640"/>
            <a:ext cx="28958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 type="sldNum" idx="12"/>
          </p:nvPr>
        </p:nvSpPr>
        <p:spPr>
          <a:xfrm>
            <a:off x="69750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480A5-CD1F-4B87-AC97-67183DED7EF5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Text Box 2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67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5" name="Group 12"/>
          <p:cNvGrpSpPr/>
          <p:nvPr/>
        </p:nvGrpSpPr>
        <p:grpSpPr>
          <a:xfrm>
            <a:off x="0" y="0"/>
            <a:ext cx="9144000" cy="1044720"/>
            <a:chOff x="0" y="0"/>
            <a:chExt cx="9144000" cy="1044720"/>
          </a:xfrm>
        </p:grpSpPr>
        <p:sp>
          <p:nvSpPr>
            <p:cNvPr id="776" name="Rectangle 4"/>
            <p:cNvSpPr/>
            <p:nvPr/>
          </p:nvSpPr>
          <p:spPr>
            <a:xfrm>
              <a:off x="0" y="0"/>
              <a:ext cx="9144000" cy="1044720"/>
            </a:xfrm>
            <a:prstGeom prst="rect">
              <a:avLst/>
            </a:pr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7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735200" cy="97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8" name="Rectangle 6"/>
            <p:cNvSpPr/>
            <p:nvPr/>
          </p:nvSpPr>
          <p:spPr>
            <a:xfrm>
              <a:off x="1619280" y="0"/>
              <a:ext cx="1800000" cy="97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7"/>
            <p:cNvSpPr/>
            <p:nvPr/>
          </p:nvSpPr>
          <p:spPr>
            <a:xfrm>
              <a:off x="1619280" y="0"/>
              <a:ext cx="1800000" cy="979920"/>
            </a:xfrm>
            <a:custGeom>
              <a:avLst/>
              <a:gdLst/>
              <a:ahLst/>
              <a:rect l="l" t="t" r="r" b="b"/>
              <a:pathLst>
                <a:path w="5001" h="2721">
                  <a:moveTo>
                    <a:pt x="5000" y="0"/>
                  </a:moveTo>
                  <a:lnTo>
                    <a:pt x="5000" y="2720"/>
                  </a:lnTo>
                  <a:lnTo>
                    <a:pt x="0" y="2720"/>
                  </a:lnTo>
                  <a:cubicBezTo>
                    <a:pt x="2000" y="2720"/>
                    <a:pt x="0" y="0"/>
                    <a:pt x="2000" y="0"/>
                  </a:cubicBezTo>
                  <a:cubicBezTo>
                    <a:pt x="2667" y="0"/>
                    <a:pt x="4333" y="0"/>
                    <a:pt x="5000" y="0"/>
                  </a:cubicBezTo>
                </a:path>
              </a:pathLst>
            </a:cu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0" name="Rectangle 17"/>
          <p:cNvSpPr/>
          <p:nvPr/>
        </p:nvSpPr>
        <p:spPr>
          <a:xfrm>
            <a:off x="7667640" y="658656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SimSun"/>
              </a:rPr>
              <a:t>www.egi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18"/>
          <p:cNvSpPr/>
          <p:nvPr/>
        </p:nvSpPr>
        <p:spPr>
          <a:xfrm>
            <a:off x="54000" y="660564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SimSun"/>
              </a:rPr>
              <a:t>EGI-InSPIRE RI-2613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2124000" y="115560"/>
            <a:ext cx="6840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1128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 type="dt" idx="13"/>
          </p:nvPr>
        </p:nvSpPr>
        <p:spPr>
          <a:xfrm>
            <a:off x="6156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 type="ftr" idx="14"/>
          </p:nvPr>
        </p:nvSpPr>
        <p:spPr>
          <a:xfrm>
            <a:off x="3124080" y="6524640"/>
            <a:ext cx="28958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 type="sldNum" idx="15"/>
          </p:nvPr>
        </p:nvSpPr>
        <p:spPr>
          <a:xfrm>
            <a:off x="7020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131DC-9388-47A4-81B4-519E502456C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67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2"/>
          <p:cNvGrpSpPr/>
          <p:nvPr/>
        </p:nvGrpSpPr>
        <p:grpSpPr>
          <a:xfrm>
            <a:off x="0" y="0"/>
            <a:ext cx="9144000" cy="1044720"/>
            <a:chOff x="0" y="0"/>
            <a:chExt cx="9144000" cy="1044720"/>
          </a:xfrm>
        </p:grpSpPr>
        <p:sp>
          <p:nvSpPr>
            <p:cNvPr id="49" name="Rectangle 4"/>
            <p:cNvSpPr/>
            <p:nvPr/>
          </p:nvSpPr>
          <p:spPr>
            <a:xfrm>
              <a:off x="0" y="0"/>
              <a:ext cx="9144000" cy="1044720"/>
            </a:xfrm>
            <a:prstGeom prst="rect">
              <a:avLst/>
            </a:pr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735200" cy="97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Rectangle 6"/>
            <p:cNvSpPr/>
            <p:nvPr/>
          </p:nvSpPr>
          <p:spPr>
            <a:xfrm>
              <a:off x="1619280" y="0"/>
              <a:ext cx="1800000" cy="97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7"/>
            <p:cNvSpPr/>
            <p:nvPr/>
          </p:nvSpPr>
          <p:spPr>
            <a:xfrm>
              <a:off x="1619280" y="0"/>
              <a:ext cx="1800000" cy="979920"/>
            </a:xfrm>
            <a:custGeom>
              <a:avLst/>
              <a:gdLst/>
              <a:ahLst/>
              <a:rect l="l" t="t" r="r" b="b"/>
              <a:pathLst>
                <a:path w="5001" h="2721">
                  <a:moveTo>
                    <a:pt x="5000" y="0"/>
                  </a:moveTo>
                  <a:lnTo>
                    <a:pt x="5000" y="2720"/>
                  </a:lnTo>
                  <a:lnTo>
                    <a:pt x="0" y="2720"/>
                  </a:lnTo>
                  <a:cubicBezTo>
                    <a:pt x="2000" y="2720"/>
                    <a:pt x="0" y="0"/>
                    <a:pt x="2000" y="0"/>
                  </a:cubicBezTo>
                  <a:cubicBezTo>
                    <a:pt x="2667" y="0"/>
                    <a:pt x="4333" y="0"/>
                    <a:pt x="5000" y="0"/>
                  </a:cubicBezTo>
                </a:path>
              </a:pathLst>
            </a:custGeom>
            <a:solidFill>
              <a:srgbClr val="0067b1"/>
            </a:solidFill>
            <a:ln w="9360">
              <a:solidFill>
                <a:srgbClr val="0067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24000" y="115560"/>
            <a:ext cx="6840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1128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1"/>
          </p:nvPr>
        </p:nvSpPr>
        <p:spPr>
          <a:xfrm>
            <a:off x="6156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2"/>
          </p:nvPr>
        </p:nvSpPr>
        <p:spPr>
          <a:xfrm>
            <a:off x="3124080" y="6524640"/>
            <a:ext cx="28958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3"/>
          </p:nvPr>
        </p:nvSpPr>
        <p:spPr>
          <a:xfrm>
            <a:off x="7020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DC9CB-FB35-40C9-AC7C-D89F74339E41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7"/>
          <p:cNvSpPr/>
          <p:nvPr/>
        </p:nvSpPr>
        <p:spPr>
          <a:xfrm>
            <a:off x="7667640" y="658656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SimSun"/>
              </a:rPr>
              <a:t>www.egi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8"/>
          <p:cNvSpPr/>
          <p:nvPr/>
        </p:nvSpPr>
        <p:spPr>
          <a:xfrm>
            <a:off x="54000" y="660564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SimSun"/>
              </a:rPr>
              <a:t>EGI-InSPIRE RI-2613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8" descr="eugridpma-02v03"/>
          <p:cNvPicPr/>
          <p:nvPr/>
        </p:nvPicPr>
        <p:blipFill>
          <a:blip r:embed="rId2"/>
          <a:stretch/>
        </p:blipFill>
        <p:spPr>
          <a:xfrm>
            <a:off x="1541520" y="550800"/>
            <a:ext cx="6024600" cy="25606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38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13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APGridPMA  Taipei 2013 meeting –  </a:t>
              </a:r>
              <a:fld id="{01C0D268-BF92-4A0A-9904-737F2F23DEE5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4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85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18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APGridPMA  Taipei 2013 meeting –  </a:t>
              </a:r>
              <a:fld id="{675F7110-66B8-4F8C-8315-EB60165DF963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8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3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23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APGridPMA  Taipei 2013 meeting –  </a:t>
              </a:r>
              <a:fld id="{CD71E5AC-429F-404C-BC5C-4F4732C7097F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3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79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28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APGridPMA  Taipei 2013 meeting –  </a:t>
              </a:r>
              <a:fld id="{D171ECA1-99D7-417D-8731-DC96284DDA22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8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26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27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APGridPMA  Taipei 2013 meeting –  </a:t>
              </a:r>
              <a:fld id="{F3EB1FAE-9E54-4A7F-A0B6-58EF6ACB0781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30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2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33" name="Straight Connector 12"/>
          <p:cNvSpPr/>
          <p:nvPr/>
        </p:nvSpPr>
        <p:spPr>
          <a:xfrm>
            <a:off x="250920" y="0"/>
            <a:ext cx="0" cy="685800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74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75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APGridPMA  Taipei 2013 meeting –  </a:t>
              </a:r>
              <a:fld id="{08B67351-8534-4B59-BFD6-2D42051B6016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78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800" y="321768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Arial"/>
                <a:ea typeface="Arial"/>
              </a:rPr>
              <a:t>LiveAP</a:t>
            </a:r>
            <a:br>
              <a:rPr sz="4000"/>
            </a:br>
            <a:r>
              <a:rPr b="1" lang="en-GB" sz="4000" spc="-1" strike="noStrike">
                <a:solidFill>
                  <a:srgbClr val="000066"/>
                </a:solidFill>
                <a:latin typeface="Arial"/>
                <a:ea typeface="Arial"/>
              </a:rPr>
              <a:t>Towards Differentiated </a:t>
            </a:r>
            <a:br>
              <a:rPr sz="4000"/>
            </a:br>
            <a:r>
              <a:rPr b="1" lang="en-GB" sz="4000" spc="-1" strike="noStrike">
                <a:solidFill>
                  <a:srgbClr val="000066"/>
                </a:solidFill>
                <a:latin typeface="Arial"/>
                <a:ea typeface="Arial"/>
              </a:rPr>
              <a:t>Identity Assurance</a:t>
            </a:r>
            <a:endParaRPr b="1" lang="en-US" sz="4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4" name="TextBox 1"/>
          <p:cNvSpPr/>
          <p:nvPr/>
        </p:nvSpPr>
        <p:spPr>
          <a:xfrm>
            <a:off x="108000" y="5950080"/>
            <a:ext cx="86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vid Groep, Nikhef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ported by the Netherlands e-Infrastructure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RFsara, and EGI.eu O-E-15 and EGI-InSPIRE NA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5" name="Picture 8" descr="H:\Home\davidg\Template\Logos\NIKHEF.wmf"/>
          <p:cNvPicPr/>
          <p:nvPr/>
        </p:nvPicPr>
        <p:blipFill>
          <a:blip r:embed="rId1"/>
          <a:stretch/>
        </p:blipFill>
        <p:spPr>
          <a:xfrm>
            <a:off x="5292720" y="5985000"/>
            <a:ext cx="1258920" cy="55548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9" descr="H:\Home\davidg\Template\Logos\EGI-logo-large01.wmf"/>
          <p:cNvPicPr/>
          <p:nvPr/>
        </p:nvPicPr>
        <p:blipFill>
          <a:blip r:embed="rId2"/>
          <a:stretch/>
        </p:blipFill>
        <p:spPr>
          <a:xfrm>
            <a:off x="6551640" y="5950080"/>
            <a:ext cx="1116000" cy="626760"/>
          </a:xfrm>
          <a:prstGeom prst="rect">
            <a:avLst/>
          </a:prstGeom>
          <a:ln w="0">
            <a:noFill/>
          </a:ln>
        </p:spPr>
      </p:pic>
      <p:pic>
        <p:nvPicPr>
          <p:cNvPr id="827" name="Picture 12" descr="H:\Home\davidg\EUGridPMA\IGTF\IGTF-logos\IGTF-logo-full.wmf"/>
          <p:cNvPicPr/>
          <p:nvPr/>
        </p:nvPicPr>
        <p:blipFill>
          <a:blip r:embed="rId3"/>
          <a:stretch/>
        </p:blipFill>
        <p:spPr>
          <a:xfrm>
            <a:off x="7713720" y="57240"/>
            <a:ext cx="1338120" cy="619200"/>
          </a:xfrm>
          <a:prstGeom prst="rect">
            <a:avLst/>
          </a:prstGeom>
          <a:ln w="0">
            <a:noFill/>
          </a:ln>
        </p:spPr>
      </p:pic>
      <p:pic>
        <p:nvPicPr>
          <p:cNvPr id="828" name="Picture 13" descr="H:\Home\davidg\EUGridPMA\Meetings\2013-04-TAGPMA-Boulder\8F587723-C9D8-48EF-8C07-EE3053C0EF70[5].png"/>
          <p:cNvPicPr/>
          <p:nvPr/>
        </p:nvPicPr>
        <p:blipFill>
          <a:blip r:embed="rId4"/>
          <a:stretch/>
        </p:blipFill>
        <p:spPr>
          <a:xfrm>
            <a:off x="7667640" y="6024600"/>
            <a:ext cx="1276200" cy="476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66"/>
                </a:solidFill>
                <a:latin typeface="Arial"/>
                <a:ea typeface="Arial"/>
              </a:rPr>
              <a:t>LiveAP and its Caveats</a:t>
            </a:r>
            <a:endParaRPr b="1" lang="en-US" sz="36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96" name=""/>
          <p:cNvSpPr txBox="1"/>
          <p:nvPr/>
        </p:nvSpPr>
        <p:spPr>
          <a:xfrm>
            <a:off x="611280" y="11970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Arial"/>
                <a:ea typeface="Arial"/>
              </a:rPr>
              <a:t>Live AP assurance level </a:t>
            </a:r>
            <a:r>
              <a:rPr b="0" i="1" lang="en-GB" sz="2400" spc="-1" strike="noStrike">
                <a:solidFill>
                  <a:srgbClr val="002060"/>
                </a:solidFill>
                <a:latin typeface="Arial"/>
                <a:ea typeface="Arial"/>
              </a:rPr>
              <a:t>is</a:t>
            </a:r>
            <a:r>
              <a:rPr b="0" lang="en-GB" sz="2400" spc="-1" strike="noStrike">
                <a:solidFill>
                  <a:srgbClr val="002060"/>
                </a:solidFill>
                <a:latin typeface="Arial"/>
                <a:ea typeface="Arial"/>
              </a:rPr>
              <a:t> different, and rest </a:t>
            </a:r>
            <a:br>
              <a:rPr sz="2400"/>
            </a:br>
            <a:r>
              <a:rPr b="0" i="1" lang="en-GB" sz="2400" spc="-1" strike="noStrike">
                <a:solidFill>
                  <a:srgbClr val="002060"/>
                </a:solidFill>
                <a:latin typeface="Arial"/>
                <a:ea typeface="Arial"/>
              </a:rPr>
              <a:t>must</a:t>
            </a:r>
            <a:r>
              <a:rPr b="0" lang="en-GB" sz="2400" spc="-1" strike="noStrike">
                <a:solidFill>
                  <a:srgbClr val="002060"/>
                </a:solidFill>
                <a:latin typeface="Arial"/>
                <a:ea typeface="Arial"/>
              </a:rPr>
              <a:t> be taken up by somebody else 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Arial"/>
                <a:ea typeface="Arial"/>
              </a:rPr>
              <a:t>But e.g. in EGI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many communities rely on 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names to enrol peopl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communities do not keep 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much of auditable record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users are a-priori unknown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to the resource owner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RPs support loosely 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organised communiti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RPs thus need </a:t>
            </a:r>
            <a:r>
              <a:rPr b="0" i="1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independent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 authoritative real nam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97" name="TextBox 5"/>
          <p:cNvSpPr/>
          <p:nvPr/>
        </p:nvSpPr>
        <p:spPr>
          <a:xfrm>
            <a:off x="5651640" y="2173320"/>
            <a:ext cx="3313080" cy="341640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</a:rPr>
              <a:t>Identity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dentifier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-binding and rev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inding to ent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ceability of ent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mergency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gular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ch’ attribute asser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rrelating identif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cess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Straight Connector 6"/>
          <p:cNvSpPr/>
          <p:nvPr/>
        </p:nvSpPr>
        <p:spPr>
          <a:xfrm>
            <a:off x="5931000" y="3355920"/>
            <a:ext cx="2919240" cy="0"/>
          </a:xfrm>
          <a:prstGeom prst="line">
            <a:avLst/>
          </a:prstGeom>
          <a:ln w="2844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Curved Right Arrow 3"/>
          <p:cNvSpPr/>
          <p:nvPr/>
        </p:nvSpPr>
        <p:spPr>
          <a:xfrm flipH="1" flipV="1">
            <a:off x="8850240" y="3289320"/>
            <a:ext cx="216000" cy="1154160"/>
          </a:xfrm>
          <a:custGeom>
            <a:avLst/>
            <a:gdLst>
              <a:gd name="textAreaLeft" fmla="*/ 28800 w 216000"/>
              <a:gd name="textAreaRight" fmla="*/ 187200 w 216000"/>
              <a:gd name="textAreaTop" fmla="*/ 268560 h 1154160"/>
              <a:gd name="textAreaBottom" fmla="*/ 859320 h 1154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10043" stAng="-5400000" swAng="-5400000"/>
                <a:lnTo>
                  <a:pt x="0" y="11053"/>
                </a:lnTo>
                <a:arcTo wR="21600" hR="10043" stAng="10800000" swAng="-3657265"/>
                <a:lnTo>
                  <a:pt x="16200" y="21281"/>
                </a:lnTo>
                <a:lnTo>
                  <a:pt x="21600" y="20590"/>
                </a:lnTo>
                <a:lnTo>
                  <a:pt x="16200" y="19261"/>
                </a:lnTo>
                <a:lnTo>
                  <a:pt x="16200" y="19766"/>
                </a:lnTo>
                <a:arcTo wR="21600" hR="10043" stAng="7142735" swAng="3576805"/>
                <a:lnTo>
                  <a:pt x="27" y="10548"/>
                </a:lnTo>
                <a:arcTo wR="21600" hR="10043" stAng="-10719540" swAng="5319540"/>
                <a:close/>
              </a:path>
              <a:path fill="darkenLess" w="21600" h="21600">
                <a:moveTo>
                  <a:pt x="21600" y="0"/>
                </a:moveTo>
                <a:arcTo wR="21600" hR="10043" stAng="-5400000" swAng="-5400000"/>
                <a:lnTo>
                  <a:pt x="0" y="10043"/>
                </a:lnTo>
                <a:arcTo wR="21600" hR="10043" stAng="10800000" swAng="-80460"/>
                <a:lnTo>
                  <a:pt x="27" y="10548"/>
                </a:lnTo>
                <a:arcTo wR="21600" hR="10043" stAng="-10719540" swAng="531954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  <a:ea typeface="Arial"/>
              </a:rPr>
              <a:t>Technical trust remain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01" name=""/>
          <p:cNvSpPr txBox="1"/>
          <p:nvPr/>
        </p:nvSpPr>
        <p:spPr>
          <a:xfrm>
            <a:off x="611280" y="141300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loosing technical trust would make </a:t>
            </a:r>
            <a:br>
              <a:rPr sz="2800"/>
            </a:b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any authentication infrastructure useless</a:t>
            </a:r>
            <a:endParaRPr b="0" lang="en-US" sz="2800" spc="-1" strike="noStrike">
              <a:solidFill>
                <a:srgbClr val="000066"/>
              </a:solidFill>
              <a:latin typeface="Lucida Sans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so integrity of the </a:t>
            </a:r>
            <a:r>
              <a:rPr b="0" i="1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issuer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 has to be retained</a:t>
            </a:r>
            <a:endParaRPr b="0" lang="en-US" sz="2800" spc="-1" strike="noStrike">
              <a:solidFill>
                <a:srgbClr val="000066"/>
              </a:solidFill>
              <a:latin typeface="Lucida Sans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just like for the AA Operations Guideline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imilar to the classic, mics and slcs profile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both issuing system and ID management secure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retention of records for incident response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Arial"/>
              </a:rPr>
              <a:t>When contracting back-end (university) IdPs</a:t>
            </a:r>
            <a:br>
              <a:rPr sz="2800"/>
            </a:b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Arial"/>
              </a:rPr>
              <a:t>the requirements must apply to them as well</a:t>
            </a:r>
            <a:endParaRPr b="0" lang="en-US" sz="2800" spc="-1" strike="noStrike">
              <a:solidFill>
                <a:srgbClr val="000066"/>
              </a:solidFill>
              <a:latin typeface="Lucida Sans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Arial"/>
                <a:ea typeface="Arial"/>
              </a:rPr>
              <a:t>LIGHT-WEIGHT IDENTITY VETTING ENVIRONMENT</a:t>
            </a:r>
            <a:endParaRPr b="1" lang="en-US" sz="4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The Profil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TextBox 5"/>
          <p:cNvSpPr/>
          <p:nvPr/>
        </p:nvSpPr>
        <p:spPr>
          <a:xfrm rot="19619400">
            <a:off x="1428120" y="2327040"/>
            <a:ext cx="7243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400" spc="-1" strike="noStrike">
                <a:solidFill>
                  <a:srgbClr val="a5a5e9"/>
                </a:solidFill>
                <a:latin typeface="Arial"/>
              </a:rPr>
              <a:t>DRAFT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  <a:ea typeface="Arial"/>
              </a:rPr>
              <a:t>LIVE AP Identity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06" name=""/>
          <p:cNvSpPr txBox="1"/>
          <p:nvPr/>
        </p:nvSpPr>
        <p:spPr>
          <a:xfrm>
            <a:off x="611280" y="1125000"/>
            <a:ext cx="80755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Persistency of name binding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631440" indent="-2426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any single subject name in a credential must be linked with one and only one entity for the whole lifetime of the servic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Naming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631440" indent="-2426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name elements […] sufficient to uniquely identify individual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631440" indent="-2426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sourced from ‘reasonable’ system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631440" indent="-2426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real name 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or pseudonym with compensatory controls: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631440" indent="-2426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only in conjunction w/verified name element allowing </a:t>
            </a:r>
            <a:br>
              <a:rPr sz="2000"/>
            </a:b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contact to subject -- and the pseudonymity should be ‘obvious’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Re-issuance, renewal and re-keying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631440" indent="-2426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authority should keep enough data to re-vet use of nam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Tracability requirement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631440" indent="-2426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at issuance time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 the authority should identify user, and that relationship should be documented and verifiabl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907" name="Picture 2" descr="H:\Home\davidg\EUGridPMA\eugridpma-color-small.png"/>
          <p:cNvPicPr/>
          <p:nvPr/>
        </p:nvPicPr>
        <p:blipFill>
          <a:blip r:embed="rId1"/>
          <a:stretch/>
        </p:blipFill>
        <p:spPr>
          <a:xfrm>
            <a:off x="7956720" y="334800"/>
            <a:ext cx="952200" cy="409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TextBox 7"/>
          <p:cNvSpPr/>
          <p:nvPr/>
        </p:nvSpPr>
        <p:spPr>
          <a:xfrm rot="19619400">
            <a:off x="1428120" y="2327040"/>
            <a:ext cx="7243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400" spc="-1" strike="noStrike">
                <a:solidFill>
                  <a:srgbClr val="a5a5e9"/>
                </a:solidFill>
                <a:latin typeface="Arial"/>
              </a:rPr>
              <a:t>DRAFT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  <a:ea typeface="Arial"/>
              </a:rPr>
              <a:t>LIVE AP Technical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We expect a secure, on-line CA system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Long-term commitment, security controls and trained personnel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With FIPS140-2 level 3 or equivalent HDM controlling key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2+ tier system on monitored controlled network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revocation capable 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so at least better than ssh ;-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Documented, transparent, policy and practice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Including provisions for auditing by peer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Arial"/>
                <a:ea typeface="Arial"/>
              </a:rPr>
              <a:t>Some requirements propagate back to upstream IdPs!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Credentials in common recognisable format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Initially X.509v3 certificates, but profile is mostly generic!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911" name="Picture 2" descr="H:\Home\davidg\EUGridPMA\eugridpma-color-small.png"/>
          <p:cNvPicPr/>
          <p:nvPr/>
        </p:nvPicPr>
        <p:blipFill>
          <a:blip r:embed="rId1"/>
          <a:stretch/>
        </p:blipFill>
        <p:spPr>
          <a:xfrm>
            <a:off x="7956720" y="334800"/>
            <a:ext cx="952200" cy="409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http://wiki.eugridpma.org/Main/LiveAPSecuredInfra</a:t>
            </a:r>
            <a:endParaRPr b="1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913" name="Picture 2" descr=""/>
          <p:cNvPicPr/>
          <p:nvPr/>
        </p:nvPicPr>
        <p:blipFill>
          <a:blip r:embed="rId1"/>
          <a:stretch/>
        </p:blipFill>
        <p:spPr>
          <a:xfrm>
            <a:off x="0" y="1163520"/>
            <a:ext cx="9144000" cy="4719600"/>
          </a:xfrm>
          <a:prstGeom prst="rect">
            <a:avLst/>
          </a:prstGeom>
          <a:ln w="0">
            <a:noFill/>
          </a:ln>
        </p:spPr>
      </p:pic>
      <p:sp>
        <p:nvSpPr>
          <p:cNvPr id="914" name="TextBox 3"/>
          <p:cNvSpPr/>
          <p:nvPr/>
        </p:nvSpPr>
        <p:spPr>
          <a:xfrm rot="19619400">
            <a:off x="1409400" y="2334240"/>
            <a:ext cx="724392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400" spc="-1" strike="noStrike">
                <a:solidFill>
                  <a:srgbClr val="7878de"/>
                </a:solidFill>
                <a:latin typeface="Arial"/>
              </a:rPr>
              <a:t>DRAFT</a:t>
            </a:r>
            <a:br>
              <a:rPr sz="14400"/>
            </a:br>
            <a:r>
              <a:rPr b="0" lang="en-GB" sz="4400" spc="-1" strike="noStrike">
                <a:solidFill>
                  <a:srgbClr val="7878de"/>
                </a:solidFill>
                <a:latin typeface="Arial"/>
              </a:rPr>
              <a:t>will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New Authentication Profil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16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The AP currently being drafted on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https://wiki.eugridpma.org/Main/LiveAPSecuredInfra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Satisfy RP requirements (PRACE, XSEDE) – 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nd aim to get SARoNGS and CI Logon Basic included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25800" indent="-3258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Many things to be decided!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Need for HSM FIPS 140-2 level 3 or 2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What audit requirements needed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Real or pseudonymous naming? Robots or not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25800" indent="-3258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25800" indent="-3258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Distribution would be through separate ‘bundle’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Next to ‘classic’, ‘mics’, ‘slcs’, and ‘experimental’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Note there never was an ‘all’ bundle for this very reason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05600" indent="-2714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RPs will have to make an </a:t>
            </a:r>
            <a:r>
              <a:rPr b="0" i="1" lang="en-GB" sz="2000" spc="-1" strike="noStrike">
                <a:solidFill>
                  <a:srgbClr val="000066"/>
                </a:solidFill>
                <a:latin typeface="Lucida Sans"/>
              </a:rPr>
              <a:t>explicit choice</a:t>
            </a: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 to accept thi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917" name="Picture 2" descr="H:\Home\davidg\EUGridPMA\IGTF\IGTF-logos\IGTF-logo-mini.wmf"/>
          <p:cNvPicPr/>
          <p:nvPr/>
        </p:nvPicPr>
        <p:blipFill>
          <a:blip r:embed="rId1"/>
          <a:stretch/>
        </p:blipFill>
        <p:spPr>
          <a:xfrm>
            <a:off x="8101080" y="369720"/>
            <a:ext cx="736560" cy="389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  <a:ea typeface="Arial"/>
              </a:rPr>
              <a:t>Outlin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0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Introduction and retro-active rationale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Assurance level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IGTF ‘common criteria’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Current AP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Towards collaborative differentiated LoA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Distributing elements of trust decision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Use cases for the LiveAP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LiveAP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Light-weight Identity Vetting Environment: towards LoA 1+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Limitations of a ‘LIVE AP’ and new LoA level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1" name="Date Placeholder 3"/>
          <p:cNvSpPr/>
          <p:nvPr/>
        </p:nvSpPr>
        <p:spPr>
          <a:xfrm>
            <a:off x="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13-04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ooter Placeholder 4"/>
          <p:cNvSpPr/>
          <p:nvPr/>
        </p:nvSpPr>
        <p:spPr>
          <a:xfrm>
            <a:off x="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owards differentiated collaborative Lo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Requirements to fulfil – mainly for RPs!</a:t>
            </a:r>
            <a:endParaRPr b="1" lang="en-US" sz="32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4" name="Date Placeholder 2"/>
          <p:cNvSpPr/>
          <p:nvPr/>
        </p:nvSpPr>
        <p:spPr>
          <a:xfrm>
            <a:off x="6192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13-04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wards differentiated collaborative Lo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6" name="Group 7"/>
          <p:cNvGrpSpPr/>
          <p:nvPr/>
        </p:nvGrpSpPr>
        <p:grpSpPr>
          <a:xfrm>
            <a:off x="468360" y="4011480"/>
            <a:ext cx="4390920" cy="2071800"/>
            <a:chOff x="468360" y="4011480"/>
            <a:chExt cx="4390920" cy="2071800"/>
          </a:xfrm>
        </p:grpSpPr>
        <p:pic>
          <p:nvPicPr>
            <p:cNvPr id="837" name="Picture 2" descr=""/>
            <p:cNvPicPr/>
            <p:nvPr/>
          </p:nvPicPr>
          <p:blipFill>
            <a:blip r:embed="rId1"/>
            <a:stretch/>
          </p:blipFill>
          <p:spPr>
            <a:xfrm>
              <a:off x="2843640" y="4155480"/>
              <a:ext cx="1697760" cy="11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8" name="TextBox 9"/>
            <p:cNvSpPr/>
            <p:nvPr/>
          </p:nvSpPr>
          <p:spPr>
            <a:xfrm>
              <a:off x="468360" y="4011480"/>
              <a:ext cx="4390920" cy="2071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2060"/>
                  </a:solidFill>
                  <a:latin typeface="Arial"/>
                </a:rPr>
                <a:t>Incident Respon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long-term* traceab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independent from 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hort-lived commun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must be revocab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rrelate with other information sour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anning and containment hand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10"/>
          <p:cNvGrpSpPr/>
          <p:nvPr/>
        </p:nvGrpSpPr>
        <p:grpSpPr>
          <a:xfrm>
            <a:off x="250920" y="1093680"/>
            <a:ext cx="4249800" cy="2102760"/>
            <a:chOff x="250920" y="1093680"/>
            <a:chExt cx="4249800" cy="2102760"/>
          </a:xfrm>
        </p:grpSpPr>
        <p:sp>
          <p:nvSpPr>
            <p:cNvPr id="840" name="TextBox 11"/>
            <p:cNvSpPr/>
            <p:nvPr/>
          </p:nvSpPr>
          <p:spPr>
            <a:xfrm>
              <a:off x="250920" y="1093680"/>
              <a:ext cx="4249800" cy="2102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2060"/>
                  </a:solidFill>
                  <a:latin typeface="Arial"/>
                </a:rPr>
                <a:t>Privacy and data </a:t>
              </a:r>
              <a:br>
                <a:rPr sz="1800"/>
              </a:br>
              <a:r>
                <a:rPr b="1" lang="en-GB" sz="1800" spc="-1" strike="noStrike">
                  <a:solidFill>
                    <a:srgbClr val="002060"/>
                  </a:solidFill>
                  <a:latin typeface="Arial"/>
                </a:rPr>
                <a:t>prote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important ‘unalienable 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ight’ for resear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rrelation of PII among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ervice providers could allow profil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change of PII often fraught with issu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1" name="Picture 3" descr=""/>
            <p:cNvPicPr/>
            <p:nvPr/>
          </p:nvPicPr>
          <p:blipFill>
            <a:blip r:embed="rId2"/>
            <a:stretch/>
          </p:blipFill>
          <p:spPr>
            <a:xfrm>
              <a:off x="3203640" y="1165680"/>
              <a:ext cx="1153080" cy="1543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2" name="Group 13"/>
          <p:cNvGrpSpPr/>
          <p:nvPr/>
        </p:nvGrpSpPr>
        <p:grpSpPr>
          <a:xfrm>
            <a:off x="5148360" y="2143080"/>
            <a:ext cx="3781440" cy="1616040"/>
            <a:chOff x="5148360" y="2143080"/>
            <a:chExt cx="3781440" cy="1616040"/>
          </a:xfrm>
        </p:grpSpPr>
        <p:pic>
          <p:nvPicPr>
            <p:cNvPr id="843" name="Picture 4" descr=""/>
            <p:cNvPicPr/>
            <p:nvPr/>
          </p:nvPicPr>
          <p:blipFill>
            <a:blip r:embed="rId3"/>
            <a:stretch/>
          </p:blipFill>
          <p:spPr>
            <a:xfrm>
              <a:off x="7129440" y="2287080"/>
              <a:ext cx="173016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4" name="TextBox 15"/>
            <p:cNvSpPr/>
            <p:nvPr/>
          </p:nvSpPr>
          <p:spPr>
            <a:xfrm>
              <a:off x="5148360" y="2143080"/>
              <a:ext cx="3781440" cy="1616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2060"/>
                  </a:solidFill>
                  <a:latin typeface="Arial"/>
                </a:rPr>
                <a:t>Measurement and</a:t>
              </a:r>
              <a:br>
                <a:rPr sz="1800"/>
              </a:br>
              <a:r>
                <a:rPr b="1" lang="en-GB" sz="1800" spc="-1" strike="noStrike">
                  <a:solidFill>
                    <a:srgbClr val="002060"/>
                  </a:solidFill>
                  <a:latin typeface="Arial"/>
                </a:rPr>
                <a:t>Accoun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ublication metric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usage metering, bill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uditing and compliance monitor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TextBox 16"/>
          <p:cNvSpPr/>
          <p:nvPr/>
        </p:nvSpPr>
        <p:spPr>
          <a:xfrm>
            <a:off x="5003640" y="4349880"/>
            <a:ext cx="414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0000"/>
                </a:solidFill>
                <a:latin typeface="Arial"/>
              </a:rPr>
              <a:t>identity lives </a:t>
            </a:r>
            <a:br>
              <a:rPr sz="2000"/>
            </a:br>
            <a:r>
              <a:rPr b="0" lang="en-GB" sz="2000" spc="-1" strike="noStrike">
                <a:solidFill>
                  <a:srgbClr val="c00000"/>
                </a:solidFill>
                <a:latin typeface="Arial"/>
              </a:rPr>
              <a:t>in a policy ecosystem </a:t>
            </a:r>
            <a:br>
              <a:rPr sz="2000"/>
            </a:br>
            <a:r>
              <a:rPr b="0" lang="en-GB" sz="2000" spc="-1" strike="noStrike">
                <a:solidFill>
                  <a:srgbClr val="c00000"/>
                </a:solidFill>
                <a:latin typeface="Arial"/>
              </a:rPr>
              <a:t>to protect all particip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 </a:t>
            </a:r>
            <a:br>
              <a:rPr sz="2000"/>
            </a:br>
            <a:r>
              <a:rPr b="1" i="1" lang="en-GB" sz="2000" spc="-1" strike="noStrike">
                <a:solidFill>
                  <a:srgbClr val="c00000"/>
                </a:solidFill>
                <a:latin typeface="Arial"/>
              </a:rPr>
              <a:t>commensurate to their risk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6" name="Group 17"/>
          <p:cNvGrpSpPr/>
          <p:nvPr/>
        </p:nvGrpSpPr>
        <p:grpSpPr>
          <a:xfrm>
            <a:off x="4859280" y="1093680"/>
            <a:ext cx="4064040" cy="855000"/>
            <a:chOff x="4859280" y="1093680"/>
            <a:chExt cx="4064040" cy="855000"/>
          </a:xfrm>
        </p:grpSpPr>
        <p:sp>
          <p:nvSpPr>
            <p:cNvPr id="847" name="TextBox 18"/>
            <p:cNvSpPr/>
            <p:nvPr/>
          </p:nvSpPr>
          <p:spPr>
            <a:xfrm>
              <a:off x="4859280" y="1093680"/>
              <a:ext cx="4064040" cy="855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2060"/>
                  </a:solidFill>
                  <a:latin typeface="Arial"/>
                </a:rPr>
                <a:t>Access Control Attribute hand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unique bind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ever re-assigned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8" name="Picture 3" descr=""/>
            <p:cNvPicPr/>
            <p:nvPr/>
          </p:nvPicPr>
          <p:blipFill>
            <a:blip r:embed="rId4"/>
            <a:stretch/>
          </p:blipFill>
          <p:spPr>
            <a:xfrm>
              <a:off x="8504640" y="1412640"/>
              <a:ext cx="315720" cy="52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TextBox 21"/>
          <p:cNvSpPr/>
          <p:nvPr/>
        </p:nvSpPr>
        <p:spPr>
          <a:xfrm>
            <a:off x="581040" y="3305160"/>
            <a:ext cx="4062240" cy="61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Arial"/>
              </a:rPr>
              <a:t>Regulatory compl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eed to know who you let in beforeh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  <a:ea typeface="Arial"/>
              </a:rPr>
              <a:t>Redistributing responsibilitie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1" name="Date Placeholder 3"/>
          <p:cNvSpPr/>
          <p:nvPr/>
        </p:nvSpPr>
        <p:spPr>
          <a:xfrm>
            <a:off x="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13-04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Footer Placeholder 4"/>
          <p:cNvSpPr/>
          <p:nvPr/>
        </p:nvSpPr>
        <p:spPr>
          <a:xfrm>
            <a:off x="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owards differentiated collaborative Lo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Box 6"/>
          <p:cNvSpPr/>
          <p:nvPr/>
        </p:nvSpPr>
        <p:spPr>
          <a:xfrm>
            <a:off x="108000" y="1093680"/>
            <a:ext cx="4680000" cy="241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Subject (ID)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Effectiv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LoA is re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given actions, resources, and acceptable residual risk,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quired ID assurance is a gi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n shift ‘line’ in identity trust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Box 7"/>
          <p:cNvSpPr/>
          <p:nvPr/>
        </p:nvSpPr>
        <p:spPr>
          <a:xfrm>
            <a:off x="4932360" y="2313000"/>
            <a:ext cx="3959280" cy="2106000"/>
          </a:xfrm>
          <a:prstGeom prst="rect">
            <a:avLst/>
          </a:prstGeom>
          <a:solidFill>
            <a:srgbClr val="d6d6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Action (app)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re constraint actions can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wer need for identity L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J)SPG </a:t>
            </a:r>
            <a:r>
              <a:rPr b="1" lang="en-GB" sz="2000" spc="-1" strike="noStrike">
                <a:solidFill>
                  <a:srgbClr val="002060"/>
                </a:solidFill>
                <a:latin typeface="Arial"/>
              </a:rPr>
              <a:t>VO Portal policy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d just that: 4 levels of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Box 8"/>
          <p:cNvSpPr/>
          <p:nvPr/>
        </p:nvSpPr>
        <p:spPr>
          <a:xfrm>
            <a:off x="684360" y="4581360"/>
            <a:ext cx="8207280" cy="1496160"/>
          </a:xfrm>
          <a:prstGeom prst="rect">
            <a:avLst/>
          </a:prstGeom>
          <a:solidFill>
            <a:srgbClr val="c2ff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Resource (value)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access to wireless network does not pose huge risks,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can live with a lower identity LoA (eduro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6" name="Picture 2" descr="H:\Home\davidg\EUGridPMA\IGTF\IGTF-logos\IGTF-logo-mini.wmf"/>
          <p:cNvPicPr/>
          <p:nvPr/>
        </p:nvPicPr>
        <p:blipFill>
          <a:blip r:embed="rId1"/>
          <a:stretch/>
        </p:blipFill>
        <p:spPr>
          <a:xfrm>
            <a:off x="3832200" y="1190520"/>
            <a:ext cx="593640" cy="312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  <a:ea typeface="Arial"/>
              </a:rPr>
              <a:t>Trust Element Distribution (Classic, MICS)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8" name="Date Placeholder 3"/>
          <p:cNvSpPr/>
          <p:nvPr/>
        </p:nvSpPr>
        <p:spPr>
          <a:xfrm>
            <a:off x="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13-04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Footer Placeholder 4"/>
          <p:cNvSpPr/>
          <p:nvPr/>
        </p:nvSpPr>
        <p:spPr>
          <a:xfrm>
            <a:off x="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owards differentiated collaborative Lo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Box 7"/>
          <p:cNvSpPr/>
          <p:nvPr/>
        </p:nvSpPr>
        <p:spPr>
          <a:xfrm>
            <a:off x="250920" y="1093680"/>
            <a:ext cx="4249800" cy="41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Technical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grity of the roots of t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grity of issuanc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cess incident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vocation cap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y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dential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ident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Box 9"/>
          <p:cNvSpPr/>
          <p:nvPr/>
        </p:nvSpPr>
        <p:spPr>
          <a:xfrm>
            <a:off x="4653000" y="1093680"/>
            <a:ext cx="4248000" cy="463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Identity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dentifier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-binding and rev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inding to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ceability of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mergency 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gular 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ch’ attribute asser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rrelating ident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ess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Box 10"/>
          <p:cNvSpPr/>
          <p:nvPr/>
        </p:nvSpPr>
        <p:spPr>
          <a:xfrm>
            <a:off x="250920" y="5877000"/>
            <a:ext cx="865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</a:rPr>
              <a:t>Verifiability &amp; Response, mitigation, reco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Straight Connector 12"/>
          <p:cNvSpPr/>
          <p:nvPr/>
        </p:nvSpPr>
        <p:spPr>
          <a:xfrm>
            <a:off x="4932360" y="4076640"/>
            <a:ext cx="3743280" cy="0"/>
          </a:xfrm>
          <a:prstGeom prst="line">
            <a:avLst/>
          </a:prstGeom>
          <a:ln w="936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Straight Connector 13"/>
          <p:cNvSpPr/>
          <p:nvPr/>
        </p:nvSpPr>
        <p:spPr>
          <a:xfrm>
            <a:off x="503280" y="3645000"/>
            <a:ext cx="3744720" cy="0"/>
          </a:xfrm>
          <a:prstGeom prst="line">
            <a:avLst/>
          </a:prstGeom>
          <a:ln w="936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Box 1"/>
          <p:cNvSpPr/>
          <p:nvPr/>
        </p:nvSpPr>
        <p:spPr>
          <a:xfrm rot="16200000">
            <a:off x="3691440" y="2686680"/>
            <a:ext cx="176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00000"/>
                </a:solidFill>
                <a:latin typeface="Arial"/>
              </a:rPr>
              <a:t>IGTF Classic 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Box 10"/>
          <p:cNvSpPr/>
          <p:nvPr/>
        </p:nvSpPr>
        <p:spPr>
          <a:xfrm rot="16200000">
            <a:off x="3617640" y="4818960"/>
            <a:ext cx="191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2060"/>
                </a:solidFill>
                <a:latin typeface="Arial"/>
              </a:rPr>
              <a:t>RP, Community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66"/>
                </a:solidFill>
                <a:latin typeface="Arial"/>
                <a:ea typeface="Arial"/>
              </a:rPr>
              <a:t>Collaborative assurance?</a:t>
            </a:r>
            <a:endParaRPr b="1" lang="en-US" sz="36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838080" y="1295280"/>
            <a:ext cx="82965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PRACE T1 (“DEISA”) centre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Users run applications across the infrastructur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ll originate from a home site </a:t>
            </a:r>
            <a:r>
              <a:rPr b="0" i="1" lang="en-GB" sz="2000" spc="-1" strike="noStrike">
                <a:solidFill>
                  <a:srgbClr val="000066"/>
                </a:solidFill>
                <a:latin typeface="Lucida Sans"/>
              </a:rPr>
              <a:t>inside </a:t>
            </a: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the infrastructure where they are fully known personally and have gone through a thorough vetting proces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Home site </a:t>
            </a:r>
            <a:r>
              <a:rPr b="0" i="1" lang="en-GB" sz="2000" spc="-1" strike="noStrike">
                <a:solidFill>
                  <a:srgbClr val="000066"/>
                </a:solidFill>
                <a:latin typeface="Lucida Sans"/>
              </a:rPr>
              <a:t>distributes</a:t>
            </a: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 this knowledge actively towards the other centres (through a central LDAP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66"/>
                </a:solidFill>
                <a:latin typeface="Lucida Sans"/>
              </a:rPr>
              <a:t>So some of the </a:t>
            </a:r>
            <a:r>
              <a:rPr b="0" i="1" lang="en-GB" sz="2000" spc="-1" strike="noStrike">
                <a:solidFill>
                  <a:srgbClr val="c00000"/>
                </a:solidFill>
                <a:latin typeface="Lucida Sans"/>
              </a:rPr>
              <a:t>identity elements</a:t>
            </a:r>
            <a:r>
              <a:rPr b="0" i="1" lang="en-GB" sz="2000" spc="-1" strike="noStrike">
                <a:solidFill>
                  <a:srgbClr val="000066"/>
                </a:solidFill>
                <a:latin typeface="Lucida Sans"/>
              </a:rPr>
              <a:t> of trust already don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XSEDE might be similar?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even wLCG is somewhat similar … through CERN HR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9" name="Date Placeholder 3"/>
          <p:cNvSpPr/>
          <p:nvPr/>
        </p:nvSpPr>
        <p:spPr>
          <a:xfrm>
            <a:off x="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13-04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Footer Placeholder 4"/>
          <p:cNvSpPr/>
          <p:nvPr/>
        </p:nvSpPr>
        <p:spPr>
          <a:xfrm>
            <a:off x="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owards differentiated collaborative Lo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Box 5"/>
          <p:cNvSpPr/>
          <p:nvPr/>
        </p:nvSpPr>
        <p:spPr>
          <a:xfrm>
            <a:off x="1220760" y="1044720"/>
            <a:ext cx="70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c00000"/>
                </a:solidFill>
                <a:latin typeface="Arial"/>
              </a:rPr>
              <a:t>I’m hopefully not misrepresenting Jules Wolfrat for PRACE here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Down Arrow 1"/>
          <p:cNvSpPr/>
          <p:nvPr/>
        </p:nvSpPr>
        <p:spPr>
          <a:xfrm>
            <a:off x="3780000" y="5300640"/>
            <a:ext cx="2016000" cy="289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Box 3"/>
          <p:cNvSpPr/>
          <p:nvPr/>
        </p:nvSpPr>
        <p:spPr>
          <a:xfrm>
            <a:off x="1477080" y="5703840"/>
            <a:ext cx="649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istribution of  responsibilities: a new profi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Light-weight ID vetting environment AP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Cater for those use cases where 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the RPs (VOs) already collect identity data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this RP (VO) data is authoritative and provides traceability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the ‘identity’ component of the credential is not used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through an AP where the authority provides only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persistent, non-reused identifier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traceability </a:t>
            </a:r>
            <a:r>
              <a:rPr b="0" i="1" lang="en-GB" sz="2000" spc="-1" strike="noStrike">
                <a:solidFill>
                  <a:srgbClr val="000066"/>
                </a:solidFill>
                <a:latin typeface="Lucida Sans"/>
              </a:rPr>
              <a:t>only</a:t>
            </a: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 at time of issuanc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naming be real or pseudonymous (discussion on going!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good security for issuance processes and system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and where the RP will have to take care of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subscribers changing name often (in case traceability at issuing authority is lost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ll ‘named’ identity vetting, naming and contact detail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207720" y="151920"/>
            <a:ext cx="890100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00000"/>
                </a:solidFill>
                <a:latin typeface="Lucida Sans"/>
              </a:rPr>
              <a:t>‘</a:t>
            </a:r>
            <a:r>
              <a:rPr b="1" lang="en-GB" sz="3000" spc="-1" strike="noStrike">
                <a:solidFill>
                  <a:srgbClr val="c00000"/>
                </a:solidFill>
                <a:latin typeface="Lucida Sans"/>
              </a:rPr>
              <a:t>Light-weight Identity Vetting Environment’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611280" y="1196640"/>
            <a:ext cx="807552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as seen from the IdP/authority side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Must be complemented by the RP </a:t>
            </a:r>
            <a:br>
              <a:rPr sz="2400"/>
            </a:b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to profile full vetting and integrity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cxnSp>
        <p:nvCxnSpPr>
          <p:cNvPr id="878" name="Straight Arrow Connector 6"/>
          <p:cNvCxnSpPr/>
          <p:nvPr/>
        </p:nvCxnSpPr>
        <p:spPr>
          <a:xfrm>
            <a:off x="1414080" y="3565440"/>
            <a:ext cx="1080" cy="2664720"/>
          </a:xfrm>
          <a:prstGeom prst="straightConnector1">
            <a:avLst/>
          </a:prstGeom>
          <a:ln w="57240">
            <a:solidFill>
              <a:srgbClr val="c00000"/>
            </a:solidFill>
            <a:miter/>
            <a:headEnd len="med" type="stealth" w="lg"/>
            <a:tailEnd len="med" type="oval" w="med"/>
          </a:ln>
        </p:spPr>
      </p:cxnSp>
      <p:sp>
        <p:nvSpPr>
          <p:cNvPr id="879" name="TextBox 7"/>
          <p:cNvSpPr/>
          <p:nvPr/>
        </p:nvSpPr>
        <p:spPr>
          <a:xfrm>
            <a:off x="539640" y="4305240"/>
            <a:ext cx="89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tting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A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Line Callout 1 (Accent Bar) 10"/>
          <p:cNvSpPr/>
          <p:nvPr/>
        </p:nvSpPr>
        <p:spPr>
          <a:xfrm>
            <a:off x="3143160" y="5929200"/>
            <a:ext cx="5100840" cy="45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804" y="82363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f2f2f2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"/>
              </a:rPr>
              <a:t>LoA 0: ‘like conventional unsigned email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1" name="Line Callout 1 (Accent Bar) 11" descr=""/>
          <p:cNvPicPr/>
          <p:nvPr/>
        </p:nvPicPr>
        <p:blipFill>
          <a:blip r:embed="rId1"/>
          <a:stretch/>
        </p:blipFill>
        <p:spPr>
          <a:xfrm>
            <a:off x="1719360" y="5425920"/>
            <a:ext cx="6522840" cy="451080"/>
          </a:xfrm>
          <a:prstGeom prst="rect">
            <a:avLst/>
          </a:prstGeom>
          <a:ln w="0">
            <a:noFill/>
          </a:ln>
        </p:spPr>
      </p:pic>
      <p:pic>
        <p:nvPicPr>
          <p:cNvPr id="882" name="Line Callout 1 (Accent Bar) 12" descr=""/>
          <p:cNvPicPr/>
          <p:nvPr/>
        </p:nvPicPr>
        <p:blipFill>
          <a:blip r:embed="rId2"/>
          <a:stretch/>
        </p:blipFill>
        <p:spPr>
          <a:xfrm>
            <a:off x="1652760" y="4900680"/>
            <a:ext cx="7253280" cy="585720"/>
          </a:xfrm>
          <a:prstGeom prst="rect">
            <a:avLst/>
          </a:prstGeom>
          <a:ln w="0">
            <a:noFill/>
          </a:ln>
        </p:spPr>
      </p:pic>
      <p:pic>
        <p:nvPicPr>
          <p:cNvPr id="883" name="Line Callout 1 (Accent Bar) 13" descr=""/>
          <p:cNvPicPr/>
          <p:nvPr/>
        </p:nvPicPr>
        <p:blipFill>
          <a:blip r:embed="rId3"/>
          <a:stretch/>
        </p:blipFill>
        <p:spPr>
          <a:xfrm>
            <a:off x="1663560" y="4346640"/>
            <a:ext cx="7559640" cy="506520"/>
          </a:xfrm>
          <a:prstGeom prst="rect">
            <a:avLst/>
          </a:prstGeom>
          <a:ln w="0">
            <a:noFill/>
          </a:ln>
        </p:spPr>
      </p:pic>
      <p:pic>
        <p:nvPicPr>
          <p:cNvPr id="884" name="Line Callout 1 (Accent Bar) 14" descr=""/>
          <p:cNvPicPr/>
          <p:nvPr/>
        </p:nvPicPr>
        <p:blipFill>
          <a:blip r:embed="rId4"/>
          <a:stretch/>
        </p:blipFill>
        <p:spPr>
          <a:xfrm>
            <a:off x="1652760" y="3943440"/>
            <a:ext cx="7607160" cy="585720"/>
          </a:xfrm>
          <a:prstGeom prst="rect">
            <a:avLst/>
          </a:prstGeom>
          <a:ln w="0">
            <a:noFill/>
          </a:ln>
        </p:spPr>
      </p:pic>
      <p:pic>
        <p:nvPicPr>
          <p:cNvPr id="885" name="Line Callout 1 (Accent Bar) 15" descr=""/>
          <p:cNvPicPr/>
          <p:nvPr/>
        </p:nvPicPr>
        <p:blipFill>
          <a:blip r:embed="rId5"/>
          <a:stretch/>
        </p:blipFill>
        <p:spPr>
          <a:xfrm>
            <a:off x="1700280" y="3389400"/>
            <a:ext cx="6462720" cy="585720"/>
          </a:xfrm>
          <a:prstGeom prst="rect">
            <a:avLst/>
          </a:prstGeom>
          <a:ln w="0">
            <a:noFill/>
          </a:ln>
        </p:spPr>
      </p:pic>
      <p:sp>
        <p:nvSpPr>
          <p:cNvPr id="886" name="TextBox 8"/>
          <p:cNvSpPr/>
          <p:nvPr/>
        </p:nvSpPr>
        <p:spPr>
          <a:xfrm>
            <a:off x="5040" y="5478480"/>
            <a:ext cx="106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somewhat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y personal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ew …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rry for b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Box 16"/>
          <p:cNvSpPr/>
          <p:nvPr/>
        </p:nvSpPr>
        <p:spPr>
          <a:xfrm>
            <a:off x="1104480" y="5465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Box 17"/>
          <p:cNvSpPr/>
          <p:nvPr/>
        </p:nvSpPr>
        <p:spPr>
          <a:xfrm>
            <a:off x="1093320" y="3798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Box 18"/>
          <p:cNvSpPr/>
          <p:nvPr/>
        </p:nvSpPr>
        <p:spPr>
          <a:xfrm>
            <a:off x="639360" y="319572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0" name="Straight Arrow Connector 3"/>
          <p:cNvCxnSpPr/>
          <p:nvPr/>
        </p:nvCxnSpPr>
        <p:spPr>
          <a:xfrm>
            <a:off x="1692000" y="4397400"/>
            <a:ext cx="1080" cy="54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891" name="TextBox 4"/>
          <p:cNvSpPr/>
          <p:nvPr/>
        </p:nvSpPr>
        <p:spPr>
          <a:xfrm>
            <a:off x="1692360" y="449280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P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  <a:ea typeface="Arial"/>
              </a:rPr>
              <a:t>From IGTF to RP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Lucida Sans"/>
              </a:rPr>
              <a:t>IGTF Distribution is </a:t>
            </a:r>
            <a:r>
              <a:rPr b="0" i="1" lang="en-GB" sz="2800" spc="-1" strike="noStrike">
                <a:solidFill>
                  <a:srgbClr val="000066"/>
                </a:solidFill>
                <a:latin typeface="Lucida Sans"/>
              </a:rPr>
              <a:t>not monolithic</a:t>
            </a:r>
            <a:endParaRPr b="0" lang="en-US" sz="2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Authorities comes in ‘bundles’ for each profile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RPs select one or more ‘profiles’ as sufficient</a:t>
            </a:r>
            <a:br>
              <a:rPr sz="2400"/>
            </a:b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and may add their own authorities as wel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e.g: “EGI policy on trusted authorities” accepts Classic, MICS and  SLC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66"/>
                </a:solidFill>
                <a:latin typeface="Lucida Sans"/>
              </a:rPr>
              <a:t>And there is no ‘IGTF all’ distribution – </a:t>
            </a:r>
            <a:r>
              <a:rPr b="0" i="1" lang="en-GB" sz="2400" spc="-1" strike="noStrike">
                <a:solidFill>
                  <a:srgbClr val="c00000"/>
                </a:solidFill>
                <a:latin typeface="Lucida Sans"/>
              </a:rPr>
              <a:t>on purpose</a:t>
            </a:r>
            <a:r>
              <a:rPr b="0" i="1" lang="en-GB" sz="2400" spc="-1" strike="noStrike">
                <a:solidFill>
                  <a:srgbClr val="000066"/>
                </a:solidFill>
                <a:latin typeface="Lucida Sans"/>
              </a:rPr>
              <a:t>!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Lucida Sans"/>
              </a:rPr>
              <a:t>With more diverse profiles (and LoAs) </a:t>
            </a:r>
            <a:br>
              <a:rPr sz="2800"/>
            </a:br>
            <a:r>
              <a:rPr b="0" lang="en-GB" sz="2800" spc="-1" strike="noStrike">
                <a:solidFill>
                  <a:srgbClr val="000066"/>
                </a:solidFill>
                <a:latin typeface="Lucida Sans"/>
              </a:rPr>
              <a:t>RPs will make </a:t>
            </a:r>
            <a:r>
              <a:rPr b="0" lang="en-GB" sz="2800" spc="-1" strike="noStrike">
                <a:solidFill>
                  <a:srgbClr val="c00000"/>
                </a:solidFill>
                <a:latin typeface="Lucida Sans"/>
              </a:rPr>
              <a:t>more diverse choices</a:t>
            </a:r>
            <a:endParaRPr b="0" lang="en-US" sz="28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94" name="TextBox 5"/>
          <p:cNvSpPr/>
          <p:nvPr/>
        </p:nvSpPr>
        <p:spPr>
          <a:xfrm>
            <a:off x="8640" y="6070680"/>
            <a:ext cx="776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00000"/>
                </a:solidFill>
                <a:latin typeface="Arial"/>
              </a:rPr>
              <a:t>For your interest: EGI SPG policy on Approval of Certification Authorities, https://documents.egi.eu/document/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09:14:57Z</dcterms:created>
  <dc:creator>davidg</dc:creator>
  <dc:description/>
  <dc:language>en-US</dc:language>
  <cp:lastModifiedBy>davidg</cp:lastModifiedBy>
  <dcterms:modified xsi:type="dcterms:W3CDTF">2013-05-07T15:26:06Z</dcterms:modified>
  <cp:revision>244</cp:revision>
  <dc:subject/>
  <dc:title>Slide 1</dc:title>
</cp:coreProperties>
</file>