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8A4FA8C-7C23-409C-8B12-70EC88F0ED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E5067BD-0E24-401C-920E-38B44898C8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939DEC3-E806-4F73-881E-3DBCF2958CD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A2E78B3-A08A-4263-B2DA-B96EA9470CF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87CD8CB-059D-42CE-90DE-D506971025F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C17AE0F1-677D-4A0E-A320-CF62649F235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482B816-7894-4BFF-BB32-06C82DB90AB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1241BCCF-73B6-4AE9-A120-4533634A40D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B87D196-5C9F-4C88-B289-20586D50411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7BAF971F-CD87-476B-8863-09A4306CE57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B1B5F81-BBF2-4F1F-84EE-1B0EF50DE6C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D1F6E52-A36B-4942-B749-C2314E719C0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64A48C8-CD37-4F1A-8441-0B2366F44A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OCSP Guideline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hy OCSP for Grid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hould be less error-prone than fetch-crl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supported in softw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many fetch-crl issues come from site config trou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CRL downloads are also a ‘DoS’ against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ives support for dynamicly-inserted sub-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 advance knowledge needed of all CRL CD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hen used in conjunction with new namespa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hould enable dynamic sub-CA suppor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s more timely than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d 6-24 hours, which is ‘reasonable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in many cases (web!) CRL is not retrieved at all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CSP styl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ull-blown real time OCSP (RFC2560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vides protection against replay attac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sing nonce supplied by cli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computed and signed in real-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Lots of inbound data so needs HTTP POS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Light-weight OCSP (RFC5019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im is to be cachable (and stapleable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er HTTP G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-nonces (in rep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cheable, with HTTP headers set according to respons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es not contain dynamic data, so can be replay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and thus needs short ‘life time’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Light-weight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FC5019 leaves some deployment options ope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hoices can be ‘good’ or ‘bad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has to decide on how to generate respons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CA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stakes by RPs in settings can easily lead to DDo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mplement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ixed quality, many implementation miss out on spec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minor (uses GET even for large requests), or major (always use POST, so response cannot be cached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pling’ RFC 6066 is not widely supported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emingly apache and nginx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ven standard OCSP not fully supported by Griddy MW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but it acively worked on, and our guidance apprecia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act on CA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now, it adds network load to the C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nce we do not expect CRL retrieval to stop immediate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one OCSP request will be sent for each service ac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OCSP load is related to the ‘popularity’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e (subscriber base) of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ow ‘active’ the subscribers a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request/response is relatively sma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ot that many by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of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CSP is a critical service (use a HA setup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gressing with OCS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me Cas (DigiCert, TCS/Comodo) already have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ew others are almost ready, with RFC5019 or 2560, e.g.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SNE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ut a lot are waiting – would profit from guidance: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, software tool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Guidance for RPs and develop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‘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per’ OCSP clients and RFC5019 not really the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n ‘expected responses’ helps a lot for cod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actical examples to help interpret RFC5019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cenarios to make sure RPs don’t DoS us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OGF CAOPS-WG &amp; IGTF Docu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 two docu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CAs: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ofile of RFC5019 and expected response cont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suggestions (pre-computed, no/simple VA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hints for good HTTP head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RPs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oftware development guidance on app-level cach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all-back to CR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ane cache time defaul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eployment guidance on (squid) caching servic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2T18:53:38Z</dcterms:modified>
  <cp:revision>610</cp:revision>
  <dc:subject/>
  <dc:title>European Grid Policy Management Authority</dc:title>
</cp:coreProperties>
</file>