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344BD0C-28F2-46FB-9047-C927D2EBEB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D30A5C6-A750-42B5-A5B3-217BA809B1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FE9C60A6-3D39-4547-B88D-FD52F23A708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016F84EE-5CCA-4E1D-9B7F-D16315FCDDC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97C2273-FDF8-4478-B941-1A996743746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E8E41FE-2DEA-4FEF-B0BB-BE719F0300B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6BFCBF97-0684-4090-BC55-D55F8FD5A76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B4282B6F-D1A1-40E5-AD68-83CE8388222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3BA2BB21-23C2-4F46-9136-77EF6D73623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4B9CAC49-8418-4595-B022-9F837E3BF53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EC081D6A-5886-42D6-9DF6-728D16B2205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93F84C5-98A7-42AA-9532-F44465A7157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7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Rome – Jan 2013- </a:t>
              </a:r>
              <a:fld id="{2AE945D6-99A0-4A58-A3BE-1EDDEADDB9A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7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14-16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Rome, Italy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" descr="Milan Sova"/>
          <p:cNvPicPr/>
          <p:nvPr/>
        </p:nvPicPr>
        <p:blipFill>
          <a:blip r:embed="rId2"/>
          <a:stretch/>
        </p:blipFill>
        <p:spPr>
          <a:xfrm>
            <a:off x="2994120" y="1055520"/>
            <a:ext cx="3155760" cy="474696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4"/>
          <p:cNvSpPr/>
          <p:nvPr/>
        </p:nvSpPr>
        <p:spPr>
          <a:xfrm>
            <a:off x="309600" y="533520"/>
            <a:ext cx="86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lan S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09600" y="5802480"/>
            <a:ext cx="86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962-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H:\Home\davidg\EUGridPMA\Meetings\2013-01-Rome\P1030545-small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1"/>
          <p:cNvSpPr/>
          <p:nvPr/>
        </p:nvSpPr>
        <p:spPr>
          <a:xfrm>
            <a:off x="299880" y="5502240"/>
            <a:ext cx="86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ttp://milansovacesnet.wordpress.com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3" descr="H:\Home\davidg\EUGridPMA\Meetings\2013-01-Rome\IMG_0974-cropped-small.jpg"/>
          <p:cNvPicPr/>
          <p:nvPr/>
        </p:nvPicPr>
        <p:blipFill>
          <a:blip r:embed="rId2"/>
          <a:stretch/>
        </p:blipFill>
        <p:spPr>
          <a:xfrm>
            <a:off x="1349280" y="685800"/>
            <a:ext cx="642312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952560" y="1419120"/>
            <a:ext cx="80913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GARR and Roberto Cecchini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464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AR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3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  https://webconf.vc.dfn.de/r17159825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dyo desktop client has basic screen shar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990000"/>
                </a:solidFill>
                <a:latin typeface="Lucida Sans"/>
              </a:rPr>
              <a:t>http://vidyoportal.cern.ch/flex.html?roomdirect.html&amp;key=hJyvnjcRuVLC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952560" y="1419120"/>
            <a:ext cx="80913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923760" y="1509840"/>
            <a:ext cx="797904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817560" y="1182600"/>
            <a:ext cx="790092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Upcoming ev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8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Kyiv, UA, May 13-15, 2013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37: March 11-13, Charlottesville, VA, 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SGC &amp; APGridPMA: March 22, Taipei, TW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9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eptember 9-11, Bucharest, 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5840" y="6415200"/>
            <a:ext cx="987480" cy="42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1-10T14:25:13Z</dcterms:modified>
  <cp:revision>603</cp:revision>
  <dc:subject/>
  <dc:title>European Grid Policy Management Authority</dc:title>
</cp:coreProperties>
</file>