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D8614FE-9518-4CDB-B5D8-8B9EE619F8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CBE4EB5-E278-4D38-8BC8-349958E766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F843B928-F507-4D5F-A48F-099A7D454B2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E0E0B88A-BC4E-4212-A768-52CE34D9F88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D88869CA-B9B5-4446-803F-5747B8A3F14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0F033655-EAF6-488B-9C65-E549E007141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0F915251-93E7-4B7D-9989-8D573A2F64E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AAD080C1-6B50-40D2-B24D-F23DC8666E9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45387672-7B7A-4A77-BF17-91D01CAADBF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99A330D1-190C-4715-B800-B2ACD018613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E3471383-FE18-4A6E-A401-4C551BB11C8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6FC719B9-1526-497C-95FA-4B74EE7FA91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EA426AF0-62D3-4B32-A0B1-D1B5FDBC288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Self-Audit statu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4-16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Rome, Italy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ending audit results &amp; review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838080" y="1295280"/>
          <a:ext cx="8040960" cy="4449960"/>
        </p:xfrm>
        <a:graphic>
          <a:graphicData uri="http://schemas.openxmlformats.org/drawingml/2006/table">
            <a:tbl>
              <a:tblPr/>
              <a:tblGrid>
                <a:gridCol w="2679840"/>
                <a:gridCol w="2681280"/>
                <a:gridCol w="2679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elf-au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vie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altic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aveK, Oleksan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rmeS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Jens, +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PK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avidG, +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EE-Grid Catc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dgars, Davi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Y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2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hijs, Sha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Jean-Christophe, +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rsula, Davi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G.AC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dgars, Bo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MAR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mir, Davi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Ke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9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illy, Alex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el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11-01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Reimer, On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Upcoming self audi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838080" y="1231920"/>
          <a:ext cx="8040960" cy="4449600"/>
        </p:xfrm>
        <a:graphic>
          <a:graphicData uri="http://schemas.openxmlformats.org/drawingml/2006/table">
            <a:tbl>
              <a:tblPr/>
              <a:tblGrid>
                <a:gridCol w="2679840"/>
                <a:gridCol w="2681280"/>
                <a:gridCol w="2679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vie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lovak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o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MD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omorr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IIF/Hungar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omorr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ordu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ext meeting (‘IIRC’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pkIRIS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IP-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ustrian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IP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Renater/Grid-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EG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t 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PL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ES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RAN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ES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RAN-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1-10T14:44:12Z</dcterms:modified>
  <cp:revision>606</cp:revision>
  <dc:subject/>
  <dc:title>European Grid Policy Management Authority</dc:title>
</cp:coreProperties>
</file>