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7BBD2-8B5C-4B98-B012-2A0AC2D29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C7559-9D20-4517-B21E-422F49D5FC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26D1F-BD20-4980-9070-F56D2340253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7882F-0563-4A1A-9583-7302372259E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2CA8D-B676-4156-9C41-DFA8CA47428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C570-B30C-41A1-903A-31D0632D6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FAE4-B186-4086-8B18-6290D5907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B986-6723-4D0E-8F85-DA9E3767D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764D-903F-48A2-8C18-A3AF66725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ABCBE-D742-408C-BA56-433381EB29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31DAE-0040-4E4C-9A64-72413F9D28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0390-46D8-4E73-8082-8C725EC80D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21A7E-A2F3-468A-A4AA-B8075A6180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0C66B-3C8F-4F79-AC75-1D6303E87F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5D8D-7562-49C0-B77E-5892109A4D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0616-D73E-4DBD-8FEC-34F80EF951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BBB9-C440-4EBD-B102-38FA7B90D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FE026-E9E3-4E3E-A017-A67B374CC2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1419-8C14-4DE2-BD4E-C59F50FB59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3AAB7-03CF-41D9-B5E6-DF382CBCC6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1FE7B-3419-4A3E-AB07-5BC8C7809C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A81C7-3132-46C4-8888-FF33490A2B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F9D3-0BB8-4ADE-9F52-E18C79EAF6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8F9B-526B-41C1-AAAB-AAA659E92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C81D-0762-4ECF-8E43-7960174A5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08E6-4EE1-4059-9869-B82525817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5CB6-3D0A-4A0C-9725-37FEBF1D0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B3C8-F45B-4975-A4E4-ADC83718A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A2EB-37E5-4527-A09A-FE801B3AB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40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90DAA-29CF-45A0-A882-4721908E85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7"/>
          <p:cNvGrpSpPr/>
          <p:nvPr/>
        </p:nvGrpSpPr>
        <p:grpSpPr>
          <a:xfrm>
            <a:off x="5403960" y="214200"/>
            <a:ext cx="3527280" cy="1287000"/>
            <a:chOff x="5403960" y="214200"/>
            <a:chExt cx="3527280" cy="1287000"/>
          </a:xfrm>
        </p:grpSpPr>
        <p:sp>
          <p:nvSpPr>
            <p:cNvPr id="42" name="WordArt 5"/>
            <p:cNvSpPr txBox="1"/>
            <p:nvPr/>
          </p:nvSpPr>
          <p:spPr>
            <a:xfrm>
              <a:off x="5457960" y="2142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6"/>
            <p:cNvSpPr/>
            <p:nvPr/>
          </p:nvSpPr>
          <p:spPr>
            <a:xfrm>
              <a:off x="5403960" y="8586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40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2A3E4-66F7-4FF2-8BA4-622BFD7EBC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dsimmel@psc.edu" TargetMode="External"/><Relationship Id="rId2" Type="http://schemas.openxmlformats.org/officeDocument/2006/relationships/hyperlink" Target="mailto:Scott@DigiCert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rek Simm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27</a:t>
            </a:r>
            <a:r>
              <a:rPr b="0" lang="en-GB" sz="2600" spc="-1" strike="noStrike" baseline="30000">
                <a:solidFill>
                  <a:srgbClr val="008000"/>
                </a:solidFill>
                <a:latin typeface="Calibri"/>
              </a:rPr>
              <a:t>th</a:t>
            </a: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 EUGridPMA Meeting</a:t>
            </a:r>
            <a:br>
              <a:rPr sz="2600"/>
            </a:b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Rome, Ita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January 14-16, 20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SHA-2 Deployment Timeline discussion</a:t>
            </a:r>
            <a:endParaRPr b="0" lang="en-US" sz="3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AGPMA members voted and did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NOT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pprove the SHA-2 timeline as described in David Groep’s e-mail of September 10, 2012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n alternate SHA-2 deployment timeline, addressing TAGPMA concerns, has been developed and is available for review at</a:t>
            </a:r>
            <a:br>
              <a:rPr sz="3200"/>
            </a:b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tagpma.es.net/wiki/bin/view/Main/SHA2Timeline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 and questions are welcome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7E3F2-67CB-4EEA-97F2-7EE6D4334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Leadership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urrent TAGPMA Membership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mmunication Infrastructure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Conference Call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7 &amp; 18 (IGTF All Hands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HA-2 Deployment Timeline discussion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93D9D-BD86-4EEB-ADE0-04F968211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hair: Derek Simmel (PSC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immel@psc.edu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Vice Chair: Scott Rea (DigiCert + REBCA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cott@DigiCert.com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retary: Ale Stolk (ULAGrid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stolk@ula.ve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90C9A-D6AA-4B5C-9CB6-803C8291F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39680" y="1117440"/>
          <a:ext cx="7066080" cy="5389560"/>
        </p:xfrm>
        <a:graphic>
          <a:graphicData uri="http://schemas.openxmlformats.org/drawingml/2006/table">
            <a:tbl>
              <a:tblPr/>
              <a:tblGrid>
                <a:gridCol w="1665360"/>
                <a:gridCol w="1656000"/>
                <a:gridCol w="2160360"/>
                <a:gridCol w="15843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8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co Martin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an Si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26 Members from North, Central and South America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overing Canada, US, Mexico, Venezuela, Chile, Peru, Argentina, Brazil, Colombia and Panama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21 IGTF Accredited CA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12 Classic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igiCert(2) – US, UFF BrGrid &amp; UFF LACGrid - Brazil, ANSPGrid – Brazil, UNLPGrid - Argentina, REUNA – Chile, ULAGrid – Venezuela, GridCanada, UNAM – Mexico, UNIANDES - Colombia. 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OE Grid accredited by EUGridPMA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7 SLC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CSA x 3, FermiLabs, NERSC, PSC, NICS UTK - U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 MIC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CSA – US and CILogon – U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E5967A-58A0-4317-80FC-5263D2BBD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TACC retired their membership in TAGPMA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CAs should be removed from IGTF &amp; TACAR distributions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4 CA accreditations in-proces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 Classic pending (SENAMHI – Peru, InCommon – US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 MICS pending (SDSC, NCAR – US)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8 Relying Partie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(FNAL, OSG, XSEDE, THEgrid, LCG, REBCA, CIDETYS/UTP, redCLARA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New member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Common voted in as new prospective AP member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OGF has expressed interest in membership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596C9-6A79-452A-BE52-13E8D26BE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Hosts static, public information &amp; profile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Overhaul still way overdue </a:t>
            </a:r>
            <a:r>
              <a:rPr b="0" lang="en-US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hosts in-process TAGPMA documents, notes, tutorials etc.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ontains agenda and minutes from monthly meeting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iling lists have been moved over to Google Apps for Education, also enabling Calendar, Docs &amp; Site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-mail any issues direct to the Chair (dsimmel@psc.edu)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DAD6B-28B6-4620-B2D7-63B76210C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Regular Video Conference Calls are now Monthly, at 12noon Eastern (US) time on the 2nd Wednesday of each month. 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Next call will be February 13, 2013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Video arrangements: RedCLARA VC Espresso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Request for agenda items goes out ~1 week before the next cal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agenda is usually posted on tagpma-general e-mail list no later than 1 day before the meeting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F2DD2-DC46-4FCA-AC66-9E06FDB87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17 &amp; 18 (IGTF All Hands)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AGPMA 17 – Colorado – May 9-10, 2013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osted by the National Center for Atmospheric Research (NCAR, USA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Link to registration page will be posted shortly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AGPMA 18 – Argentin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dates TBD soon in October ~ November 2013 timeframe - stay tuned for a doodle poll link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8 will be the next IGTF All Hands meeting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B33CD-2D7E-46FF-AFB5-0084422EB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3-01-14T06:34:15Z</cp:lastPrinted>
  <dcterms:modified xsi:type="dcterms:W3CDTF">2013-01-14T06:34:40Z</dcterms:modified>
  <cp:revision>11</cp:revision>
  <dc:subject/>
  <dc:title>PowerPoint Presentation</dc:title>
</cp:coreProperties>
</file>