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FEB81-E1FB-4181-94BD-4C77CD935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1582E-DD28-45C1-AEB9-2AFF57E1A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19405-12C7-4595-91B3-34DE5C654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F1044-2869-4F69-AF85-C4A2EFC6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862C0-5EA2-429E-8A29-8B308355A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6F9CF-D7C1-49F3-A793-9F4AEDEDF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投影片編號版面配置區 3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3B21D-16B0-46BF-A59C-5E0406BFC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1B91-1726-44D4-BCF9-5E49943E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DD68-4E95-4A65-A49D-8B4D587B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5181-BC77-4A43-B387-A4AF02B3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4839-A033-439C-BE08-D9618329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E56D-5F79-47B2-8E06-E8498B3D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092F-7563-4B24-892E-22BB254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B84B-9E89-4A08-839B-E4579FEA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63B6-5538-41C5-B863-0D093FB6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5939-79A8-4A22-871C-D0CC74FD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A1D12-B665-499C-9133-1DA18783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EB524-2BC0-40A4-BC9E-AD38E5EB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6AD58-15BA-4467-AFF7-4284E93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4A376-61C3-4914-AA11-2021FFBF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2E399-2DBB-4A52-A798-B9DD1A7A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9CC38-AF25-4493-9C14-E8442ED4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BA199-BCB2-4F92-9E23-A40ACB6D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D90DB-7FA7-4CE4-955E-888FA991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3C986-1368-4D9D-92DC-3A58B0E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9D754-0B15-46E9-8A02-4E8DD2EE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64A54-7948-42EF-A0BB-B21F00C9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3C630-A0CF-4724-836E-9CA0AB80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4560B-147E-433E-BAF8-23450E46B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2D274-9986-4274-B1B0-DD4D14E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E4023-45A9-41CF-8F01-88D136E6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9A4F9-EA0C-4C1B-B357-640645A8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66833-F7CD-4242-9273-20F25051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3F4DE-4D97-45FD-8149-8264BBD1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B07C0-6227-41B6-A971-2AB0FAFA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A7C65-53C1-42B9-B08D-AD5281CE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555CB-FE7D-4C7D-B65F-DFE5C216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936E9-A2B8-484F-A0CF-3537FB3D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5B60F-CDA5-4CAA-83FD-12723FBF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5529E-177E-4E4A-AF20-914976376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49ED54-ACEB-4EC7-9FC8-E4BF4B446A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318ED3-0BE8-4ED5-B08F-F542F1B4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37803-BC2C-4BA0-9BAD-13085036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BC38AE-F82F-47A1-8D1D-4C20CEE9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051475-A049-405C-89E0-2EABA7B4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F47A0E-7B33-4998-9272-B0E9BC53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758118-8CEA-4AB8-A0EA-F1AB2083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2874D3-E1F2-4B12-9DEE-3477EE9C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710D18-DE1E-4F61-8382-F99735B1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448F4E-6216-4B54-9B2C-AEA8DF11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BA54AD-3016-4F62-B185-21FAD74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B6BC29-DCF1-4298-A715-020CDBF98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119B4-A9A8-4C66-8D85-D3BB69A298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1A4C2-2682-4D77-8CF1-AD5FCC3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8A511-55AD-4715-A037-35C3DB44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0A749-E966-4C17-B80D-35C13AB7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2223D-F28F-4CDE-A3FB-08688FC3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04BA9-FD5E-48F2-888B-38D7AF24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3941-8EF6-43E7-AD07-EC37FF13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D5555-FCC4-4F9C-A2DB-ED4245A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EF9EB-149C-4464-9105-D0EE34E8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0D8C7-E384-426B-B681-E2D73CC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A25E5-6F4B-4D41-9C71-11F6F85F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824B4-3B5A-4BC1-A012-334ECC6C3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42E885-27D8-477B-A029-3D5AA8FBF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A05DD-1591-475A-8740-E05B672E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141E0F-2362-4B4A-8B86-255C717E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2AC963-1862-4F0B-B301-EB3B8191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3F800B-EA00-4961-8E5B-A9391C2A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8E7175-A274-4107-ACF5-5D0A4415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0CE944-9FDA-4E77-A026-04095DA8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FBF5BD-83E6-4B70-BBD0-1E0E91C3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7363E7-B96A-4E96-BA8B-D42E7008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6FF48-D255-40D6-907E-34C8DE2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83A4FC-DC3B-4E7A-B2AF-E01E09F8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2D3D3B-1811-48AE-85DC-DE704E6EB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2ADDC-D6E0-45BB-A052-64B1589215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5DE21-5664-41FE-9109-E1FE7444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37895-C506-48C6-A74C-46CA42AB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E7CF1-568A-4467-996E-D6E1D4BA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42F0D-3762-42A0-9C5B-6E08B366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72C31-7D42-4782-AAB2-4E321FE2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FEBFF-EB3A-4824-8D77-101D7ED5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74078-04D7-460B-83D6-33DB0874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3FD33-E84B-4374-ACD7-6A4B4E44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E9105-EFFC-43A7-B6A0-7332C22D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5D7F5-99BC-4115-B5F4-67ACC7A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1D83A-1BED-4A71-9C48-7CAA3E2F0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2DB81-1222-49B6-A274-F17C760324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6BF0F-1373-40E0-8F34-A8B4804F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DB071-72BF-4CC2-BB8F-2C6624EB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3B2C2-13DC-4E97-BE73-C4F4B573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0AD6C-4BAE-47EE-ABEE-9C20A5E0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FBCB9-B41E-4730-890E-CFF36440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DDF06-E80D-4F9E-8F5A-95EFC55E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BD971-7BA0-4B8C-8341-71A78C90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F2DD9-45F6-4AAC-B3AC-BE0D1BEE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1980B-7BA6-4D10-8A15-66F53A4E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468E5-F7AE-49EF-AECA-ADFB6B8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E1132-66F2-4E48-9C13-D6725FA16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6E8F6C-7C77-490F-BF9E-B6B519A946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1E336B-85D2-450F-92F9-255C7DC4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64207A-9C7C-4C79-B427-A3CC36A8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73AD85-836D-4945-9C7E-B80D0FB5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FC209E-D8AA-430C-98F1-9A123EF8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B33DB0-C41B-46CB-8A00-C9A3B15F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2738CB-9D3F-4FD0-A90D-326878AE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DF926E-5C32-4F0E-AEB3-8B34EA23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1EF2D5-0B39-4E29-B6B5-3C5D8385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8273D3-6E01-4730-8C11-6A312DFD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F7D761-E331-4043-827A-C20FE14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1B6A9D-963C-4DC7-B769-ED52231D3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5348E-575B-42DF-98AD-95CB7FAB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FDB39-6438-442E-BD25-78FCC852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5C4B1-E286-4335-B882-F72838D1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B0013-0B97-4556-962B-18C43728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DC34C-629C-4A46-ABD3-C1073B91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CA902-3A2A-4239-B1CE-BA0DCB4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393C6-DCFB-4A93-94D3-63E7D8C0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7840B-CA5F-4675-8BB8-3438B9E6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21766-EBB3-45B8-93D4-D74304D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6A9BB-B0CE-4275-A9E0-05954802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7E5DB-BC15-44A5-99C0-297DC006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9E83E-7F04-476D-8B30-0D9F5106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6C045F-522E-4B23-8886-6D4BE0D9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F80B72-569D-46E5-8571-BC47D620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009937-D5A6-4905-AF3F-A1202141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0C1B7D-6829-4A8C-B1E9-B75BD8B2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ADC459-C73C-4174-9FC3-C0647D58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1DDDE3-B52E-43D6-BB50-62EE386C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1C7AE4-049F-43EC-B521-93218338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59A0CB-28A5-4C71-8CDF-6EEF39FA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5CB778-D7E6-4D4A-8812-BBF56F04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FF1813-8B8E-4DD8-9F6C-E3C82664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357374-B825-4CC6-BE2F-C180E0A3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7FAE1D-B8D3-4D6D-BA65-68BDF28F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B42-6F1E-48A4-819B-28262A5B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C2C-43EB-40F5-ADE9-5E1ED233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A1A-7228-4F73-8EB1-36179AF3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63D-C7CA-4D14-8F0A-7BFF26DE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EAF-AB5A-4854-92CB-7847D384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FDF-6E83-4634-9797-705ECDF8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271-1585-44AB-A279-E364761D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C9E-8A5F-425B-BC13-F825DB8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0D9-BBF8-49BD-82B5-3E73D07E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794-8BD0-4733-B0AE-1E8B59A2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B32-E5B3-47E4-A425-FD0D7DC1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497-FA18-427C-9604-52D3A557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572E-279F-4328-A0FA-36D45151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9048-5782-429C-B816-2D3BF665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17E3-479F-4624-AD4D-06DF76A9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7A9B-C57A-4CD1-BC59-72FB5BFB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AE8D-692D-49AA-B20F-35DC1311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A373-2D26-4730-926D-10D37454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6536-1D25-4303-80E3-476B818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7245-A8EC-46F3-B7DC-4226447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665-EF3E-44A2-9C3C-063D6D6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78EF-1E58-42AD-BF30-1ABD8EAF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78F8-7C74-4F7C-9CEF-E13D409A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2E8A-F2CC-40C9-9C71-96AC1164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786C-EA21-4F86-8104-E44BF31C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ED07-06D2-4D34-9339-D9E8640E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F29A-4412-45C1-9220-0191884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1309-D30D-415D-A531-3E2B452A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D9E1-5042-48CE-9478-668EA062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B61D-7037-499A-9A19-84C5D797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F6B2-8145-44E0-9291-A2DD530A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0A86-44A2-40B0-BB71-33BC8D64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6701-77E5-4E71-902E-5C71648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F7B7-DAD5-43A1-AFBA-21346B9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F963-3B03-43A6-84C2-0CEAD071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3CC1-1258-432D-B604-80E3DD02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75D2-3052-485E-9107-BB2A513E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C242-23C3-47FD-A499-96594117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26CB-C501-4B98-891C-82516C58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759E-449B-4577-B5AF-EFE54D1B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82474-9452-41E1-AA3C-FCF96455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FDAD-E1A3-4F09-A1F4-852CE79C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E5EE-A3AB-41E4-9771-24DCAB7B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B2A4-13F8-4838-867F-042A18A3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AEE1-0AD4-44A1-B60B-295876F7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F781-B6C7-4371-8556-9B5EA41E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0984-C666-4D15-91F6-92C26E78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374E-302D-4495-9033-4278FB25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DBDF1-1E84-4117-98C4-9E6384C0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79B6C-3DDD-4489-8DAA-038ACB1E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C2650-D7F2-4931-A6AE-B3B942DD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BC6EE-99F8-4C67-87B7-02CCDA4C547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7" descr="Slide-Master-Background---Title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1676520" y="6545160"/>
            <a:ext cx="58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Arial"/>
                <a:ea typeface="新細明體"/>
              </a:rPr>
              <a:t>sales@digicert.com                 www.digicert.com                 +1 (801) 877-21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7" descr=""/>
          <p:cNvPicPr/>
          <p:nvPr/>
        </p:nvPicPr>
        <p:blipFill>
          <a:blip r:embed="rId3"/>
          <a:stretch/>
        </p:blipFill>
        <p:spPr>
          <a:xfrm>
            <a:off x="1509840" y="5902200"/>
            <a:ext cx="6135480" cy="642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4"/>
          <a:stretch/>
        </p:blipFill>
        <p:spPr>
          <a:xfrm>
            <a:off x="1141560" y="6321600"/>
            <a:ext cx="2592360" cy="4474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67555-D014-45EE-BCC9-54A569B35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D2B78-52BF-4D36-9343-DE23C4C84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9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F0501-D9CD-43D7-AB65-C0A829F5E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5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DB802-B1A0-485D-B5EA-55168EEEB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523E4-C03D-41CD-B11E-789813C5F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5" name="Title 1"/>
          <p:cNvSpPr/>
          <p:nvPr/>
        </p:nvSpPr>
        <p:spPr>
          <a:xfrm>
            <a:off x="457200" y="274680"/>
            <a:ext cx="82296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C4BB5-1440-4756-9A91-DBF2E4045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7" descr="Slide Master Background - Content 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29674-DB94-4680-B2AC-DF671D83B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58ACB-9CFF-4504-9E22-E64D2D19C5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8349D-291D-4214-9461-C232C02F72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10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2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861aa"/>
                </a:solidFill>
                <a:latin typeface="Calibri"/>
              </a:rPr>
              <a:t>Federated Identity Management Workshop - Tim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3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7AC9F-ABA6-47D6-8658-A5E67C914A22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9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Federated Identity Management Workshop -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6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B5CFF-5647-487C-9CDC-B79B836C0990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285560" y="9997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61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61a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61aa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7"/>
          </p:nvPr>
        </p:nvSpPr>
        <p:spPr>
          <a:xfrm>
            <a:off x="1285920" y="6543360"/>
            <a:ext cx="12333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9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8"/>
          </p:nvPr>
        </p:nvSpPr>
        <p:spPr>
          <a:xfrm>
            <a:off x="2668320" y="6549840"/>
            <a:ext cx="4949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61aa"/>
                </a:solidFill>
                <a:latin typeface="Calibri"/>
              </a:rPr>
              <a:t>Federated Identity Management Workshop -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9"/>
          </p:nvPr>
        </p:nvSpPr>
        <p:spPr>
          <a:xfrm>
            <a:off x="8600760" y="6543360"/>
            <a:ext cx="399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3861a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B8A1F-2F4D-4F62-8ABF-F77F40C27730}" type="slidenum">
              <a:rPr b="0" lang="en-GB" sz="1200" spc="-1" strike="noStrike">
                <a:solidFill>
                  <a:srgbClr val="3861a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31" descr="banner-ITonly"/>
          <p:cNvPicPr/>
          <p:nvPr/>
        </p:nvPicPr>
        <p:blipFill>
          <a:blip r:embed="rId2"/>
          <a:stretch/>
        </p:blipFill>
        <p:spPr>
          <a:xfrm>
            <a:off x="1193760" y="0"/>
            <a:ext cx="7950240" cy="849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6019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5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0008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0" y="6037200"/>
            <a:ext cx="127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861aa"/>
                </a:solidFill>
                <a:latin typeface="Tahoma"/>
              </a:rPr>
              <a:t>www.cern.ch/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298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4 Oc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Kelsey/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FF023-1DE2-4CFD-9E9E-8CCC58EA6D2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egi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I-InSPIRE RI-2613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347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3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4 Oc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Kelsey/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5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C8878-609C-44BC-9C68-48927779CA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egi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I-InSPIRE RI-2613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A Transferral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&amp; IGTF All Hands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IT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May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User/Host Cert and RA have to move out from a C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2"/>
          <p:cNvSpPr/>
          <p:nvPr/>
        </p:nvSpPr>
        <p:spPr>
          <a:xfrm>
            <a:off x="71280" y="907920"/>
            <a:ext cx="896472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e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tus/Management Change of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is running out it’s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I re-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olicy change of the CA Host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ition of RA established before a national 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inimize the impact to Users and Gri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rmalize the procedures to CA, User/Host and 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some case, RA is more stable than CA, as RA is part of the user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ood strategy to take advantage of multiple service providers (multiple CAs)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us Change of a Production 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228600" y="1066680"/>
          <a:ext cx="8763120" cy="4875480"/>
        </p:xfrm>
        <a:graphic>
          <a:graphicData uri="http://schemas.openxmlformats.org/drawingml/2006/table">
            <a:tbl>
              <a:tblPr/>
              <a:tblGrid>
                <a:gridCol w="1295280"/>
                <a:gridCol w="1543320"/>
                <a:gridCol w="1542960"/>
                <a:gridCol w="1095480"/>
                <a:gridCol w="1095120"/>
                <a:gridCol w="2190960"/>
              </a:tblGrid>
              <a:tr h="762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ut of Service for some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ansition to another Instit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hutdow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Key and facility is secure &amp; CRL is in ser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Key and facility is secure &amp; CRL is NOT in ser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me Root Key and Facility 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New 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It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w issuance is allow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/guide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3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imp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-app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1"/>
          <p:cNvSpPr/>
          <p:nvPr/>
        </p:nvSpPr>
        <p:spPr>
          <a:xfrm>
            <a:off x="1447920" y="44280"/>
            <a:ext cx="7588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User/Host Cert and RA have to transfer to another C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 possible: all have to re-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/Host C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whole process of new application has to be going again ? Or a new cert could be issued with the current ID by another C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 whole process of new application has to be exercised ? Or a new cert will be issued with the current ID by another C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about having an RA serving multiple CA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the formal procedure/guideline is available ? Anything could be abide by for the moment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012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gistration Practice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RPS can be considered as a subordinate document to the 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RPS should use the RFC 3647 Framework of 9 defined areas that mirrors the structure of a CP and/or CP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easy comparisons of the relative policy and practi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completeness of the material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pplicable areas of RFC 3647 for an RPS can be designated as 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"/>
          <p:cNvSpPr/>
          <p:nvPr/>
        </p:nvSpPr>
        <p:spPr>
          <a:xfrm>
            <a:off x="0" y="0"/>
            <a:ext cx="5410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f RPS is a good solution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0:41:55Z</dcterms:created>
  <dc:creator>David Groep</dc:creator>
  <dc:description/>
  <dc:language>en-US</dc:language>
  <cp:lastModifiedBy>Eric Yen</cp:lastModifiedBy>
  <dcterms:modified xsi:type="dcterms:W3CDTF">2012-05-08T08:43:51Z</dcterms:modified>
  <cp:revision>302</cp:revision>
  <dc:subject/>
  <dc:title>International Grid Trust Federation Session  GGF 18 Washington, DC, USA</dc:title>
</cp:coreProperties>
</file>