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0CF7262-B928-4006-8755-AB904A7F2B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E6707BE-9F55-4C7F-8599-63EC91B771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06A7A19-A089-4F1D-B71B-D52C108D362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5022CDA6-89BA-472D-BAF2-C210C594780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DFCCAB0-9652-4A05-86A1-3C39AB9393B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B00CFB4B-FB38-49A7-9C50-B496D666F25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44EA32E-5F67-440B-88D1-F2861AFDA02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CC3486D-239E-4435-B5B2-028A0C524A8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F4BC225-CED9-45B4-98EC-96C0727859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D03F0D1-B3C8-410C-9D80-02AE3B30E26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F650162-E562-422F-B6AD-05EA40FCFD6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054DBFA-2A4F-4CF8-B4D5-1A5A1EFBCD0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2BB9445-F673-4465-92B5-B36AF14BF0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and 3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IGTF All Hand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7-9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arlsruhe, German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Lucida Sans"/>
              </a:rPr>
              <a:t>KIT </a:t>
            </a: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STEINBUCH CENTRE FOR COMPUTING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Ursula Epting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Hardi and Nuno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 via Adob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 September 10-12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5 (and HPDC and EEF AAI FedWS)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Delft , NL, 18-20 June 201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ijmegen, NL, 21-22 June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6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hicago, IL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(to be discussed), January 2012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840" y="690480"/>
            <a:ext cx="912816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960480"/>
            <a:ext cx="913608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C:\Users\davidg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0" y="730080"/>
            <a:ext cx="9118440" cy="441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5-06T16:44:20Z</dcterms:modified>
  <cp:revision>595</cp:revision>
  <dc:subject/>
  <dc:title>European Grid Policy Management Authority</dc:title>
</cp:coreProperties>
</file>