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63CE-AA9D-46B1-8D9D-BB7234DF8F9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497C-F57D-4B6B-9F25-22A610732F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A3CB-42FA-4B6A-8B91-9DC96D435E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EE26-AB10-477C-B391-8FCDB28F22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7576-A8E5-44B7-82C5-EFEA22A725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D44E-C0E0-462C-A7AD-8C38803B84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1517-6EF4-4D6B-9C79-E706E24CDB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7B2B-FD9C-4BF6-8FAB-087BE009C7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27A-4CC4-42A3-BF63-748363DC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E28-7DB2-414A-B8A2-AD27871E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81F-CC04-41AC-9C88-AA74A924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451-F9CA-450C-A352-5694A0B1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5B6-FAD0-4093-8084-FE635BD2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953-F582-4208-838B-8E73FCA1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645-0BA9-48E9-83AE-8D6FF0F6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F74-FF5D-4F71-9640-81795601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60D-ABB4-40A8-B185-070B2D94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AED-1AD1-4ACF-9DE9-C80DF5B4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D97-3887-4C5E-9CC0-CC43A12C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133-7003-4AD5-97DD-680A9EF7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55F9-C57C-4CF2-B02F-48BD98B98CEC}" type="slidenum">
              <a:rPr b="1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TAGPMA-med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BCE5-5C4F-472E-BF6E-A67FC682B1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hyperlink" Target="mailto:astolk@ula.v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gtf.net/" TargetMode="External"/><Relationship Id="rId2" Type="http://schemas.openxmlformats.org/officeDocument/2006/relationships/hyperlink" Target="http://www.tagpm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923920"/>
            <a:ext cx="5545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9213b"/>
                </a:solidFill>
                <a:latin typeface="Impact"/>
              </a:rPr>
              <a:t>TAGPMA Update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Derek Simmel</a:t>
            </a:r>
            <a:br>
              <a:rPr sz="2800"/>
            </a:br>
            <a:endParaRPr b="0" lang="en-US" sz="28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25</a:t>
            </a:r>
            <a:r>
              <a:rPr b="0" lang="en-GB" sz="2800" spc="-1" strike="noStrike" baseline="30000">
                <a:solidFill>
                  <a:srgbClr val="008000"/>
                </a:solidFill>
                <a:latin typeface="Impact"/>
              </a:rPr>
              <a:t>th</a:t>
            </a: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 EUGridPMA / IGTF All-Hands Meeting</a:t>
            </a:r>
            <a:br>
              <a:rPr sz="2800"/>
            </a:b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Karlsruhe, Germa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May 7-9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93" name="WordArt 5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ead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Derek Simmel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P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dsimmel@psc.e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DigiCert + R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2"/>
              </a:rPr>
              <a:t>Scott@DigiCer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Secretary(s)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Ale Stolk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ULAGr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3"/>
              </a:rPr>
              <a:t>astolk@ula.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77920" y="1011240"/>
          <a:ext cx="7066080" cy="5586480"/>
        </p:xfrm>
        <a:graphic>
          <a:graphicData uri="http://schemas.openxmlformats.org/drawingml/2006/table">
            <a:tbl>
              <a:tblPr/>
              <a:tblGrid>
                <a:gridCol w="1666800"/>
                <a:gridCol w="1656000"/>
                <a:gridCol w="215892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S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Bucc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 Altuna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ry Pere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7 Members from North, Central and South Amer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3 IGTF Accredited C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13 Class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a58"/>
                </a:solidFill>
                <a:latin typeface="Verdana"/>
              </a:rPr>
              <a:t>DigiCert(2) – US, TACC - US, UFF BrGrid &amp; UFF LACGrid - Brazil, ANSPGrid – Brazil, UNLPGrid - Argentina, REUNA – Chile, ULAGrid – Venezuela, GridCanada, UNAM – Mexico, UNIANDES - Colombia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a58"/>
                </a:solidFill>
                <a:latin typeface="Verdana"/>
              </a:rPr>
              <a:t>NOTE: DOE Grid accredited by EUGridP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7 SLCS (NCSA x 3, FermiLabs, NERSC, PSC, NICS UTK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3 MICS (NCSA - US, CILogin - US and TAC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 CAs in-process, pending accredi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1 Classic pending (SENAMHI – Per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1 MICS pending (SDSC – US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7 Relying Par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(OSG, XSEDE, THEgrid, LCG, REBCA, NIH, SURA Gri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2 CAs accredited since last F2F in February, 2012 at SCSC, La Jolla, C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NCSA Two-Factor CA – U.S. – SL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ANSPGrid CA – Brazil – Class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IGTF Website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http://www.igtf.n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Website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2"/>
              </a:rPr>
              <a:t>http://www.tagpma.org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static, public information &amp; pro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Overhaul overdue </a:t>
            </a:r>
            <a:r>
              <a:rPr b="0" lang="en-US" sz="1800" spc="-1" strike="noStrike">
                <a:solidFill>
                  <a:srgbClr val="244a58"/>
                </a:solidFill>
                <a:latin typeface="Wingdings"/>
                <a:ea typeface="Wingdings"/>
              </a:rPr>
              <a:t>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 - plan to have it done by Augus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twiki </a:t>
            </a:r>
            <a:r>
              <a:rPr b="0" lang="en-GB" sz="1800" spc="-1" strike="noStrike">
                <a:solidFill>
                  <a:srgbClr val="244a58"/>
                </a:solidFill>
                <a:latin typeface="Verdana"/>
              </a:rPr>
              <a:t>http(s)://tagpma.es.net/wiki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in-process TAGPMA documents, note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ontains agenda and minutes from month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agpma-genera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E-mail any issues direct to the Chair (dsimmel@psc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44a58"/>
                </a:solidFill>
                <a:latin typeface="Verdana"/>
              </a:rPr>
              <a:t>TAGPMA Voted to ACCEPT the Updated Classic Profile v4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44a58"/>
                </a:solidFill>
                <a:latin typeface="Verdana"/>
              </a:rPr>
              <a:t>Most Recent Accredi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[USA] NCSA Two-Factor CA – SLCS (MyProxy with 2-factor authentication token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[Brazil] ANSPGrid CA - Class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2 CAs (SENAMHI &amp; SDSC) are still in process for accredi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NCAR is pursuing development of its planned 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XSEDE is developing a new HLCA (to be hosted by NC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May permit consolidation of some XSEDE member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XSEDE Service Providers would become RAs for the XSEDE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embership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One RP still suspended – no response received to date – if they do not restore their participation by the August meeting, we will remove them from membership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Previous F2F Meeting: TAGPMA 15 at SDSC, San Diego, 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February 9-10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Details can be found he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indico.rnp.br/conferenceDisplay.py?confId=1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Planning for TAGPMA 16 at UTP, Ciudad de Panama, Pan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Week of August 27-31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TAGPMA 16 will be co-located with the CLCAR conference at the Technological University of Panama (Universidad Tecnológica de Panamá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CLCAR (Conferencia Latinoamericana de Computación de Alto Rendiment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Latin American Conference on High Performance Compu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Call for papers available: Full papers and Poster abstracts DUE MAY 15,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Papers may be submitted in English, Spanish, or Portugu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a58"/>
                </a:solidFill>
                <a:latin typeface="Verdana"/>
              </a:rPr>
              <a:t>See www.clcar.org for detai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16 / CLCAR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pic>
        <p:nvPicPr>
          <p:cNvPr id="108" name="Picture 3" descr="Screen Shot 2012-05-07 at May 7 3.54.16 AM.png"/>
          <p:cNvPicPr/>
          <p:nvPr/>
        </p:nvPicPr>
        <p:blipFill>
          <a:blip r:embed="rId1"/>
          <a:stretch/>
        </p:blipFill>
        <p:spPr>
          <a:xfrm>
            <a:off x="826920" y="1014480"/>
            <a:ext cx="745344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Regular Video Conference Calls are now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Monthl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, at 12noon Eastern on the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2nd Wednesda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of each mont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ext one will be June 13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Video arrangements: EVO – look for TAGP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Video ESNet 884483 or GDS 0011349884483 or phone 1-510-883-7860 884483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Call for agenda items goes out 1 week before the next 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The agenda is usually posted on tagpma-general e-mail list no later than 1 day before th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Feel free to join to attend meeting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Derek Simmel</cp:lastModifiedBy>
  <cp:lastPrinted>2012-05-07T08:19:40Z</cp:lastPrinted>
  <dcterms:modified xsi:type="dcterms:W3CDTF">2012-05-07T09:14:06Z</dcterms:modified>
  <cp:revision>157</cp:revision>
  <dc:subject>F2F12 Lubbock TX</dc:subject>
  <dc:title>TAGPMA Update</dc:title>
</cp:coreProperties>
</file>