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D9DF-1485-4A8F-8B4F-1ADBC4CFD23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C11D-F718-4F01-9E43-DCB6B4038E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823E-1612-421A-8978-3BA3DAA660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1E37-E672-46EB-AC10-A9B66F2622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6CFD-6D05-4921-B527-77B5A0D222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934-42A1-4D5E-8AE2-E42D46EEC9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60B4-BEAE-4D9F-8C6D-EB41828728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634-DAB7-4322-BEAF-53D05B1AD9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F6270-183D-4AF6-BD9E-54761C4F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FBEC7-A96D-4958-A7D6-B6E8583C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6EC97-4D25-41BF-A8A3-B6AD7C28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26FA5-8594-4FD9-B176-B6D97A45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D3263-2291-4C2B-9C2D-1124260A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9DE02-D4B3-4CE1-9BE0-09F3A07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E39DC-1F38-4E5C-9875-9077BB09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25F80-DC8B-401F-AC4A-77BBECF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EE018-4508-4F8D-BBDB-F312797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314D3-72BF-4C8F-AFC5-C5187AE4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ACC3F-CF50-4409-BA97-B6674FA7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BEDDB-8498-4609-BC03-34320FEE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</a:rPr>
              <a:t>Scott@DigiCert.com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8675-8419-47EB-BF62-F8F8288F93E7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4FB8-E20D-433C-B087-A0DACA0DAA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EUGridPMA Mtg #24, Ljubljana, Slove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Jan 17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4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484360" y="6237360"/>
            <a:ext cx="5048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</a:rPr>
              <a:t>Scott@DigiCert.co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cott.Rea@HEBCA.o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(s)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(since October 20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42920" y="1052640"/>
          <a:ext cx="7129440" cy="5499000"/>
        </p:xfrm>
        <a:graphic>
          <a:graphicData uri="http://schemas.openxmlformats.org/drawingml/2006/table">
            <a:tbl>
              <a:tblPr/>
              <a:tblGrid>
                <a:gridCol w="2024280"/>
                <a:gridCol w="525240"/>
                <a:gridCol w="1862280"/>
                <a:gridCol w="2717640"/>
              </a:tblGrid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2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x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 x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 UT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 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+ SLCS (propos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7 Members from North, Central and South Amer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1 IGTF Accredited 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giCert(2) – US, TACC - US, UFF BrGrid &amp; UFF LACGrid - Brazil, UNLPGrid - Argentina, REUNA – Chile, ULAGrid – Venezuela, GridCanada, UNAM – Mexico, UNIANDES - Colombia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SLCS (NCSA x 2, FermiLabs, NERSC, PSC, NICS UTK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CAs in-process, pending accredi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Classic pending (SENAMHI – Peru, ANSP – B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 Relying Par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OSG, XSEDE(TeraGrid), THEgrid, LCG, REBCA, NIH, SURA Gr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CAs accredited since last F2F in October, 2011 Oak Rigde, T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ICS UTK – SL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Cert – Classic x 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http://www.tagpma.or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Overhaul under way – several items require updating…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(s)://tagpma.es.net/wiki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tains agenda and minutes from bi-week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.e. more active (in-process) type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14</a:t>
            </a:r>
            <a:r>
              <a:rPr b="1" lang="en-US" sz="16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 TAGPMA F2F </a:t>
            </a: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NICS, Oak Ridge, T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Oct 11 – 12, 201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Details can be found here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ttp://indico.rnp.br/conferenceOtherViews.py?view=standard&amp;confId=1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Most Recent Accred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NICS UTK – SLCS (MyProxy with 2-factor authentication token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DigiCert – Classic x 2, HLCA x 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3 CAs (2xClassic, 1xMICS) in process for accredit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One new member (NCAR, Steve Beaty) has requested accreditation of 2 CAs (MICS, SLCS) – Jim Basney, men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Membership Review under w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uthentication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No recent upda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th TAGPMA F2F planned for February 9-10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sted by San Diego Supercomputer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da items inclu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GPMA Membership Review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s from EUGridPMA and APGrid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SA 2-Factor CA (Jim Basney, NC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LCA Pro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ization of Registration Practice Statem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LCG Timetable for move to SHA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 Authority Profi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gular Video Conference Calls are now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onthl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, at 12noon Eastern on th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nd Wednesda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of each month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after TAGPMA 15 will be March 14, 20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EVO – look for TAGP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we may be dropping the ESNet support in favor of E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Call for agenda items goes out 1 week before the next c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e-mail list no later than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dcterms:modified xsi:type="dcterms:W3CDTF">2012-01-17T14:48:14Z</dcterms:modified>
  <cp:revision>135</cp:revision>
  <dc:subject>F2F12 Lubbock TX</dc:subject>
  <dc:title>TAGPMA Update</dc:title>
</cp:coreProperties>
</file>