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1779-DC14-40ED-818E-9DB9D1E511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FA0C-7EBB-4757-93D9-502E0DE49A3B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501A-2873-449A-B59D-36FEBDBDD6FF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77E3-BB3B-4D25-861F-11B3EC22FDDE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8587-1D74-44B6-9E84-222DEF22E4C7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E280-DDCE-4796-A847-D651A1AB2AB6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D3CC-7034-4690-A31D-AE8080E0EE6E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23DC-933C-4D41-8654-427755A380E9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8C7D-CA8A-4B83-9014-171CC938B2D9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530A-7028-4098-B460-4568A8CC343D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B579-5CFC-48BA-8072-F110C69EE48B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42FC-E800-44A7-AC6A-80F8046FAADD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B7E7-F879-4223-BE0A-FB0BD4D9ECCF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20C0-03AD-46A0-B465-067D03ECB008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09F9-C70D-4BBA-9555-3B8849EC75CF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8269-C725-46A8-9A24-8C48D25E9344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033D-AF31-4380-9A6A-945FEA0D5F60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E37F-0A80-4884-9C2C-CB9288985781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4C4A-F10C-476F-9825-D04942FAC0DD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E58B-07B8-4ADB-AA23-440D75D02130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868-C4FB-4FB4-BA4C-4F2648F1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654-1AD2-46D7-A5A6-0EEA7145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BDE-4BF3-496B-BB35-03A566AE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8B4-8AB6-46EB-82AC-4A54B3D1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D388-20D7-474E-A291-3BE9ECE9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3E92-29E6-442A-ACE2-0AA2FBA3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8BC3-C589-417C-8777-8CC89421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CABF-D36A-4098-9044-F5B881B4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A5FE-3B9F-414E-9F37-15255156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B4E5-8257-4A95-A21F-FB2C5B34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47BC-539B-4AEC-992D-FEAA343C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32D-B435-4C4C-A14E-734CA54C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C969-E6F8-4BC0-96D2-83315529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CB24-8D5D-4464-8BBF-5E497CC9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305F-6310-473D-B38D-E2EDB364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7A34-146A-4A4E-B9B6-67CB7AC2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4CC1-E354-4FE0-8929-7F04508F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3988-46E1-4350-8130-F77979FB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8E74-22CA-4B87-B493-4843AA5C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6729-151C-475B-B434-BE335BBD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9A52-69C9-4A57-A5ED-3586A9FA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8C6F-F622-412A-AB6D-336BDDA1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701-7765-4A55-8760-2C6F1083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4E05-149C-4A48-9F63-2BC4DBBC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51F6-3654-4AAD-AE89-8695DBDD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F6BC-5A20-4F78-9DE1-624A49CD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A47C1-5E27-40E0-B383-0EBDB0E5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0974-D65E-46DC-922E-EAEEE9D1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D8C0B-F9BA-4620-A32B-35E6D4EA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E140-B510-4CCA-AC13-99239E6F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FC57E-2C6B-47BD-84C6-7B6D77A5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27787-5376-4598-94F5-616CE811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9189-1009-4C98-9512-A33C1F2E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1A1-66AF-4559-A06F-5688B94D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8A58-244E-4E99-9E7B-50063B8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E0EC4-2950-440C-BB31-C33AAB3D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91C58-B9FC-42C6-8A44-3722DF2C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5A02E-349D-46E8-8082-60D7A91F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632D-4CAE-4789-83B4-F29914D4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26C54-3FF4-4E2A-8495-8ACB7FD1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6B23-AFB5-4D9D-8781-436847AE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052BA-6A7D-4023-997E-ED0BD442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9653-585A-456E-84D3-99902A1D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C36B1-80A3-41F2-88CF-BF209849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3AA-3133-41F4-A39B-8DCD74FE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8D1F8-E027-430B-ABB7-14E665F3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760C8-70EE-400F-B11E-B3FB64C4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AD6BA-77D0-4561-9363-0358649E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4306D-8481-458C-8FD5-CF221E40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D0ADE-8CFF-4AD0-A0ED-C4E8B549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29B0-38E8-4BF0-B8C2-69ED9767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00752-BB92-4C0F-9DB2-ADF37BB2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B426F-9F58-458B-906C-1FDCDBBE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E5DDB-D911-494A-9231-6D8CD40D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D6B5B-C8C8-4844-9559-3BB3DB3D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B10-5DE5-432A-873E-B5D49898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402B2-E3C5-444D-8020-B8C286BF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63689-FD52-432E-8F7D-BE85F4EF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10D01-ED13-49D1-B653-6AB0FBFE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00C2C-A43F-49A2-9904-BC09DAD1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BD6D2-2738-453D-91DE-73F8A374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14889-488F-48F2-854F-520B994E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FA86-8304-45C0-B332-2994A97D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7EBAC-6DBF-43D8-8008-D22E8AA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2BEFF-760B-4DF9-B93D-87B496F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D8244-A7C8-4B9E-99F5-02E4697D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346-2CAF-466A-9360-013AB0DA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837B4-CC94-4051-8B99-4F0C83AF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98366-C756-4E37-A611-FD778EFA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F6A66-1262-48E0-8A44-4BB067ED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E420E-C128-4986-9C44-A153EAAE9C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1E96F-6D06-4C0C-92C9-9C1162EBBAB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A46BF-646E-4781-BFF6-290169BD6BE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67E0B-4623-4791-8EBD-B97057ED841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A5552-FE0B-49B8-BD33-7912E8FA8C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7B5B57-1962-4995-9CCF-F9E820BFF8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3C738-3746-49A7-AFEB-7DC0B0D6D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FB6-EF5C-42C6-8F12-0E82A854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A8E92-6192-404F-9534-06F42BA6AA2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9B4E5-800A-4B63-B077-EF740110EB7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BC4C8-BAE1-4D03-96A4-E6D1318AAD0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2CCA4-28B9-4FC2-927D-F28EC1083A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A435F-B29A-4566-A7BD-885210F7B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619-AAA0-4087-B422-B1CD2AD3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D27E-44F4-43A5-BF48-B45D6E893677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7859-4F17-4C18-9007-11538F8A5D17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3CC2-685B-44D3-ABF9-FAEA3D248281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3166-4621-42D8-B378-B24306E1280E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9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10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A4EB-287B-424D-8C1B-3DD3F6CB33AA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563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IUCC – May 2009 – Eddie Aronovi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B97F-329F-463C-AB37-30A46D655930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5821200"/>
            <a:ext cx="896760" cy="103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C5CB-6EE6-409E-8FFC-96266FA87664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6B43-D7E4-41B4-A26A-EA0BAB6C2908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88E5-5B49-4B23-9A25-80C5848D5F14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8B43-B1D5-43BF-857E-90EF9258DB9C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36A8-9748-4AF1-B923-9CCB3E752827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9367-E4A3-4AA7-BB58-7E46B5F5B459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269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1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272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9"/>
          </p:nvPr>
        </p:nvSpPr>
        <p:spPr>
          <a:xfrm>
            <a:off x="3203640" y="6559200"/>
            <a:ext cx="5262480" cy="298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bcb7a8"/>
                </a:solidFill>
                <a:latin typeface="Times New Roman"/>
              </a:rPr>
              <a:t>Grid Operation and Security by Eddie Aronovich, May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4FB3-E2A7-4357-AC02-8015B1CCBC2B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94920" y="2781000"/>
            <a:ext cx="8464680" cy="37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Corbel"/>
              </a:rPr>
              <a:t>IUCC Certification Authority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rbel"/>
              </a:rPr>
              <a:t>Implementation of self audit finding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esented by Arad Alper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January 2012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114720" y="31680"/>
            <a:ext cx="2676600" cy="309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4021-02F1-440D-A204-4DA5708893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re an end-entity obligation to protect the private key with a 12 character pass phrase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1" lang="en-US" sz="3000" spc="-1" strike="noStrike">
                <a:solidFill>
                  <a:srgbClr val="fa7d7a"/>
                </a:solidFill>
                <a:latin typeface="Corbel"/>
              </a:rPr>
              <a:t> 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7d7a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Already implemented in practice, and will be a stipulation in the next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69A3-04DF-43DF-9001-1750DF2AEB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accept external auditing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41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According to section our CP/CPS, no external auditing will be performed, only self-auditing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have no problem with external auditing, and we will change the CP/CPS according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70FB-41D7-4421-B7A9-33C422A8ED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How does the CA guarantee that a subject name will remain unique throughout the lifetime of the CA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We do not have such a mechanism. A review of the certificates issued so far reveals no duplication of subject nam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Requesting suggestions how to deal with this stipulation.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262F-F6C9-4362-B43F-7DFF2997DC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r" rtl="1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11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an end-entity obligation include requesting revocation? -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4500"/>
            </a:br>
            <a:r>
              <a:rPr b="1" lang="en-US" sz="45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There is no mention of it in the CP/CPS, but we do stress it to the user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 in the next CP/C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2CAA-5CDF-44D7-9FEA-4A7536F62F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perform operational audits of the CA/RA staff once a year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A performs a yearly self-assessment. We do not do any official RA audi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will audit our RAs, and fix the CP/CPS according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E858-1CA2-4502-B807-EFD6911187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tipulations that do not appear in CP/CPS but are maintained in practice 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f61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for certificate profiles to match GFD 125, but they do match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to issue a new CRL 7 days before expiration date, but it is performed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to maintain a list of RAs, but it is performed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The stipulations will be added in the new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3782-91FD-4B39-B958-9EE5F985EC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 CP/CPS structured according to RFC 3647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No. It is structured according to RFC 2527 which was the one available when we drafted our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’ll use 3647 to write the new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7B54-8A50-48CB-AD5A-EB672F1A7A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80000"/>
              </a:lnSpc>
              <a:spcBef>
                <a:spcPts val="11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Who can request certificate revocation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4500"/>
            </a:br>
            <a:r>
              <a:rPr b="1" lang="en-US" sz="45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CP/CPS fails to mention that RA or CA can request revocat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4560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917A-35F6-44F6-A9A8-007C3EB914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spcBef>
                <a:spcPts val="85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re certificates and private keys re-keyed or renewed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According to CP/CPS,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expired certificates must be re-keyed if a request is made prior to expiration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n practice, we revoke a certificate when it is about to expire, and issue a new one, with a new private ke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intend to continue this practice until the switch to TCS, then work by their rul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87EE-A759-4FFE-8733-5E79E26A0E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provide their trust anchor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We assumed that EUGridPMA was our trust anchor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repository. 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can provide our trust anchor to EUGRidPMA whe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ask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AF3E-921F-4EBB-9018-80D19F1121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28760" y="838080"/>
            <a:ext cx="85359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(Inter University Computation Center) is a member in FP7 projects - Geant and EGI and Linksce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handles all Israeli grid activi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CA is the authority that issues grid certific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176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EUGridPMA member since Dec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grid is the unit inside of IUCC that handles Grid and certific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F3E9-CA77-4399-81BB-B39F261F34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How does RA validate the identity of a person requesting a host/service certificate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re is no stipulation is CP/CPS. In practice, there are very few such requests, and the persons requesting are well known to the R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rbel"/>
              </a:rPr>
              <a:t>Requesting sugges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33AD6-6472-4FD2-873C-B382DD62F9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755640" y="3860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048120" y="31680"/>
            <a:ext cx="2939760" cy="339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9EB5-DAEE-4E8D-B93D-D2F010152D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IUCC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CA</a:t>
            </a:r>
            <a:endParaRPr b="1" lang="en-US" sz="40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457200" y="1951200"/>
            <a:ext cx="8229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UCC CA handles the grid certification to all of Israel’s 8 universiti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ach university has its own R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Isragrid/IUCC serves as a default RA, that verifies requests from non-academic bodi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rbel"/>
              </a:rPr>
              <a:t>Question: can we use the default RA for academic users as well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5846-EC76-413D-8B6D-76D8C44190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2010, IUCC decided to transfer our certificate issuance to an outside service, operated by Terena (TC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UCC has been a member of TCS since September 2010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en issuing server certificates via TCS since January 2011. User certificates are still issued using the OpenCA machin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e have been a member of TCS Portal since December 2011, and are in the process of moving user certificates issuance to the portal, and completing the switch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witch to T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B561-B168-44D6-9709-5CDF025945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en the move is completed, a new CP/CPS will be draft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lf audit was performed using the current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81FF-DC49-402C-9577-0A990F5818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f audit was performed using the audit document GFD 169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 used the scoring system provided in the document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: Goo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: Recommendation (minor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: Recommendation (major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: Advice (must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: Could not evaluate (N/A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re we shall present the Ds, Cs &amp; B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343D-8485-4916-8E5E-7179273AFE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P/CPS describe the procedure of changing CP/CPS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 in the new CP/CPS. Requesting instructions.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Bookshelf Symbol 7"/>
                <a:ea typeface="Bookshelf Symbol 7"/>
              </a:rPr>
              <a:t>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EDE2-ED6A-427F-8268-F1C266DD4A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Was the secure environment of the CA machine approved by PMA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The CA machine used to be operated and located in Tel Aviv University (IUCC outsourced work). IUCC/Isragrid hired staff in 2009 and moved the machine to a safe-box in the IUCC building. However, we did not get PMA approval for the new spot.  We believe the PMA never gave approval for the previous location as w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How do we get the approval for the new saf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9E69-5789-48EA-A95C-312441590D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 CRL compliant with RFC5280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RFC5280 stipulates that the CRL has to be version 2. Our CRL is version 1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Should we fix this, or can we continue issuing version 1 CRLs until we take our old CA system offlin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0F02-CE66-457B-83C0-BA152D1B8F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9:00:04Z</dcterms:created>
  <dc:creator>user</dc:creator>
  <dc:description/>
  <dc:language>en-US</dc:language>
  <cp:lastModifiedBy>ארד</cp:lastModifiedBy>
  <dcterms:modified xsi:type="dcterms:W3CDTF">2012-01-11T14:55:26Z</dcterms:modified>
  <cp:revision>260</cp:revision>
  <dc:subject/>
  <dc:title>הגריד האקדמי הישראלי</dc:title>
</cp:coreProperties>
</file>