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9E30C83-02A1-439E-9713-DC0AF4ACE3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0D2E2A1-948B-4244-AFDF-66671BE898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9E8349E-919A-4A7A-9B6B-7EC3135176C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0196E25-3EEE-4E76-BEA6-7A29608A443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D5A416C-3CCB-4E34-A3C5-3BA7C2A4B5F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465CBE2-71EC-4AB0-8A8D-AC98193CD41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698F18D-A0CC-4290-9E7D-79349FBD0EB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0E787B95-35D4-4B4E-A5FC-96ADEA7C523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EFD16047-3178-4BD2-B29A-E56205315A6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DE19D56-9395-42E5-A70B-893B3CB4D84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0442AC0-3F29-455F-854B-C69334A0CB7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5A43F95-A1EB-4A8E-A0B7-9431BA7D055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7712A82-0C25-4FCD-9ABF-E73425C7A3B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r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6-18, 2012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jubljana, Slove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Jožef Stefan Institute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an Jona Javorsek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and the Slovenian NGI!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Dusan for the September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2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 and EVO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811080" y="1996920"/>
            <a:ext cx="772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try to host everything on EVO, but if the desktop sharing does not work well enough, we can switch 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to collaborate on documents - especially during editing sess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90180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25</a:t>
            </a:r>
            <a:r>
              <a:rPr b="1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1" lang="en-GB" sz="2400" spc="-1" strike="noStrike">
                <a:solidFill>
                  <a:srgbClr val="990000"/>
                </a:solidFill>
                <a:latin typeface="Lucida Sans"/>
              </a:rPr>
              <a:t>Karlsruhe, Ma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AG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an Diego February 9-10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PGridPMA meeting and ISGC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Taipei, TW, Feb 29 – March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4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Oxford, UK, March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ERENA Networking Conference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Reykjavik, May 21-25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26</a:t>
            </a:r>
            <a:r>
              <a:rPr b="1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1" lang="en-GB" sz="2400" spc="-1" strike="noStrike">
                <a:solidFill>
                  <a:srgbClr val="990000"/>
                </a:solidFill>
                <a:latin typeface="Lucida Sans"/>
              </a:rPr>
              <a:t>Belgrade (tentative), September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7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 t.b.d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8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Lucida Sans"/>
              </a:rPr>
              <a:t>Kyiv (tentative), May 2013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troduction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Josef Stefan Institute, SiGNET, and local inform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ELF-AUDIT STATUS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ending self-audi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87520" y="1295280"/>
            <a:ext cx="85564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-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 new CP/CPS, review by JCR+DoC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Y-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 new CP/CPS, review DG+Ursul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OSA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ing new CP/CPS, review Ursula+Yur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G.ACAD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 – await new CP/CPS, review Edgars+Bo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RGI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ing new CP/CPS, review Emir+David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altic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will be redone in updat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UCC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presenting now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KeScienc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 – await CP/CPS update, review Willy+Alexe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kIRIS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CP/CPS postponed since many people lef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EGIS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review done, being implement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GridIrelan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needs sending of the new CP/CPS to Nun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pending CP/CP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1-15T07:53:37Z</dcterms:modified>
  <cp:revision>593</cp:revision>
  <dc:subject/>
  <dc:title>European Grid Policy Management Authority</dc:title>
</cp:coreProperties>
</file>