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22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move the slid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23"/>
          </p:nvPr>
        </p:nvSpPr>
        <p:spPr>
          <a:xfrm>
            <a:off x="0" y="943272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24"/>
          </p:nvPr>
        </p:nvSpPr>
        <p:spPr>
          <a:xfrm>
            <a:off x="3779640" y="9432720"/>
            <a:ext cx="2889000" cy="495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D5E4A5-E037-4C70-8E48-159FE07EFA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CA3079-F444-4559-B81C-612E643A8612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28E4C4D-2881-481D-9FD6-E7AAF20AC0DD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C9EC64-53D5-42F4-9782-7F2EF1D60A2D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8BC4757-751D-4CDA-9D16-8601034A201A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14829EF-FE7B-4AF3-BBFB-82A45AC12E9B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D28231C-3B2A-40BE-8A20-A6C91E280B4B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1BBAA0D-E01A-49AC-974D-638D77B5D6ED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84701FF-A60C-4FE7-AE4E-B597DC9D0F67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D52070-5EE1-475E-9782-BCECBEA06B90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92384F-D1DD-4ECC-9B21-88ECB7F09C70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205F-4B48-4B8C-AA04-202B4319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C839-99CC-42D1-8F72-2F7921E9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AAA73-5CC3-476B-AFF7-FB6738A0BD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E136D-AF5C-4A81-9AA9-84D76ABA85A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BCC70-F333-4475-A3CC-018F4646E9E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88A00-AA4C-4BE8-A997-DB4A22CFDF7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021F4-C90D-4E58-8C6E-379EB40E542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0C852-4494-4E0D-92AA-EAD67748D00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260B6-EEB2-4C7F-BB48-3A57F59664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3ED91-135F-4D40-8F13-F4911F7B650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729B2-57EC-4876-A11E-7D47940D008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BCA382-329A-4761-AE46-F7688A62E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8597-ED27-4E9D-9636-A4E6F78F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166214-809D-48E5-AB64-B9A29940E93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264C47-EE49-4D9B-B697-07907675058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B7CEB-6280-483D-9FA4-62FD353377A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1CD05F-3840-47DD-8449-09C20475837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F84B2-203A-413F-8F02-C8FEC23A89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4E0D59-B830-48BA-B08F-31CFB85D89F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C8CA6-8EC9-48D1-A506-C398D0111C6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E921C7-A94F-4890-BFD1-E4D9A57A78A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A8EAA6-3237-4437-9B44-0D8486645C0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358543-375E-40F5-95F9-A2B0521D5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D063-211D-4C8E-834F-386B5A9A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27E747-31CE-49CA-AAE8-B7543A4D3F1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333E5-E8B2-4E64-87D7-88D3155EFC9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898DB-2ADF-4519-8076-69F865526F8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D856A-2111-4880-946B-E87EB41542D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1F01F-5DEA-4679-97CD-06211D5E4A9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09029-FE9A-45DF-853C-0110D95107C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45A16-3A1C-489C-8773-F84F43A779D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B6DF0-42F8-42FA-8384-64E5ADA809E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489C3-0389-4CC1-A6B9-3D66154B988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8F708-D912-4932-BEA4-ED7197B46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74B67-8659-4225-837D-3053E9DD6B5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96AE5-05F0-4738-9825-76417EA5E36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ADAD0-8F2B-4797-8BE3-40DDE710985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8092D-0547-4498-B6E1-F119C475A37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CC79D-4931-4A32-9332-3767ADDD905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1FCAF-4704-4A33-8CAE-324E54B6E2D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4EBC6-AAB1-4A02-9AB5-59C98A0664B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76C11-7ED6-4827-AFF9-39957814264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1DFE2-4DFF-46FF-81C8-BA39D2DF2CD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8D218-E6EA-46E6-8C78-7C233AAE15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3DD1E-B7EF-4E82-8580-310129724EC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412AE-F40A-4A85-8745-CF8B69B1DC6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889B1-9315-40B7-AC41-E5E6BC2A900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D178A-1D03-4C12-8E84-7EC468B1C24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195D3-C971-4C39-BCE7-881C692642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83B9-A2AC-453F-A970-E6D49653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7BCE-F164-4596-B274-E146B859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17F73-D1DF-4DFA-B9A9-773292CCFF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7DDB9-5F92-4F1D-AC6B-79210A76E6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0D98C-A042-45B8-9C72-1A573D710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B403-1696-44A8-A0E7-76E2BDF9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82305-7640-4ADE-8E09-783FB678D8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CD92D-8FDB-4B7F-BE86-63BB34206A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3EF2F-0D6F-43FC-A305-664B2E479A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CF8C2-6B20-4DE2-968E-157AC957BB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EF991-8DDB-4873-99E2-EC142071A8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E37ED-8954-48C0-81C4-60A10D38CF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769B3-B34E-4BCA-969A-35248CDB58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48148-621E-4339-AD31-CD36CC3810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72FF-C537-4F06-9F9C-3654B5C0C4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F3EA-7F22-4D6F-9AE5-62979A01B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7457-F28E-4959-9E0A-5DF72D96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F26B-64AC-4333-B505-90BD7BAB5D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FAC7-8730-4B8D-B7EE-8F1F9AB6EF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A8A1-F7C9-4E8C-A6EC-AF248EE413A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278F-2E0D-48B6-896E-691F82AF534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EBAB-485D-410E-ABF1-17D3910B9DC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AA14-F2A7-4469-B2D1-A7AAE5913F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F620-272F-40D1-92F7-3BC7892890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F469-BFE5-4D28-B4D7-49BDA8285D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E0D7-7BDA-42F5-ACC8-35132B6BC39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E79B-F084-4EC6-B9EA-41B9849A2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6344-D4AE-4DC1-9A84-0BDE9B99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2A5A-BAF0-4888-942C-8350E36A3A5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A2104-BCBC-41C6-8F4B-65A68B2D2B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34AFE-2159-462A-89B2-F5F8F6299D0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36A58-F505-4681-B3B4-679E7998891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DFC44-3B6A-4CD0-947A-3FE857BDC9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D1BDA-4E1C-4BE6-B01E-8941F17C3AD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5BC31-11D2-400B-AC67-61A5B97A4D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0BE29-40F4-4F7B-AC91-ABADED0B16E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BF712-9B9E-4763-9659-315FEE600B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1AAD5-C13A-433F-A76B-BFB85E1D6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C95D-E314-4FE2-A844-A0B454BA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690D5-A29B-414F-8FDC-F3B6E27D1D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C7B06-EFEE-4124-8D46-C2E946FA55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FBE3C-E0EC-4DFD-BD1C-70233C6E319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04ADA7-DC36-4670-8B24-027AD7D0070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6A7F0-BD33-4C6C-AD80-70ED40016EB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EBBEB-8E79-4500-80DD-E25A3192BD8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A39F5-EF6A-4697-8BE1-9AF14B39736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3D289-2ACA-44ED-A68D-81E33EBECAB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61A816-7178-41CE-96D4-DC17D9E2419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651FE9-CAD6-4C9B-A972-9C00FCA2B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F44F-A301-4C3A-8A86-3A243084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F2CAB-A934-4480-B9C0-E3B747E037E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B662F-76EB-47AC-8C53-DE9CBF0CF2C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65336-10F5-4404-B9B8-4D412B30F1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CB2080-29A4-403B-A569-7C2E0F62CAD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D4C92-1F39-4530-864F-2B52A991528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2962E-B498-4DB9-B536-6114F19036C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EEF7-1A3C-4304-897B-320AE15810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D8FC-13DD-4458-97CE-BF5D5D143EF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2AA43-6D03-4C40-ABF0-D65B3C80255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49362-49C7-4CBD-884C-F075AA696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BFA2-DB21-4ECE-A4CF-CA171776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6EBA-3422-4145-BB38-4916507D334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1D901-D9D0-4D82-902F-5113E6C3875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192B3-C8AC-4650-9D83-C08DE6C4891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4C9E-97B5-41A1-BA37-40A41BB800E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27B9-912C-4944-A3BA-2CD59BE209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D830-3166-4D55-8960-42743A788FE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FDA1-8D87-4795-957E-C131264F2CA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C1CD0-00DA-49B1-992A-E1CD684F6D1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13C00-E4F4-4E52-988F-33C8D8AA5B3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1C0FB-5A03-431B-B509-2D451EB7B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C9F9-B627-4CE9-9B8B-7C2936AF32E3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  <a:ea typeface="Arial"/>
              </a:rPr>
              <a:t>21th EUGridPMA meeting, Utrecht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8989da"/>
                </a:solidFill>
                <a:latin typeface="Times New Roman"/>
                <a:cs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415A-ADEF-4E94-916A-E62BC6695E50}" type="datetime">
              <a:rPr b="0" lang="ar-SY" sz="1200" spc="-1" strike="noStrike">
                <a:solidFill>
                  <a:srgbClr val="8989da"/>
                </a:solidFill>
                <a:latin typeface="Times New Roman"/>
                <a:cs typeface="Arial"/>
              </a:rPr>
              <a:t>١٤٤٨/٠٢/١٦</a:t>
            </a:fld>
            <a:r>
              <a:rPr b="0" lang="ar-SY" sz="1200" spc="-1" strike="noStrike">
                <a:solidFill>
                  <a:srgbClr val="8989da"/>
                </a:solidFill>
                <a:latin typeface="Times New Roman"/>
                <a:ea typeface="Arial"/>
              </a:rPr>
              <a:t> </a:t>
            </a:r>
            <a:fld id="{95D48B90-270A-41EC-81EE-5C34E25523D2}" type="datetime10">
              <a:rPr b="0" lang="ar-SY" sz="1200" spc="-1" strike="noStrike">
                <a:solidFill>
                  <a:srgbClr val="8989da"/>
                </a:solidFill>
                <a:latin typeface="Times New Roman"/>
                <a:ea typeface="Arial"/>
              </a:rPr>
              <a:t>15:2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6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A065-FDA5-4D3D-AC27-3D6004E4D283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7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8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D4A4-979B-4B1C-8C78-5BF39BE56C9B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9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0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7BAD-8BC7-4F9D-9658-68B5A6915847}" type="slidenum">
              <a:rPr b="0" lang="en-US" sz="1400" spc="-1" strike="noStrike">
                <a:solidFill>
                  <a:srgbClr val="0000cc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1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cc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>
            <a:lum bright="12000"/>
          </a:blip>
          <a:srcRect l="11966" t="0" r="8797" b="8705"/>
          <a:stretch/>
        </p:blipFill>
        <p:spPr>
          <a:xfrm>
            <a:off x="458640" y="663480"/>
            <a:ext cx="8244000" cy="6027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9404280" y="532440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5" name="Arc 8"/>
          <p:cNvSpPr/>
          <p:nvPr/>
        </p:nvSpPr>
        <p:spPr>
          <a:xfrm>
            <a:off x="3960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025880" y="98280"/>
            <a:ext cx="44910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" name="Arc 12"/>
          <p:cNvSpPr/>
          <p:nvPr/>
        </p:nvSpPr>
        <p:spPr>
          <a:xfrm>
            <a:off x="61920" y="5913360"/>
            <a:ext cx="1598760" cy="1222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8" name="Arc 13"/>
          <p:cNvSpPr/>
          <p:nvPr/>
        </p:nvSpPr>
        <p:spPr>
          <a:xfrm flipH="1">
            <a:off x="8501040" y="-136440"/>
            <a:ext cx="1557360" cy="788760"/>
          </a:xfrm>
          <a:custGeom>
            <a:avLst/>
            <a:gdLst/>
            <a:ahLst/>
            <a:rect l="l" t="t" r="r" b="b"/>
            <a:pathLst>
              <a:path fill="none" w="20883" h="17763">
                <a:moveTo>
                  <a:pt x="20883" y="5518"/>
                </a:moveTo>
                <a:cubicBezTo>
                  <a:pt x="19568" y="10493"/>
                  <a:pt x="16520" y="14836"/>
                  <a:pt x="12288" y="17763"/>
                </a:cubicBezTo>
              </a:path>
              <a:path stroke="0" w="20883" h="17763">
                <a:moveTo>
                  <a:pt x="20883" y="5518"/>
                </a:moveTo>
                <a:cubicBezTo>
                  <a:pt x="19568" y="10493"/>
                  <a:pt x="16520" y="14836"/>
                  <a:pt x="12288" y="17763"/>
                </a:cubicBezTo>
                <a:lnTo>
                  <a:pt x="0" y="0"/>
                </a:lnTo>
                <a:lnTo>
                  <a:pt x="20883" y="5518"/>
                </a:lnTo>
                <a:close/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9" name="Arc 14"/>
          <p:cNvSpPr/>
          <p:nvPr/>
        </p:nvSpPr>
        <p:spPr>
          <a:xfrm flipH="1" flipV="1">
            <a:off x="8178120" y="-286200"/>
            <a:ext cx="887400" cy="1086120"/>
          </a:xfrm>
          <a:custGeom>
            <a:avLst/>
            <a:gdLst/>
            <a:ahLst/>
            <a:rect l="l" t="t" r="r" b="b"/>
            <a:pathLst>
              <a:path fill="none" w="20836" h="21596">
                <a:moveTo>
                  <a:pt x="372" y="-1"/>
                </a:moveTo>
                <a:cubicBezTo>
                  <a:pt x="9969" y="164"/>
                  <a:pt x="18306" y="6644"/>
                  <a:pt x="20836" y="15903"/>
                </a:cubicBezTo>
              </a:path>
              <a:path stroke="0" w="20836" h="21596">
                <a:moveTo>
                  <a:pt x="372" y="-1"/>
                </a:moveTo>
                <a:cubicBezTo>
                  <a:pt x="9969" y="164"/>
                  <a:pt x="18306" y="6644"/>
                  <a:pt x="20836" y="15903"/>
                </a:cubicBezTo>
                <a:lnTo>
                  <a:pt x="0" y="21596"/>
                </a:lnTo>
                <a:lnTo>
                  <a:pt x="372" y="-1"/>
                </a:lnTo>
                <a:close/>
              </a:path>
            </a:pathLst>
          </a:custGeom>
          <a:noFill/>
          <a:ln w="25560">
            <a:solidFill>
              <a:srgbClr val="f4c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239760" y="382680"/>
            <a:ext cx="30258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9036000" y="781200"/>
            <a:ext cx="0" cy="2388960"/>
          </a:xfrm>
          <a:prstGeom prst="line">
            <a:avLst/>
          </a:prstGeom>
          <a:ln w="25560">
            <a:solidFill>
              <a:srgbClr val="f4c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650320" y="6561000"/>
            <a:ext cx="33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24</a:t>
            </a:r>
            <a:r>
              <a:rPr b="1" lang="nl-NL" sz="1000" spc="-1" strike="noStrike" baseline="36000">
                <a:solidFill>
                  <a:srgbClr val="ff9933"/>
                </a:solidFill>
                <a:latin typeface="Rockwell"/>
                <a:ea typeface="Rockwell"/>
              </a:rPr>
              <a:t>th </a:t>
            </a: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EUGridPMA Meeting, </a:t>
            </a:r>
            <a:r>
              <a:rPr b="1" lang="fr-FR" sz="1000" spc="-1" strike="noStrike">
                <a:solidFill>
                  <a:srgbClr val="ff9933"/>
                </a:solidFill>
                <a:latin typeface="Rockwell"/>
                <a:ea typeface="Rockwell"/>
              </a:rPr>
              <a:t>Ljubljana, Slovenia</a:t>
            </a: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, 2012</a:t>
            </a:r>
            <a:endParaRPr b="0" lang="en-US" sz="1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Straight Connector 12"/>
          <p:cNvSpPr/>
          <p:nvPr/>
        </p:nvSpPr>
        <p:spPr>
          <a:xfrm>
            <a:off x="108000" y="6556320"/>
            <a:ext cx="8928000" cy="0"/>
          </a:xfrm>
          <a:prstGeom prst="line">
            <a:avLst/>
          </a:prstGeom>
          <a:ln w="19080">
            <a:solidFill>
              <a:srgbClr val="ffe6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8259120" y="6537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67E8-ABBB-4E51-9483-89D8E00871E9}" type="slidenum">
              <a:rPr b="1" lang="en-US" sz="1400" spc="-1" strike="noStrike">
                <a:solidFill>
                  <a:srgbClr val="ff9933"/>
                </a:solidFill>
                <a:latin typeface="Rockwell"/>
                <a:ea typeface="Rockwell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4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2B77-F758-4C04-808D-9B9CA0CC56C8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6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7D7D-BE37-436C-9D63-569CBDD23069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8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70D1-77C0-4FEF-A089-313D18794867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9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0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4D57-36DF-466B-9626-8FC553328C46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2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24F0-93A7-4911-A959-BB3F9F9C4A70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3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4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8684-00A7-4544-B841-A5582F2F0AF8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5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000" y="2300400"/>
            <a:ext cx="80643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 Black"/>
              </a:rPr>
              <a:t>TNGrid CA</a:t>
            </a:r>
            <a:endParaRPr b="1" lang="en-US" sz="44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11280" y="335592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24</a:t>
            </a:r>
            <a:r>
              <a:rPr b="1" lang="nl-NL" sz="1600" spc="-1" strike="noStrike" baseline="34000">
                <a:solidFill>
                  <a:srgbClr val="000099"/>
                </a:solidFill>
                <a:latin typeface="Rockwell"/>
              </a:rPr>
              <a:t>th</a:t>
            </a: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 EUGridPMA meeting 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Rockwell"/>
              </a:rPr>
              <a:t>Ljubljana, Slovenia</a:t>
            </a: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Rockwell"/>
              </a:rPr>
              <a:t>16-18 January, 2012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51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Rockwell"/>
              </a:rPr>
              <a:t>Heithem ABBES                Mohamed JEMNI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Rockwell"/>
              </a:rPr>
              <a:t>heithem.abbes@esstt.rnu.tn                     mohamed.jemni@fst.rnu.tn</a:t>
            </a: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Rockwell"/>
              </a:rPr>
              <a:t>Research Unit </a:t>
            </a:r>
            <a:r>
              <a:rPr b="1" lang="it-IT" sz="1200" spc="-1" strike="noStrike">
                <a:solidFill>
                  <a:srgbClr val="000099"/>
                </a:solidFill>
                <a:latin typeface="Rockwell"/>
              </a:rPr>
              <a:t>Technolgies of Information and Communication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Rockwell"/>
              </a:rPr>
              <a:t>University of Tunis </a:t>
            </a:r>
            <a:r>
              <a:rPr b="1" lang="en-US" sz="1200" spc="-1" strike="noStrike">
                <a:solidFill>
                  <a:srgbClr val="000099"/>
                </a:solidFill>
                <a:latin typeface="Rockwell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</p:txBody>
      </p:sp>
      <p:pic>
        <p:nvPicPr>
          <p:cNvPr id="520" name="Image 3" descr="TN-GRID.png"/>
          <p:cNvPicPr/>
          <p:nvPr/>
        </p:nvPicPr>
        <p:blipFill>
          <a:blip r:embed="rId1"/>
          <a:stretch/>
        </p:blipFill>
        <p:spPr>
          <a:xfrm>
            <a:off x="128520" y="477720"/>
            <a:ext cx="2139840" cy="1511280"/>
          </a:xfrm>
          <a:prstGeom prst="rect">
            <a:avLst/>
          </a:prstGeom>
          <a:ln w="0">
            <a:noFill/>
          </a:ln>
        </p:spPr>
      </p:pic>
      <p:pic>
        <p:nvPicPr>
          <p:cNvPr id="521" name="Image 2" descr="logo2.bmp"/>
          <p:cNvPicPr/>
          <p:nvPr/>
        </p:nvPicPr>
        <p:blipFill>
          <a:blip r:embed="rId2"/>
          <a:stretch/>
        </p:blipFill>
        <p:spPr>
          <a:xfrm>
            <a:off x="3973680" y="765000"/>
            <a:ext cx="885600" cy="952560"/>
          </a:xfrm>
          <a:prstGeom prst="rect">
            <a:avLst/>
          </a:prstGeom>
          <a:ln w="0">
            <a:noFill/>
          </a:ln>
        </p:spPr>
      </p:pic>
      <p:pic>
        <p:nvPicPr>
          <p:cNvPr id="522" name="Image 4" descr="eumedgrid_logo.png"/>
          <p:cNvPicPr/>
          <p:nvPr/>
        </p:nvPicPr>
        <p:blipFill>
          <a:blip r:embed="rId3"/>
          <a:stretch/>
        </p:blipFill>
        <p:spPr>
          <a:xfrm>
            <a:off x="6411960" y="739800"/>
            <a:ext cx="1905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Name Form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66560" y="1268280"/>
            <a:ext cx="8282160" cy="52689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Issuer (TNGrid CA)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/O=TNGrid/CN=TNGrid CA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User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organization name of the subject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Forename and the Surname of the subject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Host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name of the organization owning the host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DNS FQDN of the host preceded by 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‘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host/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’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Service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name of the organization owning the service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DNS FQDN of the server preceded by 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‘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serviceName/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’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where serviceName must uniquely identify the service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5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5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07640" y="232560"/>
            <a:ext cx="6635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Private Ke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9280" y="1266480"/>
            <a:ext cx="8137800" cy="51865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Asymmetric algorithm: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RSA</a:t>
            </a:r>
            <a:endParaRPr b="0" lang="en-US" sz="17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Key size: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2048 bit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4.1.2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Protected by a pass-phrase of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15 character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6.4.1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The pass-phrase is only known to CA operators</a:t>
            </a:r>
            <a:endParaRPr b="0" lang="en-US" sz="17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TNGrid CA private key is kept, encrypted, in multiple copies and in different location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6.2.4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Rockwell"/>
              </a:rPr>
              <a:t>In case the private key of the TNGrid CA is (or suspected to be) compromised , the CA shall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500" spc="-1" strike="noStrike">
                <a:solidFill>
                  <a:srgbClr val="000099"/>
                </a:solidFill>
                <a:latin typeface="Rockwell"/>
              </a:rPr>
              <a:t>[CP/CPS 5.7.3]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notify subscribers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terminate issuing certificates and CRLs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generate a new CA key pair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revoke all certificates signed using the compromised key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Certificat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2200" y="1052640"/>
            <a:ext cx="7705800" cy="525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Version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1" lang="fr-FR" sz="1800" spc="-1" strike="noStrike">
                <a:solidFill>
                  <a:srgbClr val="ff9933"/>
                </a:solidFill>
                <a:latin typeface="Rockwell"/>
              </a:rPr>
              <a:t>3 (0x2)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erial Number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2 (0x2)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ignature Algorithm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sha256WithRSAEncryption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Issuer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600" spc="-1" strike="noStrike">
                <a:solidFill>
                  <a:srgbClr val="000099"/>
                </a:solidFill>
                <a:latin typeface="Rockwell"/>
              </a:rPr>
              <a:t>CN=TNGrid CA,O=TNGrid,C=TN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Validity 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Not Before: </a:t>
            </a:r>
            <a:r>
              <a:rPr b="0" lang="pl-PL" sz="1600" spc="-1" strike="noStrike">
                <a:solidFill>
                  <a:srgbClr val="0000cc"/>
                </a:solidFill>
                <a:latin typeface="Rockwell"/>
              </a:rPr>
              <a:t>Dec 16 14:27:25 2011 GM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Not After : </a:t>
            </a:r>
            <a:r>
              <a:rPr b="0" lang="pl-PL" sz="1600" spc="-1" strike="noStrike">
                <a:solidFill>
                  <a:srgbClr val="0000cc"/>
                </a:solidFill>
                <a:latin typeface="Rockwell"/>
              </a:rPr>
              <a:t>Dec 11 14:27:25 2031 GM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ubject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CN=TNGrid CA,O=TNGrid,C=TN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ubject Public Key Info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Public Key Algorithm: </a:t>
            </a:r>
            <a:r>
              <a:rPr b="0" lang="en-US" sz="1600" spc="-1" strike="noStrike">
                <a:solidFill>
                  <a:srgbClr val="ff9933"/>
                </a:solidFill>
                <a:latin typeface="Rockwell"/>
              </a:rPr>
              <a:t>rsaEncryption 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RSA Public Key: </a:t>
            </a:r>
            <a:r>
              <a:rPr b="1" lang="en-US" sz="1600" spc="-1" strike="noStrike">
                <a:solidFill>
                  <a:srgbClr val="ff9933"/>
                </a:solidFill>
                <a:latin typeface="Rockwell"/>
              </a:rPr>
              <a:t>2048 bi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Certificat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95280" y="1257480"/>
            <a:ext cx="8282160" cy="5340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CA certificate are following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asic Constraints: </a:t>
            </a:r>
            <a:r>
              <a:rPr b="1" lang="en-US" sz="2000" spc="-1" strike="noStrike">
                <a:solidFill>
                  <a:srgbClr val="ff9933"/>
                </a:solidFill>
                <a:latin typeface="Rockwell"/>
              </a:rPr>
              <a:t>critical, CA:TRU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Key Usage: </a:t>
            </a:r>
            <a:r>
              <a:rPr b="0" lang="fr-FR" sz="2000" spc="-1" strike="noStrike">
                <a:solidFill>
                  <a:srgbClr val="ff9933"/>
                </a:solidFill>
                <a:latin typeface="Rockwell"/>
              </a:rPr>
              <a:t>critical, keyCertSign</a:t>
            </a:r>
            <a:r>
              <a:rPr b="0" lang="en-US" sz="2000" spc="-1" strike="noStrike">
                <a:solidFill>
                  <a:srgbClr val="ff9933"/>
                </a:solidFill>
                <a:latin typeface="Rockwell"/>
              </a:rPr>
              <a:t>, CRL Signing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Subject Key Identifier: </a:t>
            </a:r>
            <a:r>
              <a:rPr b="0" lang="en-US" sz="2000" spc="-1" strike="noStrike">
                <a:solidFill>
                  <a:srgbClr val="ff9933"/>
                </a:solidFill>
                <a:latin typeface="Rockwell"/>
              </a:rPr>
              <a:t>CA key ID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Authority Key Identifier: </a:t>
            </a:r>
            <a:r>
              <a:rPr b="0" lang="fr-FR" sz="2400" spc="-1" strike="noStrike">
                <a:solidFill>
                  <a:srgbClr val="ff9933"/>
                </a:solidFill>
                <a:latin typeface="Rockwell"/>
              </a:rPr>
              <a:t>keyid,issuer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Rockwell"/>
              </a:rPr>
              <a:t>crlDistributionPoints = </a:t>
            </a:r>
            <a:r>
              <a:rPr b="0" lang="fr-FR" sz="2400" spc="-1" strike="noStrike">
                <a:solidFill>
                  <a:srgbClr val="ff9933"/>
                </a:solidFill>
                <a:latin typeface="Rockwell"/>
              </a:rPr>
              <a:t>URI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4360" y="1413000"/>
            <a:ext cx="7775280" cy="4851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Key size &gt;=1024 bits [CP/CPS 6.1.5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Life time :1 year plus one month (395 days) [CP/CPS 6.3.2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ser certificate must not be shared  [CP/CPS 4.5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Each entity must generate its key pair [CP/CPS 6.1.1, 6.1.2]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End entity should protect his/her passphrase according to   </a:t>
            </a:r>
            <a:r>
              <a:rPr b="0" lang="ja-JP" sz="2400" spc="-1" strike="noStrike">
                <a:solidFill>
                  <a:srgbClr val="ff0000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Guidelines on Private Key Protection</a:t>
            </a:r>
            <a:r>
              <a:rPr b="0" lang="ja-JP" sz="2400" spc="-1" strike="noStrike">
                <a:solidFill>
                  <a:srgbClr val="ff0000"/>
                </a:solidFill>
                <a:latin typeface="Rockwell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[CP/CPS 4.1.2]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280" y="352080"/>
            <a:ext cx="82803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Enrollment process &amp; responsibilitie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68000" y="1267920"/>
            <a:ext cx="8351640" cy="51246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Rockwell"/>
              </a:rPr>
              <a:t>For </a:t>
            </a:r>
            <a:r>
              <a:rPr b="1" lang="en-GB" sz="2600" spc="-1" strike="noStrike">
                <a:solidFill>
                  <a:srgbClr val="ff0000"/>
                </a:solidFill>
                <a:latin typeface="Rockwell"/>
              </a:rPr>
              <a:t>user certificates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ser certificate requests is submitted by an online procedure on TNGrid CA secure website (https://www.tngrid.tn/index/ca/), using a web browser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key pairs are generated by the web browser locally on the user's machine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certificate (public key signed by the CA) can only be downloaded using the same browser, including the key pair, on the same machine, by a secure URL from TNGrid CA website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611280" y="1196640"/>
            <a:ext cx="813744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r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host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service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certificat</a:t>
            </a:r>
            <a:r>
              <a:rPr b="1" lang="en-US" sz="2300" spc="-1" strike="noStrike">
                <a:solidFill>
                  <a:srgbClr val="ff0000"/>
                </a:solidFill>
                <a:latin typeface="Rockwell"/>
              </a:rPr>
              <a:t>es</a:t>
            </a:r>
            <a:endParaRPr b="0" lang="en-US" sz="23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host or service administrator creates key pair and certificate request file using </a:t>
            </a:r>
            <a:r>
              <a:rPr b="0" i="1" lang="en-US" sz="2100" spc="-1" strike="noStrike">
                <a:solidFill>
                  <a:srgbClr val="000099"/>
                </a:solidFill>
                <a:latin typeface="Rockwell"/>
              </a:rPr>
              <a:t>OpenSSL</a:t>
            </a: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 packages, submit certificate request file to the TNGrid CA by a signed e-mail.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private key is kept by the host or service administrator. 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certificate request will be verified by the appropriate RA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If the request is approved by the RA, the requester will then receive an e-mail, containing his/her certificate or information needed to download using a browser by a secure URL on the TNGrid CA website.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280" y="352080"/>
            <a:ext cx="82803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Enrollment process &amp; responsibilitie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000" y="439920"/>
            <a:ext cx="7343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ertificate issuanc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30280"/>
            <a:ext cx="8507520" cy="4662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certificate request shall be transferred to the machine which holds the private key of TNGrid CA and which is offline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n this machine the certificate is created and signed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signed certificate shall then be transferred back to the online CA server and an email will be sent to the relevant RA manager informing him/her about the action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lifetime of the certificate is one year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ertificate acceptanc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94920" y="1267920"/>
            <a:ext cx="8280360" cy="49690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The subscriber must send an e-mail within 15 days from the day that his/her certificate was issued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He/she will sign his/her e-mail with issued certificate confirming the acceptance of the certificated his/her adhesion to the policy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Upon receipt of a certificate acceptance the TNGrid CA will make available the certificate on its repository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230040"/>
            <a:ext cx="80647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39280" y="1123920"/>
            <a:ext cx="8425080" cy="5400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user certificates 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are following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basicConstraints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CA:FALS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digitalSignature, keyEncipherment, dataEncipher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extended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lientAuth, emailProtec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rlDistributionPoint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URI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ertificatePolicie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Your_OID, Authentication_Profile_OI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has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authority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keyid,issu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AltName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email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120" y="354240"/>
            <a:ext cx="7140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: Tunisian National Grid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pic>
        <p:nvPicPr>
          <p:cNvPr id="524" name="Image 3" descr="TN-GRID.png"/>
          <p:cNvPicPr/>
          <p:nvPr/>
        </p:nvPicPr>
        <p:blipFill>
          <a:blip r:embed="rId1"/>
          <a:stretch/>
        </p:blipFill>
        <p:spPr>
          <a:xfrm>
            <a:off x="3635280" y="5013360"/>
            <a:ext cx="2140200" cy="1511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395280" y="1339560"/>
            <a:ext cx="8353440" cy="41050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8000"/>
          </a:bodyPr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TNGrid project is an initiative of the research unit of Technologies of Information and Communication (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UTIC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) at the Higher School of Sciences and Technology of Tunis</a:t>
            </a:r>
            <a:r>
              <a:rPr b="0" i="1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ESSTT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) of the University of Tunis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NGrid offers an open and free Tunisian National Grid for researchers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grid computing platform is based on institutional resources and volunteer participations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10920" y="1268280"/>
            <a:ext cx="8281800" cy="52675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host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service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certificates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are following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basicConstraints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CA:FALS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digitalSignature, keyEncipherment, dataEncipher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extended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lientAuth,</a:t>
            </a: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 </a:t>
            </a:r>
            <a:r>
              <a:rPr b="1" lang="fr-FR" sz="1800" spc="-1" strike="noStrike">
                <a:solidFill>
                  <a:srgbClr val="008000"/>
                </a:solidFill>
                <a:latin typeface="Rockwell"/>
              </a:rPr>
              <a:t>serverAut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rlDistributionPoint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URI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ertificatePolicie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Your_OID, Authentication_Profile_OI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has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authority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keyid,issu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AltName=</a:t>
            </a:r>
            <a:r>
              <a:rPr b="1" lang="fr-FR" sz="1800" spc="-1" strike="noStrike">
                <a:solidFill>
                  <a:srgbClr val="008000"/>
                </a:solidFill>
                <a:latin typeface="Rockwell"/>
              </a:rPr>
              <a:t>DNS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95280" y="1196640"/>
            <a:ext cx="8424720" cy="51246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ertificate Renewal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4.6]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TNGrid CA does not permit certificate signing request with the same key as the previous certificat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ertificate Re-key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4.7.3]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After a certificate has been revoked, expired, will be expired in one month, or the private key is compromised 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If the certificate has been revoked, expired, or compromised, it must follow enrolment process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94920" y="1125360"/>
            <a:ext cx="8497800" cy="532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7000"/>
          </a:bodyPr>
          <a:p>
            <a:pPr marL="332640" indent="-33264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an be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requested by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certificate subscrib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ny other entity presenting proof of knowledge of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2" marL="1108440" indent="-221400">
              <a:spcAft>
                <a:spcPts val="601"/>
              </a:spcAft>
              <a:buClr>
                <a:srgbClr val="f1af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Rockwell"/>
              </a:rPr>
              <a:t>private key compromise</a:t>
            </a:r>
            <a:endParaRPr b="0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2" marL="1108440" indent="-221400">
              <a:spcAft>
                <a:spcPts val="601"/>
              </a:spcAft>
              <a:buClr>
                <a:srgbClr val="f1af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Rockwell"/>
              </a:rPr>
              <a:t>modification of the subscriber's data</a:t>
            </a:r>
            <a:endParaRPr b="0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32640" indent="-33264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 certificate 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will be 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revoked in the following circumstances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of the certificate has ceased being an eligible end entity for certifi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does not require the certificate any mor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private key has been lost or compromis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information in the certificate is wrong or inaccur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ystem to which the certificate has been issued has been retir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has failed to comply with the rules of TNGrid CP/CPS Polic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68360" y="1197000"/>
            <a:ext cx="8353440" cy="52689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Procedure for Revocation Reques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[CP/CPS 4.9.3]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 revocation request must be made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the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owner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 of the certificate in an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e-mail signed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with the private key associated with the (still not expired) certificate,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on behalf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of the owner who has lost his/her private key in an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e-mail signed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an authorized person of the organization/unit that consented to the certificat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the RA using a secure web interfac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The TNGrid CA must process revocation requests with the highest priority within one working day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[CP/CPS 4.9.5]</a:t>
            </a: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 Lis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68360" y="981000"/>
            <a:ext cx="820728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Lifetime is 30 days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4.9.7]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CRL issuance </a:t>
            </a:r>
            <a:r>
              <a:rPr b="1" lang="en-US" sz="1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4.9.7] 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RLs are issued after every certificate revo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t least every month, 7 days before the month-long validity of the CRL has expir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vailable at online repository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3" marL="120024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Rockwell"/>
              </a:rPr>
              <a:t>http://www.tngrid.tn/pki/pub/crl/cacrl.crl  </a:t>
            </a:r>
            <a:endParaRPr b="0" i="1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3" marL="120024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https://www.tngrid.tn/pki/pub/crl/cacrl.pem </a:t>
            </a:r>
            <a:endParaRPr b="0" i="1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Rockwell"/>
              </a:rPr>
              <a:t>Version: </a:t>
            </a:r>
            <a:r>
              <a:rPr b="1" lang="de-DE" sz="1800" spc="-1" strike="noStrike">
                <a:solidFill>
                  <a:srgbClr val="ff0000"/>
                </a:solidFill>
                <a:latin typeface="Rockwell"/>
              </a:rPr>
              <a:t>x509 v3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[CP/CPS 7.2] 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0920" y="-15840"/>
            <a:ext cx="784836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ompromise and Disaster Recover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6360" y="1196640"/>
            <a:ext cx="8496360" cy="51958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CA private key is (or suspect to be) compromised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nform the RA, subscribers and relying parties of which the CA is awar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erminate the certificates and CRL distribution services for certificates and CRLs issued using the compromised ke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Notify relevant security contact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a RA Operator</a:t>
            </a:r>
            <a:r>
              <a:rPr b="1" lang="fr-FR" sz="2000" spc="-1" strike="noStrike">
                <a:solidFill>
                  <a:srgbClr val="000099"/>
                </a:solidFill>
                <a:latin typeface="Rockwell"/>
              </a:rPr>
              <a:t>’</a:t>
            </a: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s private key is (or suspected to be) compromised 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the RA Operator or Manager must inform the CA and request the revocation of the RA Operator</a:t>
            </a:r>
            <a:r>
              <a:rPr b="0" lang="fr-FR" sz="1600" spc="-1" strike="noStrike">
                <a:solidFill>
                  <a:srgbClr val="0000cc"/>
                </a:solidFill>
                <a:latin typeface="Rockwell"/>
              </a:rPr>
              <a:t>’</a:t>
            </a: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s certificate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Entity Private Key is compromised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RA has to be informed immediately in order to start the certificate revocation process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Publication &amp; Repositor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95280" y="1125360"/>
            <a:ext cx="8424720" cy="5183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NGrid CA will publish the following information on its website 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[CP/CPS 2.2]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neral information about TNGrid CA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E-mail addresses for inquiries and fault reporting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Mailing address of CA Administration lo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NGrid CA root certific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EM format of the TNGrid CA certific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d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ertificate Revocation Lis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P/CPS docu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s web repository is available 24x7 on a best effort basis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Achieved work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6200" y="1125360"/>
            <a:ext cx="8426520" cy="5183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Preparation CP/CPS Documen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P/CPS is revised (3 times) by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Feyza Eryol from TUBITAK ULAKBIM,Turkey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omments from Fayza were implemented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oftware for CA setup  (both for online and offline CA)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esting the CA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nerate CA private ke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CA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a user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a host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nline web repository is operationa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Image 1" descr="Image 2.png"/>
          <p:cNvPicPr/>
          <p:nvPr/>
        </p:nvPicPr>
        <p:blipFill>
          <a:blip r:embed="rId1"/>
          <a:stretch/>
        </p:blipFill>
        <p:spPr>
          <a:xfrm>
            <a:off x="592200" y="511200"/>
            <a:ext cx="7796160" cy="60134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1763640" y="-27360"/>
            <a:ext cx="5400720" cy="6476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0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http://www.tngrid.tn/index/ca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79280" y="765000"/>
            <a:ext cx="7632720" cy="64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1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https://www.tngrid.tn/pki/pub/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  <p:pic>
        <p:nvPicPr>
          <p:cNvPr id="581" name="Image 1" descr="Image 3.png"/>
          <p:cNvPicPr/>
          <p:nvPr/>
        </p:nvPicPr>
        <p:blipFill>
          <a:blip r:embed="rId1"/>
          <a:stretch/>
        </p:blipFill>
        <p:spPr>
          <a:xfrm>
            <a:off x="17640" y="1484280"/>
            <a:ext cx="9151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99640" y="211320"/>
            <a:ext cx="73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: Tunisian National Grid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pic>
        <p:nvPicPr>
          <p:cNvPr id="527" name="Image 3" descr="Image 5.png"/>
          <p:cNvPicPr/>
          <p:nvPr/>
        </p:nvPicPr>
        <p:blipFill>
          <a:blip r:embed="rId1"/>
          <a:stretch/>
        </p:blipFill>
        <p:spPr>
          <a:xfrm>
            <a:off x="1044720" y="1052640"/>
            <a:ext cx="6983280" cy="54147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1619280" y="549000"/>
            <a:ext cx="5400720" cy="647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216000" rIns="198000" tIns="216000" bIns="216000" anchor="t">
            <a:normAutofit fontScale="70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http://www.tngrid.tn/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52560" y="2876040"/>
            <a:ext cx="6859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 Black"/>
              </a:rPr>
              <a:t>Thanks for your Atten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CA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8360" y="981000"/>
            <a:ext cx="820728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TIC research unit is involved in grid computing research axis since 2004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TIC research unit is working and is participating in EUMEDGRID projects coordinated by INFN (Italy) since 2006 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We have started as Registration Authority, managed by Mohamed Jemni, with INFN CA and still using INFN CA services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We have prepared to set up the</a:t>
            </a: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 TNGrid CA and to be fully operational  just after our accreditation process with EuGridPMA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usage 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24000" y="1125360"/>
            <a:ext cx="8496000" cy="489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Rockwell"/>
              </a:rPr>
              <a:t>Certificates issued by the TNGrid CA are only valid in the context of scientific activities:</a:t>
            </a:r>
            <a:endParaRPr b="0" lang="en-US" sz="2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User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issued to authenticate the users who benefit from academic and research resources, services and activities.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Host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used for the machines of clusters inside TNGrid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Service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used to recognize services used inside TNGrid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A Manager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5280" y="1197000"/>
            <a:ext cx="8282160" cy="4751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Rockwell"/>
              </a:rPr>
              <a:t>TNGrid CA will be managed by UTIC which manages TNGrid infrastructure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Rockwell"/>
              </a:rPr>
              <a:t>The Manager of the TNGrid CA is: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    </a:t>
            </a:r>
            <a:r>
              <a:rPr b="1" lang="en-US" sz="2200" spc="-1" strike="noStrike">
                <a:solidFill>
                  <a:srgbClr val="0000cc"/>
                </a:solidFill>
                <a:latin typeface="Rockwell"/>
              </a:rPr>
              <a:t>Mohamed Jemni  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(mohamed.jemni@fst.rnu.tn)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The alternate representative is: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    </a:t>
            </a:r>
            <a:r>
              <a:rPr b="1" lang="en-US" sz="2200" spc="-1" strike="noStrike">
                <a:solidFill>
                  <a:srgbClr val="0000cc"/>
                </a:solidFill>
                <a:latin typeface="Rockwell"/>
              </a:rPr>
              <a:t>Heithem Abb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(heithem.abbes@esstt.rnu.tn)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P/CP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0920" y="1123920"/>
            <a:ext cx="8064360" cy="1152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5000"/>
          </a:bodyPr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ID: </a:t>
            </a:r>
            <a:r>
              <a:rPr b="1" lang="en-US" sz="2000" spc="-1" strike="noStrike">
                <a:solidFill>
                  <a:srgbClr val="ff0000"/>
                </a:solidFill>
                <a:latin typeface="Rockwell"/>
              </a:rPr>
              <a:t>1.3.6.1.4.1.37660.1.1.1.0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7.1.6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tructured as defined in </a:t>
            </a: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RFC 3647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1.1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187280" y="2852640"/>
          <a:ext cx="6840720" cy="2592360"/>
        </p:xfrm>
        <a:graphic>
          <a:graphicData uri="http://schemas.openxmlformats.org/drawingml/2006/table">
            <a:tbl>
              <a:tblPr/>
              <a:tblGrid>
                <a:gridCol w="3421080"/>
                <a:gridCol w="34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OID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1.3.6.1.4.1.37660.1.1.1.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IANA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1.3.6.1.4.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UTIC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3766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TNGrid CA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.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CP/CPS documen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CP/CPS Version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P/CP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94920" y="1197000"/>
            <a:ext cx="8280360" cy="489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Policy Administration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1.5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UTIC research unit (ESSTT University) is responsible for the management, registration, maintenance and interpretation of TNGrid CA. It is reachable at: http://www.utic.rnu.t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ll major changes related to policy, technology or security must be approved by TNGRID CA before signing any certificates under the new CP/CP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ll versions will be available at online repository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https://www.tngrid.tn/pki/pub/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KI Info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t CA Policy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http://www.tngrid.tn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ertification Authority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olicy Document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System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50920" y="1041480"/>
            <a:ext cx="864216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Uses 2 dedicated machines:</a:t>
            </a: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One offline signing server (</a:t>
            </a:r>
            <a:r>
              <a:rPr b="1" lang="en-US" sz="1700" spc="-1" strike="noStrike">
                <a:solidFill>
                  <a:srgbClr val="ff0000"/>
                </a:solidFill>
                <a:latin typeface="Rockwell"/>
              </a:rPr>
              <a:t>Offline CA server</a:t>
            </a: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)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Intel Core 2 Duo 2,33GHZ, 3GB RAM ;300 GB HD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perating System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Debian 5.0.5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Softwar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OpenCA v1.1.1, OpenSSL V2.0.31, Apache V2.2.9, MySQL v 5.1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One online web server (</a:t>
            </a:r>
            <a:r>
              <a:rPr b="1" lang="en-US" sz="1700" spc="-1" strike="noStrike">
                <a:solidFill>
                  <a:srgbClr val="ff0000"/>
                </a:solidFill>
                <a:latin typeface="Rockwell"/>
              </a:rPr>
              <a:t>Online CA server</a:t>
            </a: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):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cc"/>
                </a:solidFill>
                <a:latin typeface="Rockwell"/>
              </a:rPr>
              <a:t>https://www.tngrid.tn/pki/pub/ 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For Subscribers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cc"/>
                </a:solidFill>
                <a:latin typeface="Rockwell"/>
              </a:rPr>
              <a:t>https://www.tngrid.tn/pki/ra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:For RA Manager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Intel Core 2 Duo 2,33GHZ, 3GB RAM ; 200 GB HD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perating System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Debian 5.0.5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Softwar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OpenCA v1.1.1, OpenSSL V2.0.31, Apache V2.2.9, MySQL v 5.1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Located at Grid Center Room, ESSTT </a:t>
            </a: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Rockwell"/>
              </a:rPr>
              <a:t>Only CA managers and CA operators can be granted physical access to CA machines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Rockwell"/>
              </a:rPr>
              <a:t>A secure environment where access is controlled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8:57:16Z</dcterms:created>
  <dc:creator>Ghassan SABA</dc:creator>
  <dc:description/>
  <dc:language>en-US</dc:language>
  <cp:lastModifiedBy>Heithem Abbes</cp:lastModifiedBy>
  <dcterms:modified xsi:type="dcterms:W3CDTF">2012-01-17T09:29:40Z</dcterms:modified>
  <cp:revision>602</cp:revision>
  <dc:subject/>
  <dc:title>Presentation of HIAST GRID 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33</vt:lpwstr>
  </property>
</Properties>
</file>