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1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2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0DFD7-561A-4126-B5C5-05057F9048A8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45449-B052-419D-A165-3524A93BCC87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C07C1-C6E1-4C15-A532-C69F8FD96382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C6CC7-F834-44D4-B3E6-1291E90A02A5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886B6-E31F-4838-AB1A-1981D7F69F82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7CB0B-56D3-495F-BA13-B48B784A96D4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35ED-118E-466E-98F6-7011656D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5AB8-0AA5-4D38-8F9B-B6703E0C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43CE-7192-4DA1-872F-812FDF28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372D-A86F-468A-99B7-33F28528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FE5F-24C1-4CD6-BDE8-6AF362C4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B1DD-5870-4F1B-99FE-5E32C87D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E292-4971-42EB-998B-C190E183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FF10-4912-4AE2-9408-FAD0AE45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13C7-711D-4D9F-BA18-73BFD3A9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D6FB-87A1-422A-9D81-2AC8CCE8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16EC-A094-4562-9E3A-7614914C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ECC5-4982-4B28-99B6-98FCD00E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43DB-C4EB-4C05-8B2C-045C6E83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43D8-DDD9-42D9-A049-B4B807A2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7FCC-79B3-4E00-9781-8821FA93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40E0-B333-4578-97DB-05D94363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3A3F-4678-4EB5-9810-F5D98AA6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76DB-0FE3-4DAA-8DE7-330CF01E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6CD2-98A8-4644-9C7A-7FE27547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B55B-BC8E-42AB-BCAA-D8328799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5AF8-6537-4511-BA88-982D327E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F252-C018-4EF7-96F5-F5CD61DE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65A7-E4B6-4F0D-BC11-2A7F048D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5A19-FB7E-40AB-9E9D-4B0A490B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360" t="6749" r="2352" b="217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8267760" y="6124680"/>
            <a:ext cx="517320" cy="376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"/>
          <p:cNvPicPr/>
          <p:nvPr/>
        </p:nvPicPr>
        <p:blipFill>
          <a:blip r:embed="rId4"/>
          <a:stretch/>
        </p:blipFill>
        <p:spPr>
          <a:xfrm>
            <a:off x="723960" y="5262480"/>
            <a:ext cx="1800000" cy="8762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2222640" y="1770120"/>
            <a:ext cx="6921360" cy="50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4880" y="293760"/>
            <a:ext cx="76946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04880" y="1668600"/>
            <a:ext cx="769464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5"/>
          <a:stretch/>
        </p:blipFill>
        <p:spPr>
          <a:xfrm>
            <a:off x="3808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6"/>
          <a:srcRect l="0" t="-35347" r="-25968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1"/>
          </p:nvPr>
        </p:nvSpPr>
        <p:spPr>
          <a:xfrm>
            <a:off x="5333760" y="6530760"/>
            <a:ext cx="4014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BE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DEBE8D-7812-482F-9243-5EC1AC7CE1AD}" type="slidenum">
              <a:rPr b="0" lang="nl-BE" sz="900" spc="-1" strike="noStrike">
                <a:solidFill>
                  <a:srgbClr val="8b8e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720360" y="6530760"/>
            <a:ext cx="82548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5"/>
          <a:stretch/>
        </p:blipFill>
        <p:spPr>
          <a:xfrm>
            <a:off x="3952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6"/>
          <a:srcRect l="0" t="-35347" r="-25968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5"/>
          </p:nvPr>
        </p:nvSpPr>
        <p:spPr>
          <a:xfrm>
            <a:off x="720360" y="6530760"/>
            <a:ext cx="82548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5364000" y="6554880"/>
            <a:ext cx="403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1ACF0-7475-4B25-AF51-4E077501D8D8}" type="slidenum">
              <a:rPr b="0" lang="nl-BE" sz="900" spc="-1" strike="noStrike">
                <a:solidFill>
                  <a:srgbClr val="8b8e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5"/>
          <a:stretch/>
        </p:blipFill>
        <p:spPr>
          <a:xfrm>
            <a:off x="3808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6"/>
          <a:srcRect l="0" t="-35347" r="-25968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6"/>
          </p:nvPr>
        </p:nvSpPr>
        <p:spPr>
          <a:xfrm>
            <a:off x="5333760" y="6530760"/>
            <a:ext cx="4014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BE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BACC97-9196-4700-B1FE-A07F10CCF550}" type="slidenum">
              <a:rPr b="0" lang="nl-BE" sz="900" spc="-1" strike="noStrike">
                <a:solidFill>
                  <a:srgbClr val="8b8e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7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dt" idx="8"/>
          </p:nvPr>
        </p:nvSpPr>
        <p:spPr>
          <a:xfrm>
            <a:off x="720720" y="6530760"/>
            <a:ext cx="111456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12 september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5"/>
          <a:stretch/>
        </p:blipFill>
        <p:spPr>
          <a:xfrm>
            <a:off x="3952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6"/>
          <a:srcRect l="0" t="-35347" r="-25968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0"/>
          <p:cNvSpPr/>
          <p:nvPr/>
        </p:nvSpPr>
        <p:spPr>
          <a:xfrm>
            <a:off x="5364000" y="6554880"/>
            <a:ext cx="403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C429D-D210-4F27-8EB5-A4BD894A0642}" type="slidenum">
              <a:rPr b="0" lang="nl-BE" sz="900" spc="-1" strike="noStrike">
                <a:solidFill>
                  <a:srgbClr val="8b8e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9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dt" idx="10"/>
          </p:nvPr>
        </p:nvSpPr>
        <p:spPr>
          <a:xfrm>
            <a:off x="720720" y="6530760"/>
            <a:ext cx="111456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12 september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savannah.cern.ch/patch/?5011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4520" y="293400"/>
            <a:ext cx="769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EUGridPMA – BEgrid CA updat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04520" y="1668600"/>
            <a:ext cx="769788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net – Jean-Christophe 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rakech – 12 September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Date Placeholder 5"/>
          <p:cNvSpPr/>
          <p:nvPr/>
        </p:nvSpPr>
        <p:spPr>
          <a:xfrm>
            <a:off x="720720" y="6531120"/>
            <a:ext cx="971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12 september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0092d2"/>
              </a:buClr>
              <a:buSzPct val="7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urrent System: Own CA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Live since the 28</a:t>
            </a:r>
            <a:r>
              <a:rPr b="1" lang="nl-BE" sz="2400" spc="-1" strike="noStrike" baseline="33000">
                <a:solidFill>
                  <a:srgbClr val="0092d2"/>
                </a:solidFill>
                <a:latin typeface="Arial"/>
              </a:rPr>
              <a:t>th</a:t>
            </a: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 october 2008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Modul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A, RA, EE, Log, Management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May be splitted on different server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Internal certificates for module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Access rights per module / certificate profil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Certificates: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rofile per institution (associated RA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Around 350 active certificate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Date Placeholder 4"/>
          <p:cNvSpPr/>
          <p:nvPr/>
        </p:nvSpPr>
        <p:spPr>
          <a:xfrm>
            <a:off x="720720" y="6531120"/>
            <a:ext cx="825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9280" y="358920"/>
            <a:ext cx="75326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current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Belnet / BEgrid staff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Authority for the syste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entral RA / backup RA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Monitoring of the syste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Supervision of the local RA’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Local RA’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urrently: 12 people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Staff of the various institution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Trained by BEgrid staff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Date Placeholder 5"/>
          <p:cNvSpPr/>
          <p:nvPr/>
        </p:nvSpPr>
        <p:spPr>
          <a:xfrm>
            <a:off x="720720" y="6531120"/>
            <a:ext cx="1114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urrent System: Own CA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CA offlin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Adds a lot of work to Belnet’s CA staff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Looking forward to go online again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Network HS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Very expensive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Need more usages than Begrid CA alone.. CERT ?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SoftHSM ?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http://www.opendnssec.org/softhsm/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Date Placeholder 4"/>
          <p:cNvSpPr/>
          <p:nvPr/>
        </p:nvSpPr>
        <p:spPr>
          <a:xfrm>
            <a:off x="720720" y="6531120"/>
            <a:ext cx="825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Transition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till use our own CA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witch to TERENA’s Personnal Certificat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Currently investigated :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Personal e-science certificates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Institutions must be member of the Belnet R&amp;E Federation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Later :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e-science server certificates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First tests with personal e-science certificat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Problem with proxy path length   (glite-ce-cream-1.12.4-2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savannah.cern.ch/patch/?5011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Known bug, patch needs to be deployed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As soon as patched is widely deployed, we will inform our users that they may start to use personal e-science certificat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In parallel, we start testing server e-science certificat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Date Placeholder 4"/>
          <p:cNvSpPr/>
          <p:nvPr/>
        </p:nvSpPr>
        <p:spPr>
          <a:xfrm>
            <a:off x="720720" y="6531120"/>
            <a:ext cx="825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0:23:45Z</dcterms:created>
  <dc:creator>Elke</dc:creator>
  <dc:description/>
  <dc:language>en-US</dc:language>
  <cp:lastModifiedBy>jean-christophe</cp:lastModifiedBy>
  <dcterms:modified xsi:type="dcterms:W3CDTF">2011-09-09T11:56:26Z</dcterms:modified>
  <cp:revision>25</cp:revision>
  <dc:subject/>
  <dc:title>Title presentation</dc:title>
</cp:coreProperties>
</file>