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97ABEF-C540-413C-9262-2829306F53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DC8F29F-8282-41A8-A550-A2508D06E1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6F04BFE-4D9A-4537-ABBC-86ECEB6C3CC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C433C07-AB6F-44B1-81EB-CF2F11E571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EA0B533-56D7-4B80-9A28-2D8B8E45FC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1E0BF76-F931-4DE0-981F-C6A2689C75B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B3ED444-674D-4567-A1EB-948E065C9C9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E989173-9804-406D-A493-F1272060711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33B2DAC-AA0E-4443-9859-8828BA0312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D482F2D-2F54-4DB7-80E0-DD72AA6D6A2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5F2826C-F624-457A-9A0F-B82EF8355C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5947BCA-CB2F-461A-A1EA-90D4C971561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B84B809-9A16-47B6-A9F5-116F04AC27A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Large-scale issuing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f host certs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in a member-integrated or institutional CA environment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itial use ca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entrally managed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arge data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xample: CER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&gt;&gt; 10 000 syst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stitutional proper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perating (as an EIRO) an institutionally-embedded CA</a:t>
            </a:r>
            <a:br>
              <a:rPr sz="2000"/>
            </a:b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but could also be an automated RA for an external CA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naged hosts in physically controlled environm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fully centralised configuration management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im: provision host certs in a scalable and secure 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5114880" y="1290600"/>
            <a:ext cx="38005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implified request 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9" name="Picture 2" descr="H:\Home\davidg\EUGridPMA\Meetings\2011-09-Marrakesh\CERN-host-cert-usecase.gif"/>
          <p:cNvPicPr/>
          <p:nvPr/>
        </p:nvPicPr>
        <p:blipFill>
          <a:blip r:embed="rId1"/>
          <a:stretch/>
        </p:blipFill>
        <p:spPr>
          <a:xfrm>
            <a:off x="1100160" y="1415880"/>
            <a:ext cx="76150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Work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New servers that are put into production in the CERN Computer Center will communicate with the Configuration Manager Servers and will signal that they require a host certificat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After the validation of the requester Configuration Manager Servers  will be able to request host certificates of the new template on behalf of the servers from step 1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those Configuration Manager Server possessing a valid Robot certificate will be able to do that. Robot certificates will be installed on them manually and following the standard through-the-website procedur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quests from step 2 will be securely sent to CERN CA using a special web service (not a website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ply from CERN CA will be sent to the Server from step 1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bvious pros and c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With O(1000) requests, humans cannot accurately check them all for correctness: </a:t>
            </a:r>
            <a:br>
              <a:rPr sz="2400"/>
            </a:b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automated process reduces number of erro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Close integration with CA request process reduces number of points between admin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664d"/>
                </a:solidFill>
                <a:latin typeface="Lucida Sans"/>
              </a:rPr>
              <a:t> 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RA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utomated processes can make errors as well, and very fast inde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Identification of ‘new’ computer hardware is 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on-trivia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Humans are good at identifying oddities, making some attack modes harder to exploi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ull discussion in January (Ljubljana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xtended description will be given by Alexey (CERN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ssess risks and opport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eeds description in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ddress attacks on CM servers (referring to the attacks on automated CAs recently, like Comodo, DigiNotar, ..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euristics to mitigate risk (correlation with installments, domain checks, time-of-day, etc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dentification of requesting machines?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that be done? TPM, MAC, network,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ase should be supported – scaling really nee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9-09T15:16:53Z</dcterms:modified>
  <cp:revision>592</cp:revision>
  <dc:subject/>
  <dc:title>European Grid Policy Management Authority</dc:title>
</cp:coreProperties>
</file>