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BC448-A576-467F-B986-5C176D43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A3CF3-D242-4789-B079-94221E5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6259F-6D1F-4761-96A7-0D2448A4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123B2-94C8-4CA3-BE00-3745F52B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88A3E-E847-487E-9D53-6198F4D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902F7-8203-49CD-804C-9C0A965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26F17-82F2-4BC6-B0FD-96DD6A1A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DD4C7-7035-47B2-AC54-0A4D6FEB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E3C85-2E6F-4048-808B-A61B6697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978B-BDF5-4344-8BAB-B00581FE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B2713-DF05-4485-BCFD-BBD58B58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78A22-182C-4DC7-BD8E-75BE7590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4000" y="6237000"/>
            <a:ext cx="50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cott Rea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scott.rea@HEBCA.org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98100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947F-DE24-4693-8FCA-DA61B7BEAAB3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54200" cy="11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DFFE-E1DC-4BE4-A5DF-3E384C64641A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011320" cy="1371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cott.Rea@HEBCA.org" TargetMode="External"/><Relationship Id="rId2" Type="http://schemas.openxmlformats.org/officeDocument/2006/relationships/hyperlink" Target="mailto:Roger.Impey@nrc-cnrc.gc.c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gtf.net/" TargetMode="External"/><Relationship Id="rId2" Type="http://schemas.openxmlformats.org/officeDocument/2006/relationships/hyperlink" Target="http://www.tagpma.org/" TargetMode="External"/><Relationship Id="rId3" Type="http://schemas.openxmlformats.org/officeDocument/2006/relationships/hyperlink" Target="http://tagpma.es.net/wiki" TargetMode="External"/><Relationship Id="rId4" Type="http://schemas.openxmlformats.org/officeDocument/2006/relationships/hyperlink" Target="mailto:Scott.Rea@HEBCA.org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48229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n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Update from the TAGPMA</a:t>
            </a:r>
            <a:br>
              <a:rPr sz="3200"/>
            </a:br>
            <a:r>
              <a:rPr b="0" lang="en-GB" sz="2800" spc="-1" strike="noStrike">
                <a:solidFill>
                  <a:srgbClr val="0000ff"/>
                </a:solidFill>
                <a:latin typeface="Impact"/>
              </a:rPr>
              <a:t>Scott Re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4941720"/>
            <a:ext cx="7983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21</a:t>
            </a:r>
            <a:r>
              <a:rPr b="0" lang="en-GB" sz="2800" spc="-1" strike="noStrike" baseline="30000">
                <a:solidFill>
                  <a:srgbClr val="008000"/>
                </a:solidFill>
                <a:latin typeface="Impact"/>
              </a:rPr>
              <a:t>st</a:t>
            </a:r>
            <a:r>
              <a:rPr b="0" lang="en-GB" sz="2800" spc="-1" strike="noStrike">
                <a:solidFill>
                  <a:srgbClr val="008000"/>
                </a:solidFill>
                <a:latin typeface="Impact"/>
              </a:rPr>
              <a:t> EUGridPMA, Utrecht, N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mpact"/>
              </a:rPr>
              <a:t>Jan 25, 2011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765000"/>
            <a:ext cx="3527280" cy="1287000"/>
            <a:chOff x="4572000" y="765000"/>
            <a:chExt cx="3527280" cy="1287000"/>
          </a:xfrm>
        </p:grpSpPr>
        <p:sp>
          <p:nvSpPr>
            <p:cNvPr id="87" name=""/>
            <p:cNvSpPr txBox="1"/>
            <p:nvPr/>
          </p:nvSpPr>
          <p:spPr>
            <a:xfrm>
              <a:off x="4626000" y="76500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140940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urrent Offi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Scott Rea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HEB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Scott.Rea@HEBCA.or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 Chair: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Roger Impey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CANAR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Roger.Impey@nrc-cnrc.gc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July 20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: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Alan Sill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 (THE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n.sill@ttu.edu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Jim Marsteller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(TeraGrid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m@psc.e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lan handles logistics &amp; scribe, Jim handles membership &amp; accreditation track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since Nov 201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Doug Olson</a:t>
            </a: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 (OSG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olson@lbl.gov resigned in Nov 2010 due to changing role at OS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125360"/>
          <a:ext cx="6842160" cy="5102280"/>
        </p:xfrm>
        <a:graphic>
          <a:graphicData uri="http://schemas.openxmlformats.org/drawingml/2006/table">
            <a:tbl>
              <a:tblPr/>
              <a:tblGrid>
                <a:gridCol w="1943280"/>
                <a:gridCol w="504720"/>
                <a:gridCol w="1785960"/>
                <a:gridCol w="2608200"/>
              </a:tblGrid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ganiz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ben Aqui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 Stol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Veno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ger Imp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ndra Ja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P-U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764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E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nod Rebe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B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, M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Gri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ke He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E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Basn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x 2, MICS x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R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reyas Ch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rwin Gai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ek Sim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g Ol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a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im Marstell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ve Kels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B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A 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rry Pere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Bucc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Gr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an Si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ying Par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--------------------------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CS UT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haniel Mendoz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LCS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AND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res Hog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: Op Revie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AMH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chard Migu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gio Liet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ic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ott Sak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S (in-proces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5 Members from North, Central and South Amer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Covering Canada, US, Mexico, Venezuela, Chile, Peru Argentina, Brazil, and Colombia. Two Catchall CAs cover the remaining countr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17 IGTF Accredited 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9 Classic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TACC - US, UFF BrGrid &amp; UFF LACGrid - Brazil, UNLPGrid - Argentina, REUNA – Chile, ULAGrid – Venezuela, GridCanada, UNAM - Mexico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NOTE: DOE Grid accredited by EUGridP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5 SLCS (NCSA x 2, FermiLabs, NERSC, and PS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MICS (NCSA - US, CILogin - US and TACC -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6 CAs in-process, pending accredi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3 Classic pending (SENAMHI – Peru, UNIANDES – Colombia, ANSP – B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MICS pending (SDSC – US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1 SLCS pending (NICS UTK – 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7 Relying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(OSG, TeraGrid, THEgrid, LCG, HEBCA, NIH, SURA Gri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2 relying parties added at last F2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in suspended status due to inactiv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Verdana"/>
              </a:rPr>
              <a:t>UVA (Jim Jok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1 Member representative un-specified due to change in personn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ommunication Infra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igtf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ebsi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tagpma.org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static, public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Still undergoing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twiki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(s)://tagpma.es.net/wik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hosts TAGPMA documents, tutorials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tains agenda and minutes from bi-weekly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.e. more active (in-process) type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Mailing li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pma-general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iling lists have been moved over to Google Apps for Education, also enabling Calendar, Docs &amp;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Email any issues direct to the Chair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cott.Rea@HEBCA.org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ummary of New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Symposium on Authentication Technologies; Roundtable on Cloud and Grid Security Standards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October 4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,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12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TAGPMA F2F &amp; IGTF 5</a:t>
            </a:r>
            <a:r>
              <a:rPr b="1" lang="en-US" sz="1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 Anniversary at Texas Tech Uni, Lubbock, T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October 5 –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Details can be found her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300" spc="-1" strike="noStrike">
                <a:solidFill>
                  <a:srgbClr val="333399"/>
                </a:solidFill>
                <a:latin typeface="Verdana"/>
              </a:rPr>
              <a:t>http://indico.rnp.br/conferenceDisplay.py?confId=8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Verdana"/>
              </a:rPr>
              <a:t>Most Recent Accred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CSA CILogin (MICS) – Oct 7, 201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Verdana"/>
              </a:rPr>
              <a:t>NICS &amp; UNIANDES just awaiting Operational Revie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3 CAs (2xClassic, 1xMICS) in process for accredi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2 Relying Parties (SURA, NIH) added – Oct 7, 201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Verdana"/>
              </a:rPr>
              <a:t>Authentication Pro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MICS 1.2 approved by TAGPMA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ttp://tagpma.es.net/wiki/bin/view/Main/TagMICS)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3th TAGPMA F2F planned for Bogota, Colum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-3 June, 2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etails to follow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26th Januar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to attend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Scott Rea</dc:creator>
  <dc:description/>
  <dc:language>en-US</dc:language>
  <cp:lastModifiedBy>Scott</cp:lastModifiedBy>
  <dcterms:modified xsi:type="dcterms:W3CDTF">2011-01-25T13:10:31Z</dcterms:modified>
  <cp:revision>129</cp:revision>
  <dc:subject>21st EUGridPMA</dc:subject>
  <dc:title>TAGPMA Update</dc:title>
</cp:coreProperties>
</file>