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F065056-7C1C-429C-A557-454A9F1AD9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02CF54D-8905-414F-BE8C-49BE5BC0D1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CD78E7E-3581-4007-80CF-2102ED73530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E0A303F-9E59-46E5-8E1A-7C8FABC3599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485151D-797F-45EA-9C30-17BEE20BBBF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B4CD0CD9-294B-45A5-873E-D2B847B807CD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557E95FC-C251-4107-94EC-07697AE42DB9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42A97988-141C-4DCC-BC74-2484E5DD7D7B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DE6E9158-9F3D-4C2B-8163-315675FD6EB4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3C76676-579E-47AA-B823-2A8E8702897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83EAC6B-6DD4-4EA2-B4DB-7EE450693EC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2B3F2687-FBDE-4DEC-85BC-949A05A0EE4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893CDAB2-93C7-4A8C-BA04-DD5DF8C015DF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Security Token Services </a:t>
            </a: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for e-Infrastructures?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4-26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Utrecht, the Netherland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ecurity Mechanisms: new directi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GI Infrastructure supported by a series of EU projects on software developm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MI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G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tratusLab, VENUS-C, EDGI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EGI + M/W project develop middleware roadm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n EMI roadmap is a study on ‘native integration’ of multiple security mechanisms, based around the Security Token Service (STS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EMI STS Roadmap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urity Token Service (STS) development dependent on DCI user need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ork owner in EMI is SWITCH (CH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totype after the first year of the EMI projec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itial prototype dependent on Shibboleth IdP v3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 collaboration with the WS-Trust interop grou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206280" y="6002280"/>
            <a:ext cx="893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MI DJRA1.3.1, 17 Dec 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https://twiki.cern.ch/twiki/bin/view/EMI/DeliverableDJRA1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STS role in the infrastructur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use as a trusted source of security toke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derived from yet other tokens (translator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as foreseen in EMI, ties in with online CAs and attribute authorities (like VOMS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ooks a bit like a generalised SLC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2" name="Picture 3" descr="C:\Users\davidg\Desktop\Trans\STS-IdP_integration.png"/>
          <p:cNvPicPr/>
          <p:nvPr/>
        </p:nvPicPr>
        <p:blipFill>
          <a:blip r:embed="rId1"/>
          <a:stretch/>
        </p:blipFill>
        <p:spPr>
          <a:xfrm>
            <a:off x="1814400" y="3244680"/>
            <a:ext cx="517680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Other STS characteristic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838080" y="1295280"/>
            <a:ext cx="83059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TS translates anything to anyth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 general it is WS-* like security (WS-Trus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needs a trusted source of SAML meta-dat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inking it to an on-line CA is just an edge case..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STS does trust establishm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o there is a need for relying parties to ‘trust’ the tokens coming out of i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oes not easily fit any of the current IGTF AP model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technology is different, but in EGI-EMI scenarios the logical role may be equivalent or complementar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Consideration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how can we help facilitate trust building 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ike we do today for PKIX-based trust models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hould we facilitate trust establishment via SAML-metadata?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scussion proposal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oda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troduction to STS concepts and practical experience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(thanks to Remco and SURFnet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discussion on our role and feasibilit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If we decide to continue on this track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Prague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MI plans for STS and EMI roadmap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scope of the new work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Ljubljana meeting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itial concepts around a Profile and trust guidelin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Beginning 2012: recommendations/guidelines/AP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BUT NOW ...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1-21T13:21:30Z</dcterms:modified>
  <cp:revision>496</cp:revision>
  <dc:subject/>
  <dc:title>European Grid Policy Management Authority</dc:title>
</cp:coreProperties>
</file>