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1153-FB08-428C-AFCD-0F78CAE1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C6E8-6352-4B97-8D05-22D122F0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744C-8912-4526-94DF-8E7AAEEB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EF8A-DF48-4D6D-BD05-A345C19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FCE2-D2A7-44F0-98E2-C88A5E48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6796-B515-4F71-ABDA-E6ECBDB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E6B3-F278-4273-AA89-88977FC1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5D13-DD31-43B7-B83A-F1F7ABE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76C4-4BDC-4BA9-8416-C678B46F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447-7648-486A-BCAA-7097B9D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ED3E-D8A1-4FE7-A576-9F25590A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3749-5177-42E2-8272-6B27D241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484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0760" y="198252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1892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484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0760" y="4129200"/>
            <a:ext cx="242424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8920" y="358920"/>
            <a:ext cx="7529400" cy="50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7040" y="412920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7040" y="1982520"/>
            <a:ext cx="367416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8920" y="4129200"/>
            <a:ext cx="7529400" cy="196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360" t="6749" r="2352" b="217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267760" y="6124680"/>
            <a:ext cx="517320" cy="376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23960" y="5262480"/>
            <a:ext cx="1800000" cy="876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2222640" y="1770120"/>
            <a:ext cx="6921360" cy="50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04880" y="293760"/>
            <a:ext cx="76946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04880" y="1668600"/>
            <a:ext cx="7694640" cy="38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1"/>
          </p:nvPr>
        </p:nvSpPr>
        <p:spPr>
          <a:xfrm>
            <a:off x="5333760" y="6530760"/>
            <a:ext cx="4014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B3438A-3BCA-4C89-9A75-D23E2920028F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2360" t="2364" r="2828" b="23437"/>
          <a:stretch/>
        </p:blipFill>
        <p:spPr>
          <a:xfrm>
            <a:off x="380880" y="0"/>
            <a:ext cx="8763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94640" y="6286680"/>
            <a:ext cx="1079640" cy="393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5280" y="6534000"/>
            <a:ext cx="576108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rcRect l="0" t="-35346" r="-25969" b="0"/>
          <a:stretch/>
        </p:blipFill>
        <p:spPr>
          <a:xfrm>
            <a:off x="4356000" y="0"/>
            <a:ext cx="4788000" cy="295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2940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18920" y="1982520"/>
            <a:ext cx="75294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92d2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1432080" y="6530760"/>
            <a:ext cx="389880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BEgrid CA update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5"/>
          </p:nvPr>
        </p:nvSpPr>
        <p:spPr>
          <a:xfrm>
            <a:off x="720360" y="6530760"/>
            <a:ext cx="825480" cy="3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900" spc="-1" strike="noStrike">
                <a:solidFill>
                  <a:srgbClr val="969797"/>
                </a:solidFill>
                <a:latin typeface="Times New Roman"/>
                <a:ea typeface="Lucida Sans Unicode"/>
              </a:rPr>
              <a:t>25 january 2011</a:t>
            </a:r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6554880"/>
            <a:ext cx="403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22FCC-7248-40F8-BB15-D416A5A42268}" type="slidenum">
              <a:rPr b="0" lang="nl-BE" sz="900" spc="-1" strike="noStrike">
                <a:solidFill>
                  <a:srgbClr val="8b8e8d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pentrust.com/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29340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EUGridPMA – BEgrid CA updat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04520" y="1668600"/>
            <a:ext cx="769788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net – Jean-Christophe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trecht – 25 Januar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orresponding RA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RA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8920" y="358560"/>
            <a:ext cx="753084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ertificate request (no local RA)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user make the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contact him: 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ersonnal identification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email addres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heck if the user is entitled to use the Grid (collect needed documents, contact the institution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grid PKI staff validates the reques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The CA signs the certificate (automatic)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Some statistic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628640"/>
          <a:ext cx="7530840" cy="4111560"/>
        </p:xfrm>
        <a:graphic>
          <a:graphicData uri="http://schemas.openxmlformats.org/drawingml/2006/table">
            <a:tbl>
              <a:tblPr/>
              <a:tblGrid>
                <a:gridCol w="1139760"/>
                <a:gridCol w="1914480"/>
                <a:gridCol w="2332080"/>
                <a:gridCol w="2144520"/>
              </a:tblGrid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Issuance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Revoc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Expiration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4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7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8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8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09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55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6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0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3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011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BE" sz="1800" spc="-1" strike="noStrike">
                          <a:solidFill>
                            <a:srgbClr val="4e504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4e504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till use our own (Opentrust) CA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e are happy with i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Need to renew the licen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witch to TERENA’s Personnal Certificat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ill be investigate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4e504f"/>
                </a:solidFill>
                <a:latin typeface="Arial"/>
              </a:rPr>
              <a:t>What will happen for the local RA’s ?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982520"/>
            <a:ext cx="75326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Times New Roman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LD system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OpenC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Was working but...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Lot of work on BELNET part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No local RA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all of tender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0092d2"/>
              </a:buClr>
              <a:buSzPct val="7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KI system (not only) for the BEgrid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duct / Full Servic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644400" indent="-271440">
              <a:spcBef>
                <a:spcPts val="451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6 answ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4 Full Service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  <a:p>
            <a:pPr lvl="2" marL="1147680" indent="-228600">
              <a:spcBef>
                <a:spcPts val="400"/>
              </a:spcBef>
              <a:buClr>
                <a:srgbClr val="4e504f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600" spc="-1" strike="noStrike">
                <a:solidFill>
                  <a:srgbClr val="4e504f"/>
                </a:solidFill>
                <a:latin typeface="Arial"/>
              </a:rPr>
              <a:t>2 Software products</a:t>
            </a:r>
            <a:endParaRPr b="0" lang="en-US" sz="16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F23A-9575-4365-ACFF-315E100954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0092d2"/>
              </a:buClr>
              <a:buSzPct val="7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OpenTrust PKI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trust.com/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operate as much CA and Root CA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We may deliver as much certificates as we want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ive since the 28</a:t>
            </a:r>
            <a:r>
              <a:rPr b="1" lang="nl-BE" sz="2400" spc="-1" strike="noStrike" baseline="33000">
                <a:solidFill>
                  <a:srgbClr val="0092d2"/>
                </a:solidFill>
                <a:latin typeface="Arial"/>
              </a:rPr>
              <a:t>th</a:t>
            </a: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 october 2008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buClr>
                <a:srgbClr val="4e504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Module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A, RA, EE, Log, Management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ay be splitted on different server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Internal certificates for module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Access rights per module / certificate profile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Certificates: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1240" indent="-284040">
              <a:spcBef>
                <a:spcPts val="451"/>
              </a:spcBef>
              <a:buClr>
                <a:srgbClr val="4e504f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 </a:t>
            </a: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profile per institution (associated RA)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46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Arial Rounded MT Bold"/>
              </a:rPr>
              <a:t>BEgrid CA certificate profile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69600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11280" y="1413000"/>
          <a:ext cx="43434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43434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58920"/>
            <a:ext cx="75326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current system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BELNET / BEgrid staff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Authority for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entral RA / backup RA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Monitoring of the system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upervision of the local RA’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Local RA’s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Currently: 12 people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Staff of the various institutions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1800" spc="-1" strike="noStrike">
                <a:solidFill>
                  <a:srgbClr val="4e504f"/>
                </a:solidFill>
                <a:latin typeface="Arial"/>
              </a:rPr>
              <a:t>Trained by BEgrid staff</a:t>
            </a:r>
            <a:endParaRPr b="0" lang="en-US" sz="1800" spc="-1" strike="noStrike">
              <a:solidFill>
                <a:srgbClr val="4e50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itle pres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dd.mm.yyy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58920"/>
            <a:ext cx="75308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Arial Rounded MT Bold"/>
              </a:rPr>
              <a:t>Begrid CA local RA’s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8920" y="1982520"/>
            <a:ext cx="75308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Managed by a 2 year convention between the RA, its institution and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Followed a training by BELNE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400" spc="-1" strike="noStrike">
                <a:solidFill>
                  <a:srgbClr val="0092d2"/>
                </a:solidFill>
                <a:latin typeface="Arial"/>
              </a:rPr>
              <a:t>Should know their users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Should have a backup person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BE" sz="2400" spc="-1" strike="noStrike">
                <a:solidFill>
                  <a:srgbClr val="0092d2"/>
                </a:solidFill>
                <a:latin typeface="Arial"/>
              </a:rPr>
              <a:t>Validates the certificate / revocation request.</a:t>
            </a:r>
            <a:endParaRPr b="1" lang="en-US" sz="2400" spc="-1" strike="noStrike">
              <a:solidFill>
                <a:srgbClr val="0092d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23:45Z</dcterms:created>
  <dc:creator>Elke</dc:creator>
  <dc:description/>
  <dc:language>en-US</dc:language>
  <cp:lastModifiedBy>Jean-Christophe Real</cp:lastModifiedBy>
  <dcterms:modified xsi:type="dcterms:W3CDTF">2011-01-24T14:23:13Z</dcterms:modified>
  <cp:revision>11</cp:revision>
  <dc:subject/>
  <dc:title>Title presentation</dc:title>
</cp:coreProperties>
</file>