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9387B-ECE1-47A1-910B-140B56A96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46095-A9F7-489C-BE1E-022B6290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A65583-B057-4FE8-B1E9-4E9B1B6CC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8B71D-FEA6-4EE0-BD24-ABEB597B7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6EB6A-BAB8-4E37-9245-F2E402B7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M CA is serving as part of NGI-M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GO-Netrust  data in statistics of Mar.’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B1B58-40F1-481F-B498-0DCF58008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80F95-BD4B-46C9-BAEC-1F27231CC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0520" y="9075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49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0520" y="3765960"/>
            <a:ext cx="2735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-235440"/>
            <a:ext cx="741528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760" y="37659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760" y="907560"/>
            <a:ext cx="41461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3765960"/>
            <a:ext cx="8496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77080" y="6284880"/>
            <a:ext cx="2266920" cy="57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6337440"/>
            <a:ext cx="1116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619280" y="-235440"/>
            <a:ext cx="74152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6588000" y="6211800"/>
            <a:ext cx="2556000" cy="64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0" y="6134040"/>
            <a:ext cx="1547640" cy="723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0560" y="44280"/>
            <a:ext cx="8496360" cy="6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4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0" y="1981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date of APGridP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09480" y="3962520"/>
            <a:ext cx="7921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ric 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GridP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n 24.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(17 -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0" y="714240"/>
            <a:ext cx="533412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4 Accredited 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IST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RCS (A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SG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NIC (CN), SD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GCA (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HEP (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EK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KISTI (K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AREGI (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CHC (TW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CTEC (T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GO/Netrust (SG) </a:t>
            </a:r>
            <a:r>
              <a:rPr b="0" i="1" lang="en-US" sz="2200" spc="-1" strike="noStrike" u="sng">
                <a:solidFill>
                  <a:srgbClr val="800000"/>
                </a:solidFill>
                <a:uFillTx/>
                <a:latin typeface="Comic Sans MS"/>
                <a:ea typeface="ＭＳ Ｐゴシック"/>
              </a:rPr>
              <a:t>Withdrew 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RAGMA-UCSD (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HKU (H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14800" y="304920"/>
            <a:ext cx="48769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golia - under accred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M (MY) was approved as a new member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8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GO-Netrust (SG) withdraw was approved in Aug.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9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verage by 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0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ilippine, Vietnam, Malaysia, Indonesia, New Zealand &amp; Sri Lanka (so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1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Zealand WLCG site is in production, with CA support from AR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2"/>
              </a:buBlip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5190480" y="5581800"/>
            <a:ext cx="370116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: 11 Countries/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: + 6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-to-date 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914400"/>
          <a:ext cx="7486920" cy="4929120"/>
        </p:xfrm>
        <a:graphic>
          <a:graphicData uri="http://schemas.openxmlformats.org/drawingml/2006/table">
            <a:tbl>
              <a:tblPr/>
              <a:tblGrid>
                <a:gridCol w="2071800"/>
                <a:gridCol w="1604880"/>
                <a:gridCol w="1905120"/>
                <a:gridCol w="1905120"/>
              </a:tblGrid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user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id host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voked ce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G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4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NI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G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G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REGI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Gri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CTEC GOC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AGMA-UCSD 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矩形 4"/>
          <p:cNvSpPr/>
          <p:nvPr/>
        </p:nvSpPr>
        <p:spPr>
          <a:xfrm>
            <a:off x="285840" y="639612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dated at : 01, Dec.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TextBox 4" descr=""/>
          <p:cNvPicPr/>
          <p:nvPr/>
        </p:nvPicPr>
        <p:blipFill>
          <a:blip r:embed="rId1"/>
          <a:stretch/>
        </p:blipFill>
        <p:spPr>
          <a:xfrm>
            <a:off x="5645160" y="3913200"/>
            <a:ext cx="2468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hart 2" descr=""/>
          <p:cNvPicPr/>
          <p:nvPr/>
        </p:nvPicPr>
        <p:blipFill>
          <a:blip r:embed="rId1"/>
          <a:stretch/>
        </p:blipFill>
        <p:spPr>
          <a:xfrm>
            <a:off x="-12600" y="762120"/>
            <a:ext cx="9212040" cy="5619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ificate Stat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1619280" y="44280"/>
            <a:ext cx="74167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GridPMA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71280" y="907920"/>
            <a:ext cx="8964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3175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vious APGridPMA meeting was held on Oct. 12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 Operation Policy and Practice Update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 Audit Rep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ST, IGCA, KEK, NCHC, and ASG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early self audit report mechanism establi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xt APGridPMA F2F Meeting will be held on Mar.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elf Audit Report: HKU, IHEP, PRA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ew member report: UPM (delayed from last meet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2F meeting: Sapporo Japan, Oct 17, 2011, by A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llocated with PRAGMA 21 (Oct. 18-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1523880" y="44280"/>
            <a:ext cx="7391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GTF All Hands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0" y="762120"/>
            <a:ext cx="914400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ts val="3175"/>
              </a:lnSpc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e &amp; Time: March 21-22,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ce: Academia Sinica, Taipei, Tai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ocated Events: OGF31, ISGC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ODS Workshop (19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Science Application Workshop I: Natural Disaster Mitigation (19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Science Application Workshop II: Life Science (20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a@home Hackfest (20-21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GF Tutorial (DEGISCO) (21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TF All-Hands Meeting (21 - 22 March) + APGridP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GC 2010 Symposium(22 - 25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buSzPct val="102884"/>
              <a:buBlip>
                <a:blip r:embed="rId1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GF 31 (21-25 M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884"/>
              <a:buBlip>
                <a:blip r:embed="rId1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enda: Comments are welco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buSzPct val="102792"/>
              <a:buBlip>
                <a:blip r:embed="rId1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432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ts val="3175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23:10Z</dcterms:created>
  <dc:creator>David Groep</dc:creator>
  <dc:description/>
  <dc:language>en-US</dc:language>
  <cp:lastModifiedBy>mac</cp:lastModifiedBy>
  <dcterms:modified xsi:type="dcterms:W3CDTF">2011-01-24T08:42:23Z</dcterms:modified>
  <cp:revision>229</cp:revision>
  <dc:subject/>
  <dc:title>International Grid Trust Federation Session  GGF 18 Washington, DC, USA</dc:title>
</cp:coreProperties>
</file>