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move the slide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3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42D967A-BD13-4733-B0A2-9D02018568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CD57F89-D526-45D2-BAA4-6002EA881F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4640" y="4859280"/>
            <a:ext cx="520848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E8318A5-F385-4524-9302-6DA46292B4E6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19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34D3B1B-9096-4BFA-AEB8-2FDEAAB420B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1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22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4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466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8BD404A-A4E5-4AF8-9765-C1FEF5E5525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469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71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1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513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69F6AB96-D3E3-427B-9727-CEB48E724263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5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516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8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8" descr="eugridpma-02v03"/>
          <p:cNvPicPr/>
          <p:nvPr/>
        </p:nvPicPr>
        <p:blipFill>
          <a:blip r:embed="rId2"/>
          <a:stretch/>
        </p:blipFill>
        <p:spPr>
          <a:xfrm>
            <a:off x="1541520" y="55080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90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F2F391AA-189F-4618-B8B9-975B0E5C8FB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93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5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37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ABD52A63-3116-4679-B802-3F7ABB011B10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40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184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602DD9F-2B83-4E26-9167-D03212F7495E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187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31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9318951B-B4DC-43A3-9F4D-9E76972557E8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34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6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278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18E19774-09C3-4E56-9017-4128A60B1EE7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0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281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83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25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37E61986-BCEA-46EF-80B4-0BF61E16F12C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28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0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8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0" descr="eugridpma-02v03trozo2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9"/>
          <p:cNvGrpSpPr/>
          <p:nvPr/>
        </p:nvGrpSpPr>
        <p:grpSpPr>
          <a:xfrm>
            <a:off x="5259240" y="6597720"/>
            <a:ext cx="3628800" cy="354960"/>
            <a:chOff x="5259240" y="6597720"/>
            <a:chExt cx="3628800" cy="354960"/>
          </a:xfrm>
        </p:grpSpPr>
        <p:sp>
          <p:nvSpPr>
            <p:cNvPr id="372" name="AutoShape 10"/>
            <p:cNvSpPr/>
            <p:nvPr/>
          </p:nvSpPr>
          <p:spPr>
            <a:xfrm>
              <a:off x="5259240" y="6597720"/>
              <a:ext cx="362880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Text Box 11"/>
            <p:cNvSpPr/>
            <p:nvPr/>
          </p:nvSpPr>
          <p:spPr>
            <a:xfrm>
              <a:off x="5259240" y="6597720"/>
              <a:ext cx="3628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21</a:t>
              </a:r>
              <a:r>
                <a:rPr b="0" lang="en-GB" sz="1200" spc="-1" strike="noStrike" baseline="30000">
                  <a:solidFill>
                    <a:srgbClr val="8c8274"/>
                  </a:solidFill>
                  <a:latin typeface="Lucida Sans"/>
                </a:rPr>
                <a:t>st</a:t>
              </a: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 EUGridPMA Utrecht meeting – Jan 2011 - </a:t>
              </a:r>
              <a:fld id="{00438B37-A555-48F9-9035-7BD12C6C5B75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375" name="AutoShape 13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davidg@eugridpma.or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7" name="Picture 21" descr="eugridpma-02v02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55120" y="3376440"/>
            <a:ext cx="806796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21</a:t>
            </a:r>
            <a:r>
              <a:rPr b="1" lang="en-US" sz="4000" spc="-1" strike="noStrike" baseline="30000">
                <a:solidFill>
                  <a:srgbClr val="990000"/>
                </a:solidFill>
                <a:latin typeface="Lucida Sans"/>
              </a:rPr>
              <a:t>th</a:t>
            </a:r>
            <a:r>
              <a:rPr b="1" lang="en-US" sz="4000" spc="-1" strike="noStrike">
                <a:solidFill>
                  <a:srgbClr val="990000"/>
                </a:solidFill>
                <a:latin typeface="Lucida Sans"/>
              </a:rPr>
              <a:t> EUGridPMA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January 24-26, 2011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Lucida Sans"/>
              </a:rPr>
              <a:t>Utrecht, the Netherlands</a:t>
            </a:r>
            <a:endParaRPr b="1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Agenda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Lucida Sans"/>
              </a:rPr>
              <a:t>IGTF All Hands meeting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OGF 31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Taipei, 21+22 March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2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n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Prague, 11-13 May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NC2011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Prague, 16-19 May 2011 (REFEDs: 15 Ma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3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rd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Ljubljana, 12-14 September 2011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24</a:t>
            </a:r>
            <a:r>
              <a:rPr b="0" lang="en-GB" sz="2400" spc="-1" strike="noStrike" baseline="30000">
                <a:solidFill>
                  <a:srgbClr val="000066"/>
                </a:solidFill>
                <a:latin typeface="Lucida Sans"/>
              </a:rPr>
              <a:t>th</a:t>
            </a: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 EUGridPMA meeting</a:t>
            </a:r>
            <a:br>
              <a:rPr sz="2400"/>
            </a:br>
            <a:r>
              <a:rPr b="0" lang="en-GB" sz="2400" spc="-1" strike="noStrike">
                <a:solidFill>
                  <a:srgbClr val="990000"/>
                </a:solidFill>
                <a:latin typeface="Lucida Sans"/>
              </a:rPr>
              <a:t>January 2012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SURFnet</a:t>
            </a:r>
            <a:br>
              <a:rPr sz="4000"/>
            </a:b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Joost van Dijk en Thijs Kinkhorst</a:t>
            </a:r>
            <a:endParaRPr b="1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A Big Thank you for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67" name="Picture 4" descr="H:\Home\davidg\Template\Logos\surfnet-transparent.gif"/>
          <p:cNvPicPr/>
          <p:nvPr/>
        </p:nvPicPr>
        <p:blipFill>
          <a:blip r:embed="rId1"/>
          <a:stretch/>
        </p:blipFill>
        <p:spPr>
          <a:xfrm>
            <a:off x="708120" y="2619360"/>
            <a:ext cx="268452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0" y="28080"/>
            <a:ext cx="914400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Monday 24 09:30 – 17: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Welcome, agenda, minutes last meeting, note taker, introdu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Round-table up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4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s from the APGridPMA (Eric Y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IGTF Risk Assessment Team report (Jens Jens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Report-out from the self-audit review tea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EUMedGrid II Support Programme: Around the Med (Onur Temizsoyl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: DFN-PKI Grid CA (Reimer Karlsen-Masu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2.45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Discussion: role for PMA with introduction of STS services in e-Infrastructur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 security Token Service at SURFnet (Remco Poortinga-van Wijnen, 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uthorization Working Group (Dave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5.3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 from TAGPMA (Scott R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Authorization Working Group II (Dave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0" y="0"/>
            <a:ext cx="89679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Tuesday 25 09:30 – 17: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A Update I: BEGrid (Jean-Christophe Real, 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I: DZ e-Science Grid (Aouaouche El-Maouha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I: MREN CA (Lidija Milosavljevi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II: HIAST initial presentation (Ghassan Saba and Houssam Ab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rivate key protection and CA based key generation services (Scott Re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3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Lun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lanning of 2012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4.1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Jens’ Soap boxes Ltd. (Jens Jens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5.3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0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meeting structure: length of meetings and where best to do the self-audits report etc.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6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AOPS Working Group (Christos Kanellopoulos, Yoshio Tanak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7.2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Presentation of the next meeting in Prague, C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0" y="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alibri"/>
              </a:rPr>
              <a:t>Wednesday 26 09:30 – 13: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09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III: RDIG CA update (Eygene Riabinki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0.1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Self-Audit V: UGrid CA (Sergii Stirenk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11.00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Calibri,Italic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1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Updates to the MICS Profile, text edits from the TAGPMA (David Kelsey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30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New CA presentation III: KOSTAR/UAE (TB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12.45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,Italic"/>
              </a:rPr>
              <a:t>Closing and AO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Agenda &amp; Practicalit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ote tak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hanks to Ursula Epting, Dave Kelsey and David O'Callaghan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it’s not too burdonsome if there are &gt;=2!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r Presente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Upload your presentations to the agenda pag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ttp://www.eugridpma.org/meetings/2011-01/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nd follow the link to the on-line agend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Modification  password for the whole meeting: </a:t>
            </a:r>
            <a:r>
              <a:rPr b="1" lang="en-US" sz="1800" spc="-1" strike="noStrike">
                <a:solidFill>
                  <a:srgbClr val="c00000"/>
                </a:solidFill>
                <a:latin typeface="Lucida Sans"/>
              </a:rPr>
              <a:t>see board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troduction and highlight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nner Monday, 20.00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457200" y="798480"/>
            <a:ext cx="8491680" cy="5699160"/>
          </a:xfrm>
          <a:prstGeom prst="rect">
            <a:avLst/>
          </a:prstGeom>
          <a:ln w="0">
            <a:noFill/>
          </a:ln>
        </p:spPr>
      </p:pic>
      <p:sp>
        <p:nvSpPr>
          <p:cNvPr id="575" name="Right Arrow 4"/>
          <p:cNvSpPr/>
          <p:nvPr/>
        </p:nvSpPr>
        <p:spPr>
          <a:xfrm>
            <a:off x="797040" y="3997440"/>
            <a:ext cx="677880" cy="3538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6" name="Picture 3" descr="H:\Home\davidg\Template\Logos\surfnet-transparent-small.gif"/>
          <p:cNvPicPr/>
          <p:nvPr/>
        </p:nvPicPr>
        <p:blipFill>
          <a:blip r:embed="rId2"/>
          <a:stretch/>
        </p:blipFill>
        <p:spPr>
          <a:xfrm>
            <a:off x="797040" y="3660840"/>
            <a:ext cx="631800" cy="303120"/>
          </a:xfrm>
          <a:prstGeom prst="rect">
            <a:avLst/>
          </a:prstGeom>
          <a:ln w="0">
            <a:noFill/>
          </a:ln>
        </p:spPr>
      </p:pic>
      <p:sp>
        <p:nvSpPr>
          <p:cNvPr id="577" name="Left Arrow 6"/>
          <p:cNvSpPr/>
          <p:nvPr/>
        </p:nvSpPr>
        <p:spPr>
          <a:xfrm>
            <a:off x="5767560" y="4025880"/>
            <a:ext cx="603000" cy="264960"/>
          </a:xfrm>
          <a:prstGeom prst="leftArrow">
            <a:avLst>
              <a:gd name="adj1" fmla="val 50000"/>
              <a:gd name="adj2" fmla="val 49952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TextBox 9"/>
          <p:cNvSpPr/>
          <p:nvPr/>
        </p:nvSpPr>
        <p:spPr>
          <a:xfrm>
            <a:off x="3421080" y="4307040"/>
            <a:ext cx="296532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urks Restaurant Seli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ariastraat 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nner Tuesday, 20.00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371520" y="1085760"/>
            <a:ext cx="8772480" cy="5334120"/>
          </a:xfrm>
          <a:prstGeom prst="rect">
            <a:avLst/>
          </a:prstGeom>
          <a:ln w="0">
            <a:noFill/>
          </a:ln>
        </p:spPr>
      </p:pic>
      <p:sp>
        <p:nvSpPr>
          <p:cNvPr id="581" name="Right Arrow 4"/>
          <p:cNvSpPr/>
          <p:nvPr/>
        </p:nvSpPr>
        <p:spPr>
          <a:xfrm>
            <a:off x="884160" y="5530680"/>
            <a:ext cx="679680" cy="35424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2" name="Picture 3" descr="H:\Home\davidg\Template\Logos\surfnet-transparent-small.gif"/>
          <p:cNvPicPr/>
          <p:nvPr/>
        </p:nvPicPr>
        <p:blipFill>
          <a:blip r:embed="rId2"/>
          <a:stretch/>
        </p:blipFill>
        <p:spPr>
          <a:xfrm>
            <a:off x="884160" y="5194440"/>
            <a:ext cx="633600" cy="303120"/>
          </a:xfrm>
          <a:prstGeom prst="rect">
            <a:avLst/>
          </a:prstGeom>
          <a:ln w="0">
            <a:noFill/>
          </a:ln>
        </p:spPr>
      </p:pic>
      <p:sp>
        <p:nvSpPr>
          <p:cNvPr id="583" name="Left Arrow 6"/>
          <p:cNvSpPr/>
          <p:nvPr/>
        </p:nvSpPr>
        <p:spPr>
          <a:xfrm rot="18819000">
            <a:off x="6208560" y="1859040"/>
            <a:ext cx="604800" cy="265320"/>
          </a:xfrm>
          <a:prstGeom prst="leftArrow">
            <a:avLst>
              <a:gd name="adj1" fmla="val 50000"/>
              <a:gd name="adj2" fmla="val 50033"/>
            </a:avLst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4011480" y="2433600"/>
            <a:ext cx="296388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lamat Mak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oorstraat 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Lucida Sans"/>
              </a:rPr>
              <a:t>NEXT MEETINGS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g</cp:lastModifiedBy>
  <dcterms:modified xsi:type="dcterms:W3CDTF">2011-01-24T08:17:15Z</dcterms:modified>
  <cp:revision>493</cp:revision>
  <dc:subject/>
  <dc:title>European Grid Policy Management Authority</dc:title>
</cp:coreProperties>
</file>