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6B26F27-6236-46E4-966F-093C730451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86BF6DB-0F60-4BAA-A23B-6D398D60C5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51CE112-3EB4-4182-9F0D-168294787F4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789C0DAF-B232-4F09-83F6-3085100310B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5CF86A6-D18C-46DE-A2C7-9472B9AD23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EC8AE41-9B55-4D11-A1A1-373BB6092F4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21BF908C-F2A4-4F07-9951-D2CAE9C26EE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FAB391A8-AE70-418A-AFEE-783ADA53EFC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A2BE84A5-260D-41DB-97F0-6F1155C12CA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F114F7AF-2D26-4D1E-9EF3-EDDCD58C8E2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1BBC2565-42DE-4A62-BC98-7612F8CA55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F2732673-1EDF-4022-BC2E-823B74F0A4D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7B1DB6E-2471-425F-ACBB-932C7D4DAD5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0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ember 20-22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Zagreb, Croat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RCE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DOBRISA DOBREN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3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3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s://connect.srce.hr/eugrid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onday, Sep 20 meeting in front of Srce at 20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lace: Pri zvoncu, XII Vrbik 1 (http://www.prizvoncu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is is domestic restaurant next to the Srce and quite near The Movie Hotel as well as International Hotel (1 km)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uesday, Sep 21 meeting in front of Movie Hotel (http://www.themoviehotel.com/) at 19.0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nner place: Konoba Didov san - Gornji grad, Mletacka 11 (http://www.konoba-didovsan.com/)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mall domestic restaurant (just 25 places for us) with a hint of Adriatic coast (!) in downtown Zagreb. We are going there with tramway and will take a stroll through the heart of the c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9-20T07:30:10Z</dcterms:modified>
  <cp:revision>488</cp:revision>
  <dc:subject/>
  <dc:title>European Grid Policy Management Authority</dc:title>
</cp:coreProperties>
</file>