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420DD1D-3E1D-43A2-BC60-8311D7A63A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2A684D7-907A-48E6-862D-82AC751F31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C7D43538-7CE5-4158-8070-0E64CB901A1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35AEC050-72AD-4938-BDF3-5ECE31A709B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602EB235-0629-41DD-9EF5-45AE0BAC383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0D16206F-DABA-43C8-94D7-ED977FC732F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2269F35A-AE3B-4DD4-BFC3-1F5293BF81C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426DC40A-0664-4C2C-A6E0-58EA1601797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5EEE0341-091A-482A-95C9-54A7A2B8A8C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0D03B81F-39FB-4AAD-85E7-4A8DF2AB49B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3DC86592-3B44-4EE4-A116-9BE60B51576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9871FB73-8165-4703-AF69-E211C480B89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28E51AFD-F4F9-4E7E-9BB5-B868D13E753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9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April 19-21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iga, Latv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IGMANET</a:t>
            </a:r>
            <a:br>
              <a:rPr sz="4000"/>
            </a:br>
            <a:r>
              <a:rPr b="1" i="1" lang="en-GB" sz="2000" spc="-1" strike="noStrike">
                <a:solidFill>
                  <a:srgbClr val="000066"/>
                </a:solidFill>
                <a:latin typeface="Lucida Sans"/>
              </a:rPr>
              <a:t>AND EDGAR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onnect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o connect via telephone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+31 20 716 529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menu option "3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the conference number 98002 and confirm by "#"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and the Global Dialling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0031800198002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over IP direct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hdmcu1.surfnet.nl (192.87.102.230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nter the conference number: 98002 and confirm by "#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ollaboration environment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ebconf.vc.dfn.de/r88168684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4-19T06:26:57Z</dcterms:modified>
  <cp:revision>484</cp:revision>
  <dc:subject/>
  <dc:title>European Grid Policy Management Authority</dc:title>
</cp:coreProperties>
</file>