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4D36-2E72-4EEF-87A1-89F147C9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76E-5B1C-4D28-A8B0-B37483FF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298-6A32-4BF2-8F3A-118F417C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E8BE-EDA6-4620-8ADF-609F13DA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73A7-00BA-4E6C-8613-35DBB406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BBDB-D845-4BED-B7E7-C17B7833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CA5E-34B2-4CB3-8B9B-2A6DD873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E181-1628-42F5-BE2C-15B01228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22C-090F-4F25-AB2C-0C6F9828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946A-D6E9-4607-B8D5-42B0EFA0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DC57-7902-4924-9AE6-9C16EEA2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C465-0A23-436C-92AC-985330AE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Utopia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ter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harter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  <a:p>
            <a:pPr lvl="2" marL="1143000" indent="-230040">
              <a:spcBef>
                <a:spcPts val="799"/>
              </a:spcBef>
              <a:buClr>
                <a:srgbClr val="333399"/>
              </a:buClr>
              <a:buFont typeface="Charter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Charter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harter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harter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harter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B7B063-3DB6-428D-AB51-FD1791976FC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man Ahmad Malik, N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95AFF8-F3FC-4DC7-9FBB-8E75C6C11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334360" y="304920"/>
            <a:ext cx="1243080" cy="125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6840" y="280368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1960"/>
                <a:tab algn="l" pos="5065560"/>
                <a:tab algn="l" pos="5791320"/>
                <a:tab algn="l" pos="6513480"/>
                <a:tab algn="l" pos="7237440"/>
                <a:tab algn="l" pos="7959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b84700"/>
                </a:solidFill>
                <a:latin typeface="Arial"/>
              </a:rPr>
              <a:t>PK-GRID-CA</a:t>
            </a:r>
            <a:br>
              <a:rPr sz="4000"/>
            </a:br>
            <a:r>
              <a:rPr b="1" lang="en-US" sz="4000" spc="-1" strike="noStrike">
                <a:solidFill>
                  <a:srgbClr val="b84700"/>
                </a:solidFill>
                <a:latin typeface="Arial"/>
              </a:rPr>
              <a:t>Audit Report</a:t>
            </a:r>
            <a:endParaRPr b="0" lang="en-US" sz="40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43" name=""/>
          <p:cNvSpPr/>
          <p:nvPr/>
        </p:nvSpPr>
        <p:spPr>
          <a:xfrm>
            <a:off x="2519280" y="4962600"/>
            <a:ext cx="503892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Usman Ahmad Mal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K-Grid-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ational Centre for 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720" y="1692360"/>
            <a:ext cx="907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audit once per year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being done regularly since 2009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CA staff to be maintained and verified at least once per year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the list is maintained and verifi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ublication and repository responsibilities 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sitory to run on best effort basis (24x7 availability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Yes, run on best effort basis, had a few un-announced downtimes (B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 root to be published as root of trust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 root cert is publish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pository/publication requirement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l requirements are met, every required info is publish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istribution of published info by the PMA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information is re-distributed by PMA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to validate integrity of its root of trust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provid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anchor to trust anchor repository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provid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4ED-C2D0-459C-AFCD-11699CF1EC6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2DAD3-979C-4688-8B8C-7949DB90DD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720" y="1692360"/>
            <a:ext cx="907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ivacy and confidentiality 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cy and confidentiality policy governed by local law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described in the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romise and disaster recovery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compromise and disaster recovery procedure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romise and disaster recovery procedures are documented in the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gistration Authority to keep record archival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doing at the moment, CA is maintaining all records (D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82E-C2D1-4143-B4E8-86D715FF35E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569A4-4BED-43A5-873C-04E21C3F28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590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800" spc="-1" strike="noStrike">
                <a:solidFill>
                  <a:srgbClr val="cc3300"/>
                </a:solidFill>
                <a:latin typeface="Arial"/>
              </a:rPr>
              <a:t>THANK YOU</a:t>
            </a:r>
            <a:endParaRPr b="0" lang="en-US" sz="8800" spc="-1" strike="noStrike">
              <a:solidFill>
                <a:srgbClr val="cc3300"/>
              </a:solidFill>
              <a:latin typeface="Utop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K-Grid-CA Update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d and managed by National Centre for Physics, ISB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redited in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Brussels in 2004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ng whole of Pakistan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user community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otal Certificates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175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xpired Certificates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 95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voked Certificates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 35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ctive Certificate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 45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ser Certificates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101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ost Certificates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 74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reviewed by PMA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January 2009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internal audit completed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arch 2010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changes in CP-CPS, version 1.1.3.0 submitted to PMA for approval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pril 2010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7B9-E28A-46DB-BA6C-762AFC90F9F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B28C2-C34F-425E-A178-E975E5C652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 (audit score)</a:t>
            </a:r>
            <a:endParaRPr b="0" lang="en-US" sz="2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/CPS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es, PK-Grid-CA has a CP-CPS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A per country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es, single CA in the country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ID assigned to CP-CPS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es, IANA assigned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-CPS Administration/Change Management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scribed in CPS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S available on the web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es, available on the web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S Structured according to RFC3647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es, structured according to RFC3647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F88-96EC-45E2-9185-DA9CB292177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33F7F-6ECA-43C5-953F-6DCFB93FF4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720" y="1547280"/>
            <a:ext cx="9072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CA System</a:t>
            </a:r>
            <a:endParaRPr b="0" lang="en-US" sz="2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dicated machine, running no other services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CA signing machine is a dedicated machine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cure environment with controlled access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secure environment is described in CP-CPS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 system is offline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completely offline, do not have HSM (A/X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cure environment documented/approved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Documented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Approved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In process (A/X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CA Key</a:t>
            </a:r>
            <a:endParaRPr b="0" lang="en-US" sz="2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nimum length 2048 bits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4096 bits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ng term use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valid for 10 years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4A87-11BD-421B-88D6-514AD32DD0D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9D6F3-EEBB-4B8A-8719-E5273CDD5C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 Key protection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described in CPS, protected with pass-phrase of min. 15 chars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fline copies of private key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secure offline copies are kept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fline copies of private key pass-phrase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secure offline copies are kept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mpered proof logs for online CAs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Not running an online CA (X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ition of CA’s cryptographic data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described in the CP-CPS, transition took place in 2007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verlap requirement (both keys operating)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overlap happened in 2008, old certificates and CRLs are no more valid (X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6FD-B51C-4222-846B-95860125D3D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22BDB-BE30-4B91-9BF3-DE1B3B30D0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4720" y="1620360"/>
            <a:ext cx="9072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 Certificate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 certificate x.509 compliant and published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time no longer than 20 year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 years lifetime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time must not be less than 2x life time of an EE certificate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 years lifetime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iance with OGF GFD.125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uthentication Profile ID is missing in EE certificates (B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rtificate Revocation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cation request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described in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cation ASAP, one working day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also described in the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r obligation to inform CA in case of compromise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included in the new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1E63-892C-4664-B390-66739D56098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7C39E-AD82-426B-BB48-A20AEF1C5D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618920"/>
            <a:ext cx="9072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of revocation request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described in the CPS and follow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L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 CRL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publish CRL to a web repository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L lifetime no more than 30 day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x. lifetime is 30 day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 new CRL 7 days before the expiration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ssed a few times (B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issue and publish CRL immediately after revocation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RL is issued and published ASAP after revocation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L compliant with RFC5280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compliant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E Certificates and Keys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length of 1024 bit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minimum length is 1024 bit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3709-D0CB-490B-9AB7-DB56D7A9A24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F2606-B0BA-4661-A49B-F14BDC7A57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618920"/>
            <a:ext cx="9072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 certificate lifetime must be no longer than 13 month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ifetime is 12 month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certificates not to be shared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explicitly mentioned in the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 cryptographic data generated by the applicant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EE generate cryptographic data through a browser module using the secure online CA portal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r obligation in protecting the private key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explicitly mentioned in the new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 certificates compliance with OGF GFD.125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uthentication Profile OID is missing (B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to be meaningful for CN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described in the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keys in software tokens must be re-keyed and not renewed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 do not renew private keys, instead we rekey (A) 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keys in hardware tokens may be renewed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Not mentioned in the CPS (B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903A-6B46-487B-9236-45BCD8A3EE5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65289-2923-4000-ACFD-F52C3BBF56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692360"/>
            <a:ext cx="907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s may not be renewed/re-keyed consecutively for more than 5 year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explicitly mentioned in the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rd Archival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and archive all requests, issued certificates/CRLs, revocation requests, login/logout/reboot of signing machine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all relevant records are kept and archiv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ility of records to external auditor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record archives are available to external auditors (peer CAs) on request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s must be kept for three year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kept for at least three year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udits 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being audited by other CA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we accept it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759-4FF4-44EF-9301-AAEA0147AF7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3F66B-7E98-4AEE-8049-AD6290EDF6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09:21:53Z</dcterms:created>
  <dc:creator>tim</dc:creator>
  <dc:description/>
  <dc:language>en-US</dc:language>
  <cp:lastModifiedBy>Usman A. Malik</cp:lastModifiedBy>
  <dcterms:modified xsi:type="dcterms:W3CDTF">2010-04-20T06:19:08Z</dcterms:modified>
  <cp:revision>656</cp:revision>
  <dc:subject/>
  <dc:title>T0-T1 distribution</dc:title>
</cp:coreProperties>
</file>