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EA688-3530-4ED2-8726-4F13B3785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521BD-29BB-42D9-A3A9-8842A8E90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A35A06-CD66-439F-A7DE-CE54F9595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88E36-5536-4B24-A5A6-4E889CD3E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4C4B0C-70B0-48C1-AF50-34F0695A5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GO-Netrust  data in statistics of Mar.’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D9C43-CC77-4EA1-B142-9447A2CF4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982FE-6605-458F-B99B-710B0F425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A5713-959F-4D40-B889-F3F8436A2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D0DA3-4766-4BC2-8518-386A28927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6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6877080" y="6284880"/>
            <a:ext cx="22669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0" y="6337440"/>
            <a:ext cx="1116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0" y="6134040"/>
            <a:ext cx="1547640" cy="723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6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0" y="1125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pdates of APGrid P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611280" y="3192480"/>
            <a:ext cx="79214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EUGridPMA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 April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116000" y="4572000"/>
            <a:ext cx="6985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ric Y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SGCCA Taiw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s (15 + 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179280" y="714240"/>
            <a:ext cx="454500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 Accredited 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IST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PAC (A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SG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NIC (CN), SD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CA (I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HEP (C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EK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ISTI (K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AREGI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CH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CTEC (TH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GO/Netrust (S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AGMA-UCSD (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HKU (H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648320" y="838080"/>
            <a:ext cx="44956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ngolia - under accred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8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verage by 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9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hilippine, Vietnam, Malaysia, Indonesia, New Zealand &amp; Sri Lanka (so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4814280" y="5048280"/>
            <a:ext cx="259488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: 9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A: + 6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w: +1 Count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-to-date Certificate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85840" y="928800"/>
          <a:ext cx="8286840" cy="5257800"/>
        </p:xfrm>
        <a:graphic>
          <a:graphicData uri="http://schemas.openxmlformats.org/drawingml/2006/table">
            <a:tbl>
              <a:tblPr/>
              <a:tblGrid>
                <a:gridCol w="2071440"/>
                <a:gridCol w="2071800"/>
                <a:gridCol w="2071800"/>
                <a:gridCol w="207180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 Na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user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host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voked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IST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7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A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GC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NI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DG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KU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G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STI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REGI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CH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CTEC GOC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GO-Netrust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HE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AGMA-UCS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1" name="矩形 4"/>
          <p:cNvSpPr/>
          <p:nvPr/>
        </p:nvSpPr>
        <p:spPr>
          <a:xfrm>
            <a:off x="285840" y="639612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dated at : 16, April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TextBox 4" descr=""/>
          <p:cNvPicPr/>
          <p:nvPr/>
        </p:nvPicPr>
        <p:blipFill>
          <a:blip r:embed="rId1"/>
          <a:stretch/>
        </p:blipFill>
        <p:spPr>
          <a:xfrm>
            <a:off x="5522760" y="3602160"/>
            <a:ext cx="2664000" cy="22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ertStatistics-201004.tiff"/>
          <p:cNvPicPr/>
          <p:nvPr/>
        </p:nvPicPr>
        <p:blipFill>
          <a:blip r:embed="rId1"/>
          <a:stretch/>
        </p:blipFill>
        <p:spPr>
          <a:xfrm>
            <a:off x="0" y="1335240"/>
            <a:ext cx="9144000" cy="55227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r/Host Certificate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1108080" y="44280"/>
            <a:ext cx="80359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2F Mee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0" y="762120"/>
            <a:ext cx="914400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F2F meeting was held in Taipei in conjunction with ISGC 20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79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ate : March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79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enue: Academia Sinica, Taip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79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articipation of member 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11 CA presented in person, 2 representatives joined remotely, and 2 abs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6"/>
          <a:stretch/>
        </p:blipFill>
        <p:spPr>
          <a:xfrm>
            <a:off x="3786120" y="350532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1108080" y="44280"/>
            <a:ext cx="80359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GridPMA F2F meeting on 8 Mar.’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0" y="762120"/>
            <a:ext cx="914400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w CA Accreditation: Mongolia – new phase CP/CPS review is still undergo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sume Routine Self-Auditing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ach CA should present self-auditing report once every two ye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PAC, NECTEC, and CNIC, SDG reported this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urrent audit template should be followed but the procedure has to be clearly defined before next F2F mee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IST, IGCA, ASGCCA, NCHC will report in next mee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9144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GridPMA F2F meeting on 8 Mar.’10 (II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76320" y="679320"/>
            <a:ext cx="9144000" cy="61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40000"/>
              </a:lnSpc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GTF Policy Document Discu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40000"/>
              </a:lnSpc>
              <a:buSzPct val="10279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ivate Key Protection Policy and Robot Certificate  are endor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ction 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40000"/>
              </a:lnSpc>
              <a:buSzPct val="10279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pdates of CA Contact (do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40000"/>
              </a:lnSpc>
              <a:buSzPct val="10279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tus matrix of Accreditation and Operation Status will be drafted by Eric for comment. (will be finished by end Apr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xt F2F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40000"/>
              </a:lnSpc>
              <a:buSzPct val="10279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PGridPMA spring F2F meeting will be joint with ISG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40000"/>
              </a:lnSpc>
              <a:buSzPct val="102792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TF All Hands Meeting is also welcomed to be held at ISGC201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40000"/>
              </a:lnSpc>
              <a:buSzPct val="102792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EK and ARCS are two candidates for the F2F meeting in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half of 2010 and 2011. They will explore possible dates later. Eric is looking for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andidate in South East Asia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Three proposals should be available for vote in early M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SzPct val="102792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SzPct val="102792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4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8:18:38Z</dcterms:created>
  <dc:creator>David Groep</dc:creator>
  <dc:description/>
  <dc:language>en-US</dc:language>
  <cp:lastModifiedBy>bluesea520</cp:lastModifiedBy>
  <dcterms:modified xsi:type="dcterms:W3CDTF">2010-04-19T06:59:25Z</dcterms:modified>
  <cp:revision>216</cp:revision>
  <dc:subject/>
  <dc:title>International Grid Trust Federation Session  GGF 18 Washington, DC, USA</dc:title>
</cp:coreProperties>
</file>