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3E2-7BE4-468A-8665-F9BAC2E3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3F3-299D-461A-8090-1C3DF197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758-89B2-4144-AECE-B08DC813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61E-2E98-4097-9036-CFBF84ED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69A-5345-4347-8587-CAD45322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F84-A669-46FA-9D84-9A9BBC21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133-9455-47C0-95CD-9B0887AF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5C0-09FF-4CC4-887D-1B004AB1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98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B49-9879-4CB6-89F0-1BC5A58D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CFC-A1EF-4ED2-92B0-3872BD77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2769-DA85-4AD0-9611-02A2D670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28D-6CFC-4044-AC04-32EEEBF3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2E80-1AC4-46C0-8464-CBC4CC8B433A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" name="Picture 7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ridpp2_logo"/>
          <p:cNvPicPr/>
          <p:nvPr/>
        </p:nvPicPr>
        <p:blipFill>
          <a:blip r:embed="rId3"/>
          <a:stretch/>
        </p:blipFill>
        <p:spPr>
          <a:xfrm>
            <a:off x="7020000" y="115920"/>
            <a:ext cx="197964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grid.ie/eugridpma/wiki/InterWiki" TargetMode="External"/><Relationship Id="rId2" Type="http://schemas.openxmlformats.org/officeDocument/2006/relationships/hyperlink" Target="https://grid.ie/eugridpma/wiki/InterWiki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grid.ie/eugridpma/wiki/AA_Profil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uthorization W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avid Kels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U Grid PMA, Dubl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19 Jan 2010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Picture 4" descr="egee"/>
          <p:cNvPicPr/>
          <p:nvPr/>
        </p:nvPicPr>
        <p:blipFill>
          <a:blip r:embed="rId1"/>
          <a:stretch/>
        </p:blipFill>
        <p:spPr>
          <a:xfrm>
            <a:off x="324000" y="5373720"/>
            <a:ext cx="20192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LCGlogo"/>
          <p:cNvPicPr/>
          <p:nvPr/>
        </p:nvPicPr>
        <p:blipFill>
          <a:blip r:embed="rId2"/>
          <a:stretch/>
        </p:blipFill>
        <p:spPr>
          <a:xfrm>
            <a:off x="7524720" y="53006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efinition of “attribute”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n attribute is a string, a named property which may be associated with an entity... </a:t>
            </a:r>
            <a:r>
              <a:rPr b="0" i="1" lang="en-GB" sz="2800" spc="-1" strike="noStrike">
                <a:solidFill>
                  <a:srgbClr val="000000"/>
                </a:solidFill>
                <a:latin typeface="Lucida Grande"/>
              </a:rPr>
              <a:t>expand this definition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n attribute assertion is a statement that a subject is a holder of a specific attribute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or VOMS, an attribute is a group, role or generalised attribute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D70E-2566-4356-B2D1-74926364CDA7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ttributes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Explain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Relying party requirements on lifetime of attributes, schema etc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attribute assertion must link the attribute to one and only one explicitly named entity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lifetime of the assertion should take into account the dynamic nature. Not more than 24 hours. (MS)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Dynamic updating of the attribute schema by the VO is required ...</a:t>
            </a: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why?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7ED5-39E7-45B8-850E-FC19ADD10F29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P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Every AA must have an Attribute Practice Statement (APS Document) and assign it a globally unique object identifier (OID)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3E64-1FB1-4356-87A1-44BFF7ACEEDF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PS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his should at least contain: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persistent contact details for the AASP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document their operational environm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tate compliance with this polic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maintain accurate VO contact information for all the AAs they host and a link to the VO AUP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C736-BD96-4E3C-9BF1-35B29B8DA87B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PS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his APS should be public and made available, except for the operational environment which must be disclosed to the accrediting body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PS document should be structured as defined in a templ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8AD5-8923-42A9-941E-5CA7B16FE5FB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ASP nam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 registered name is needed to ensure that different accreditation bodies do not accredit different AASPs with the same name inside the realm of one CA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ASP accrediting body should act as registrar for repository of AASPs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Naming ... AA:&lt;reasonable representation of name of aasp &gt; - &lt;arbitrary non-null string identify the server or VO set by CA or requested by AASP&gt;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Example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Lucida Grande"/>
                <a:hlinkClick r:id="rId1"/>
              </a:rPr>
              <a:t>cern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 - wlcg-voms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Or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Lucida Grande"/>
                <a:hlinkClick r:id="rId2"/>
              </a:rPr>
              <a:t>cern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 - voms411.cern.ch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0C69-C15D-44B8-946C-75AB1C957400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proces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hould be one AASP per organisation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Person requesting should be appropriately authorised by the organisation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5179-ED80-4FD9-AF3C-4BD5794DA3BE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These guidelines are intended to facilitate accreditation of </a:t>
            </a:r>
            <a:r>
              <a:rPr b="0" i="1" lang="en-GB" sz="1800" spc="-1" strike="noStrike">
                <a:solidFill>
                  <a:srgbClr val="000000"/>
                </a:solidFill>
                <a:latin typeface="Lucida Grande"/>
              </a:rPr>
              <a:t>Attribute Authority Service Providers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rather than an individual Attribute Authority (a hardware/software installation) or Virtual Organization (a collaborative organisation). An </a:t>
            </a:r>
            <a:r>
              <a:rPr b="0" i="1" lang="en-GB" sz="1800" spc="-1" strike="noStrike">
                <a:solidFill>
                  <a:srgbClr val="000000"/>
                </a:solidFill>
                <a:latin typeface="Lucida Grande"/>
              </a:rPr>
              <a:t>Attribute Authority Service Provider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is an organization (or group within an organization) that runs Attribute Authority Services, including one or more Attribute Authorities, for one or more Virtual Organizations. To achieve sustainability, an AASP </a:t>
            </a:r>
            <a:r>
              <a:rPr b="1" lang="en-GB" sz="1800" spc="-1" strike="noStrike">
                <a:solidFill>
                  <a:srgbClr val="000000"/>
                </a:solidFill>
                <a:latin typeface="Lucida Grande"/>
              </a:rPr>
              <a:t>should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operate AA services as a long-term commitment.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A VO </a:t>
            </a:r>
            <a:r>
              <a:rPr b="1" lang="en-GB" sz="1800" spc="-1" strike="noStrike">
                <a:solidFill>
                  <a:srgbClr val="000000"/>
                </a:solidFill>
                <a:latin typeface="Lucida Grande"/>
              </a:rPr>
              <a:t>should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have an AA operated by a single AASP. If the AA service is replicated for reasons of performance and/or fault tolerance then there </a:t>
            </a:r>
            <a:r>
              <a:rPr b="1" lang="en-GB" sz="1800" spc="-1" strike="noStrike">
                <a:solidFill>
                  <a:srgbClr val="000000"/>
                </a:solidFill>
                <a:latin typeface="Lucida Grande"/>
              </a:rPr>
              <a:t>must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be means of ensuring consistency. If a VO wishes to have a distributed AA operated by multiple AASPs then these AASPs </a:t>
            </a:r>
            <a:r>
              <a:rPr b="1" lang="en-GB" sz="1800" spc="-1" strike="noStrike">
                <a:solidFill>
                  <a:srgbClr val="000000"/>
                </a:solidFill>
                <a:latin typeface="Lucida Grande"/>
              </a:rPr>
              <a:t>must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be accredited individually.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24CB-0BB9-446C-ABEF-561CD3AD6409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he AA service should be operated in accordance with the requirements of the VO Membership Management Policy (ref) and this document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Which body does the accreditation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caling problems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4C27-69B3-4FAF-8560-0D4352FB0D81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8D88-7B9D-418A-9BF9-1E4B1D70FC2D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Mandat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EUGridPMA Working Group on Policy Management for Grid Authoris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Grande"/>
              </a:rPr>
              <a:t>Mandate and aim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o prepare recommendations on policy and global trust issues related to Grid Authorisation (AuthZ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initial list of issues will include: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Minimum requirements and best practice for the operation of a Grid AuthZ attribute authorit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Etc etc et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rogress since Jan 2009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ery little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But, would now be useful to establish best practice as we move into the EGI era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o…To kick-start the activ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I propose to go through some of the issu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ee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Lucida Grande"/>
                <a:hlinkClick r:id="rId1"/>
              </a:rPr>
              <a:t>https://grid.ie/eugridpma/wiki/AA_Pro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D48B-34C2-4E4E-8514-CAB86D32A771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A ke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he AA signing key must have a minimum length of 2048 bits and should be dedicated to attribute signing functions and tied to the AAS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D965-F698-4272-9A97-AB12081DF332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protec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oftware-based private keys of the AA must be suitably protected by the operating system and must only be accessible by the service, trained personnel with procedural controls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2BA9-9765-4A74-B43B-07E9C300EA83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protection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As are encouraged to consider using an HSM which must adopt a similar or better level of security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Copies of the private key must be encrypted or must only be available in clear-text in a system which is at least as well protected as the original system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A70B-6AB3-4CD7-80AB-206FF699FA3C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protection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Under “Site Security”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CA profile said...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pass phrase of the encrypted private key must be kept also on an offline medium, separated from the encrypted keys and guarded in a safe place where only the authorized personnel of the Authority have access. Alternatively, another documented procedure that is equally secure may be used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383B-4F93-42EB-BDFA-309325EAD41F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ssertion revoc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re is no revocation.... </a:t>
            </a:r>
            <a:r>
              <a:rPr b="0" i="1" lang="en-GB" sz="2000" spc="-1" strike="noStrike">
                <a:solidFill>
                  <a:srgbClr val="000000"/>
                </a:solidFill>
                <a:latin typeface="Lucida Grande"/>
              </a:rPr>
              <a:t>But RFC3281 has provision for a CRL.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 entire PKC certification path must be verified. Revocation of the AA certificate will kill all assertions signed by the AA. The AC is bound to a specific serial number of the end entity. Revocation of the end entity certificate must stop the issue of ACs. Also RP checks the validity of the identity certificate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evoking a specific AC makes no sense as there are many other issued ACs containing the same attributes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re is no case for revoking ACs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6024-4811-4A39-AF54-F8576168B0EA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ssertion lifetim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Maximum lifetime of the assertion should be 24 hours... </a:t>
            </a:r>
            <a:r>
              <a:rPr b="0" i="1" lang="en-GB" sz="3200" spc="-1" strike="noStrike">
                <a:solidFill>
                  <a:srgbClr val="000000"/>
                </a:solidFill>
                <a:latin typeface="Lucida Grande"/>
              </a:rPr>
              <a:t>expand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Because there is no revocation mechanism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83F0-1FC4-42AB-8438-A0CA1825D8BB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4:19:45Z</dcterms:created>
  <dc:creator>D Kelsey</dc:creator>
  <dc:description/>
  <dc:language>en-US</dc:language>
  <cp:lastModifiedBy>Kelsey</cp:lastModifiedBy>
  <dcterms:modified xsi:type="dcterms:W3CDTF">2010-01-18T17:35:02Z</dcterms:modified>
  <cp:revision>75</cp:revision>
  <dc:subject/>
  <dc:title>Grid Security</dc:title>
</cp:coreProperties>
</file>