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B4C-055A-41C7-92FB-A64C83FB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C858-450C-4A97-BD98-8788763E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9E39-AE61-4AA0-B944-A99B3B0A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659-5BF3-46E4-ABE7-7FBBF977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0FA-C0AB-455F-B1D7-FC588DA3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0C41-81E1-4951-97AA-140BEF56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4D68-601F-4278-B43A-3D4B958A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9EB5-6DC5-4D1D-B41F-1A5573B6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708-4E2A-4302-A816-B45FDCD2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5198-AC2D-4FBE-852F-5D92199A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B188-FD80-49AF-9E3E-0038825C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EC58-032C-4405-B525-6FE26DB9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7E9E7-7C75-47D4-B806-F21FC19B6E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6BC20-665C-454A-B337-081CC42D1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oxtyhouse.ie/" TargetMode="External"/><Relationship Id="rId2" Type="http://schemas.openxmlformats.org/officeDocument/2006/relationships/hyperlink" Target="http://www.odessa.ie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lcome to Dubli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rel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SID not broadcast: Cso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name and password on ba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 to web and you will be prompted for username and passwor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 pop-up window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-con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eting name: EU Grid P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one micro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upload slides to the agenda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taur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llagher’s Boxty Ho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oxtyhouse.i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ditional Irish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es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odessa.i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confirm numbers for today at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aks / Lu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foyer outside meeting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p to Book of Kel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Science Gallery café has good coff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shop under the sta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9:07:20Z</dcterms:created>
  <dc:creator>David O'Callaghan</dc:creator>
  <dc:description/>
  <dc:language>en-US</dc:language>
  <cp:lastModifiedBy>David O'Callaghan</cp:lastModifiedBy>
  <dcterms:modified xsi:type="dcterms:W3CDTF">2010-01-18T09:18:37Z</dcterms:modified>
  <cp:revision>1</cp:revision>
  <dc:subject/>
  <dc:title>Welcome to Dublin!</dc:title>
</cp:coreProperties>
</file>