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25C35-5EBD-482F-9D34-BF76CC0A7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838A7-4A9F-4D0F-B808-13847DE86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810BC8-8DE9-4AE6-A6E2-0DA23706F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15921-8BF3-42BA-A974-B9BB8AABB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EFDF93-BEE6-4C67-9882-13635492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HEP and PRAGMA data in statistics of Oct.’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411DB-7AAF-4B88-A6CD-DCCFEAA6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D1E06-AC2A-4288-A957-A12F59311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D2890-80C0-4059-9D2C-24490DE58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58B34-5090-449A-9441-58084D2D1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1DC45-B6B2-4515-81AE-24322A77D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FD40E-DFF0-4DDA-BA37-CA1D718A0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319248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 January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572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GCCA Tai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4 +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(under accredi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and Pakistan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814280" y="5048280"/>
            <a:ext cx="2594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9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7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: +1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5840" y="928800"/>
          <a:ext cx="828684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  <a:gridCol w="20718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14, January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TextBox 4" descr=""/>
          <p:cNvPicPr/>
          <p:nvPr/>
        </p:nvPicPr>
        <p:blipFill>
          <a:blip r:embed="rId1"/>
          <a:stretch/>
        </p:blipFill>
        <p:spPr>
          <a:xfrm>
            <a:off x="4322880" y="3608280"/>
            <a:ext cx="45720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57120" y="1143000"/>
          <a:ext cx="8358120" cy="520056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文字方塊 5"/>
          <p:cNvSpPr/>
          <p:nvPr/>
        </p:nvSpPr>
        <p:spPr>
          <a:xfrm>
            <a:off x="357120" y="6396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: October 15, 20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TextBox 4" descr=""/>
          <p:cNvPicPr/>
          <p:nvPr/>
        </p:nvPicPr>
        <p:blipFill>
          <a:blip r:embed="rId1"/>
          <a:stretch/>
        </p:blipFill>
        <p:spPr>
          <a:xfrm>
            <a:off x="5522760" y="4595760"/>
            <a:ext cx="2468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VTC meeting on 16 Dec.’0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3 participants and 2 abs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ID status in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3 Completed : HKU, IGCA, KISTI, APAC, ASGCCA, NECTEC GOC-CA, NCHC, AIST, KEK, NAREGI, PRAGMA-UCSD, CNIC, IHEP, NGO/Netr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tine Self-audit report from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-4 CAs at every F2F meeting based on latest Audit Guideline do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rrection of .info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eck all CAs information at APGridPMA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te for next F2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rch 8 , Taipei Taiwan, collocation with ISGC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95280" y="838080"/>
            <a:ext cx="8497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ipei, Taiwan, is co-located with ISGC 2010 ev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ime: Mar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n-line Registration http://event.twgrid.org/isgc2010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raft agenda from APGridPMA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s from EUGridPMA and TAGP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status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CA Presentation: Mongo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-audit re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and the other th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iew Mongolia SSSCA CP/C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ivate key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T and cyber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GC Piggyback Ev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95280" y="838080"/>
            <a:ext cx="8497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ite Training for Trainers (5-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imulation Tutorial (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ODS Workshop (8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GC Symposium (9-12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Workshop (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 policies, David Kelsey, 3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security and handle security incident, Mingchao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you were hacked and what you should do, Romain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ware Security, David Groep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 Service Challenge and Security Monitoring, Jinny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1:20:39Z</dcterms:created>
  <dc:creator>David Groep</dc:creator>
  <dc:description/>
  <dc:language>en-US</dc:language>
  <cp:lastModifiedBy>mac</cp:lastModifiedBy>
  <dcterms:modified xsi:type="dcterms:W3CDTF">2010-01-18T09:52:20Z</dcterms:modified>
  <cp:revision>173</cp:revision>
  <dc:subject/>
  <dc:title>International Grid Trust Federation Session  GGF 18 Washington, DC, USA</dc:title>
</cp:coreProperties>
</file>