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CC5-1BB1-4D83-8004-C1ADAA74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0CA-C858-4FD9-B243-B9B81483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A0A-1C4A-45AB-8AAF-10623DDA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BF8-B502-4A4D-9D2F-2FD71FBF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A18-C5FD-4517-AAD7-922D997E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8E1-6FFA-4307-8621-E88DBF2B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FF3-C9E4-4197-A360-5B1D6228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47A-033F-439B-BED9-5F41180D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F21-065E-44A2-94BA-F6AFF1A7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0DB-0AE3-4755-9030-ED9A4D15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C69-7602-4597-A018-F41A09B3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8A1-AB48-4E83-BB3D-AAA923AB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50469-4F3A-45A9-9D9E-F4C18EB91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EU GridPMA Dub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 – TLS reneg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t another middlewar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nnouncements from Glo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t necessarily seen by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ot specifically a Globus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bounces not unhear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sponding members not unhear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sponding CAs definitely heard o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the 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ing all P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n theory, round the clock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ing CA stuff, not other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affecting P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up on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report at PMA(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action – testing CA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revious Six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2009: Apache mod_s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TMCP: Yet Another “Too Many CAs”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oo f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ally IGTF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ed issuing a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didn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– finishing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(DSA) and MD5 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mms test to igtf-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– NUL ch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middlewar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heck for embedded NUL ch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– Another comm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 CAs responded within 24 h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20 that didn't, six responded after a quick p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relinquished role as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s took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not taken a step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TF A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-ish – RAT comm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secure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ut two members responded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