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A8EE-8006-42F2-9183-3CCEB217D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3238-6CC8-4D95-A4FF-91232743A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99BA-A9ED-4798-8778-1D58AAB68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34F0-6A89-40A0-8F71-7B177C7CE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9E783-C884-4E50-A78A-27472C34A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8C96A-36AE-4166-B98C-E9B002164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56BB1-5F1E-4C56-82F9-20DA219E0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E57AC-EAC6-449D-83C3-224231E7F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C0B77-1976-426E-833E-593262586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7E290-F431-4305-8507-B89FF0511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B7DCE-12EB-4B6B-9D8E-F1175B56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D024-FBD9-470F-A315-97F6CAC1E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C801C-2E07-4240-A6BA-D4AF9EA3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9BAD1-05E4-4A04-8EE6-5CE11A27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355D7-93AF-445C-90F1-A91973717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8F430-1464-427E-AFF3-3F554C7F6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52640-4770-4976-8E6F-4CDC949FC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0042-37CC-4B7A-A88B-9E661CD1F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451C-B0C0-46CB-9907-F8D778B9E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9B3E-CB13-4F05-A2A6-F5D6FB408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187F-B929-413A-8507-58EC675B6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6D39-77E1-41F8-8A94-C62343E1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B1B8-3B48-44EF-9421-092051F1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BA67-ED37-4A06-A90F-1B453216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00000" y="623736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492000" y="6237360"/>
            <a:ext cx="53406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D1A0B-2824-4740-AAD6-9D71077982AB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0A28C-45E4-4211-A505-C844B683095B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science.am/ca/policy" TargetMode="External"/><Relationship Id="rId2" Type="http://schemas.openxmlformats.org/officeDocument/2006/relationships/hyperlink" Target="http://www.escience.am/ca/policy" TargetMode="External"/><Relationship Id="rId3" Type="http://schemas.openxmlformats.org/officeDocument/2006/relationships/hyperlink" Target="http://www.escience.am/ca/policy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ArmeSFo CA update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(including self-audit)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45080" y="4149360"/>
            <a:ext cx="39592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rmenian e-Science Foundatio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ertification Authorit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sen Hayrapetyan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093080" y="504720"/>
            <a:ext cx="13906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tems rated differently (1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24000" y="2361960"/>
            <a:ext cx="84247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elf-audit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↑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external audit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ing RAs to the list of entities who can request revocation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parating CA encrypted private key from the pass phrase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elf-audit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↑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external audit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Ls were issued in v1 format. V2 format was recommended by Auditor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elf-audit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↑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external audit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efining the role of RA in proper section of the CP/CP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elf-audit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↑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external audit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rlDistributionPoints extension points to PEM-formatted certificate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th EuGridPMA meeting, Dublin, Ireland, 18-20 Jan 2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334D-83AE-48B6-9F60-4A53E688424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tems rated differently (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24000" y="2362320"/>
            <a:ext cx="8424720" cy="35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elf-audit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0000cc"/>
                </a:solidFill>
                <a:latin typeface="Arial"/>
                <a:ea typeface="Arial"/>
              </a:rPr>
              <a:t>↓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external audit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oving the safe with CA machine to the room where the physical access is restricted to CA personnel solely (access to the safe itsel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restricted to CA personnel solely)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elf-audit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i="1" lang="en-US" sz="2200" spc="-1" strike="noStrike">
                <a:solidFill>
                  <a:srgbClr val="0000cc"/>
                </a:solidFill>
                <a:latin typeface="Arial"/>
                <a:ea typeface="Arial"/>
              </a:rPr>
              <a:t>↓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external audit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Restructuring CP/CPS according to RFC 3647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elf-audit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9900"/>
                </a:solidFill>
                <a:latin typeface="Arial"/>
                <a:ea typeface="Arial"/>
              </a:rPr>
              <a:t>↓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external audit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P/CPS does not include the CA obligation to maintain the archive of records collected by RA, but it is included in ArmeSFo CA agreement with its RA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th EuGridPMA meeting, Dublin, Ireland, 18-20 Jan 2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AE8F-AB9B-45B7-8A85-2264D5A766F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ork on identified issues (1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23640" y="2362320"/>
            <a:ext cx="7692840" cy="35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sues related to physical security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ing CA machine safe to more protected area (D or C):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pending (we will probably move it in sp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arating encrypted key from its password (D or C):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pending, will be fixed together with previous issu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P/CPS-related issues –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not fixed yet (planned for March-April)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A policy approval procedu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As are not specified as entities who can request revoc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 or C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A operation is nor described in sufficient detai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th EuGridPMA meeting, Dublin, Ireland, 18-20 Jan 2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4D45-043A-4ECB-BE8C-47915F0EB0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ork on identified issues (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23640" y="236196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romise and disaster recovery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o document detailing the procedure for CA personn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D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L format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lDistributionPoints extension in EE certificates points to PEM-formatted CRL. Should be DER-format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L version (D)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Fixed, we issue v2 CRL now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blication of SHA1 and MD5 sums of CA root certificate in the CA repository along with instructions how to verify them (C)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Fixed, the info is published in CA reposito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th EuGridPMA meeting, Dublin, Ireland, 18-20 Jan 2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09D8-6F36-42CB-8A3F-B1008CB6C5D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atus since January 2008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24000" y="2361960"/>
            <a:ext cx="84247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st presented at 1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UGridPMA meeting, January 2008, Amsterdam, Netherland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nce then…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new versions of CP/CPS issu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E certificate profile harmonised with Grid Certificate Profile v0.25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ation of issued EE certificates discontinued: LDAP repository is no longer maintain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ed to CRL v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dited by external auditor - Jens Jensen, UK e-Science C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th EuGridPMA meeting, Dublin, Ireland, 18-20 Jan 2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06DC-93A6-4264-AB04-A8002581A6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P/CPS chang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24000" y="2361960"/>
            <a:ext cx="82087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iefly certificate profile changes - GCP v0.25 is implemented for EE certificates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 root certificate had been accorded with GCP v0.25 prior to January 2008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th EuGridPMA meeting, Dublin, Ireland, 18-20 Jan 2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60FC-5004-43EB-AF65-7AF08EA256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ertificate profile chang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34440" y="2361960"/>
            <a:ext cx="8340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sions removed from EE certificates: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nsCertType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nsBaseUrl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naCaPolicyUrl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nsComment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nsCaRevocationUrl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subjectKeyIdentifier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authorityKeyIdentifier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issuerAltNa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sions added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ertificate: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extendedKeyUsage: </a:t>
            </a:r>
            <a:r>
              <a:rPr b="0" i="1" lang="ru-RU" sz="2000" spc="-1" strike="noStrike">
                <a:solidFill>
                  <a:srgbClr val="990000"/>
                </a:solidFill>
                <a:latin typeface="Arial"/>
              </a:rPr>
              <a:t>clientAut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sions added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s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erv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ertificates: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extendedKeyUsage: </a:t>
            </a:r>
            <a:r>
              <a:rPr b="0" i="1" lang="ru-RU" sz="2000" spc="-1" strike="noStrike">
                <a:solidFill>
                  <a:srgbClr val="990000"/>
                </a:solidFill>
                <a:latin typeface="Arial"/>
              </a:rPr>
              <a:t>clientAuth, serverAut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ts unset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eyUs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xtension 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st/serv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es: </a:t>
            </a:r>
            <a:r>
              <a:rPr b="0" i="1" lang="en-US" sz="2000" spc="-1" strike="noStrike">
                <a:solidFill>
                  <a:srgbClr val="990000"/>
                </a:solidFill>
                <a:latin typeface="Arial"/>
              </a:rPr>
              <a:t>nonRepudiation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990000"/>
                </a:solidFill>
                <a:latin typeface="Arial"/>
              </a:rPr>
              <a:t>keyAgreem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ts set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endedKeyUsag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sion 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ertificate: </a:t>
            </a:r>
            <a:r>
              <a:rPr b="0" i="1" lang="en-US" sz="2000" spc="-1" strike="noStrike">
                <a:solidFill>
                  <a:srgbClr val="990000"/>
                </a:solidFill>
                <a:latin typeface="Arial"/>
              </a:rPr>
              <a:t>emailProtec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s can be traced throug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vision Histo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CP/CPSes (vv 0.5, 0.6, 0.7):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www.escience.am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/ca/polic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th EuGridPMA meeting, Dublin, Ireland, 18-20 Jan 2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DBE8-C4DE-44AE-BCB9-2017341B149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RL v2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24000" y="2361960"/>
            <a:ext cx="7920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ing CRL v2 is recommended b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IETF PKI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RF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28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ing to CRL v2 was rated as high-priority issue by the Auditor (mark D) during external audi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, starting with CP/CPS v0.7 (came into effect on 12 June 2009), we are issuing CRL v2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ing CRL extensions are set: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cRLNumber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authorityKeyIdentifi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th EuGridPMA meeting, Dublin, Ireland, 18-20 Jan 2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EACA-388C-4477-B212-62965FA5CDD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lf and external audi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lf-audit performed in December 2007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ults sent to EUGridPMA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ditor appointed by PMA: David O’Callaghan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dited by Jens Jensen during his visit to Armenia (to work on NATO Collaborative Linkage Grant “Improved Cybersecurity for NATO Partner Countries”), 04-07 June 2009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of the audit issues fixed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th EuGridPMA meeting, Dublin, Ireland, 18-20 Jan 2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C9CE-498B-468B-8FB3-1ADD9B1B112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sults of the self-audi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ssues were rated on the scal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“it is OK”), </a:t>
            </a: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“minor recommendation”, would be nice to change),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“major recommendation”, this really ought to be changed)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“Advice”, MUST be actually changed), X (“not applicable”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ed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3 issues of type D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10 issues of type C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5f5f"/>
                </a:solidFill>
                <a:latin typeface="Arial"/>
              </a:rPr>
              <a:t>5 issues of type B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th EuGridPMA meeting, Dublin, Ireland, 18-20 Jan 2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DC8D-F20C-40F1-B74E-68B2827D66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sults of the external audi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Identified by external Auditor: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 issues of type 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8 issues of type C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5 issues of type 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th EuGridPMA meeting, Dublin, Ireland, 18-20 Jan 2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7316-8A47-4A05-BDBB-12C62C4D465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parison of the resul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900000" y="2424240"/>
          <a:ext cx="6397560" cy="3697200"/>
        </p:xfrm>
        <a:graphic>
          <a:graphicData uri="http://schemas.openxmlformats.org/drawingml/2006/table">
            <a:tbl>
              <a:tblPr/>
              <a:tblGrid>
                <a:gridCol w="4094280"/>
                <a:gridCol w="230328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f-audit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↑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xternal audit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item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f-audit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↑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external audit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item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f-audit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↑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external audit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item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f-audit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↑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external audit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item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lf-audit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↓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external audit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item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f-audit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</a:t>
                      </a: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↓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external audit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item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f-audit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↓ external audit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item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th EuGridPMA meeting, Dublin, Ireland, 18-20 Jan 201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E4D1-D683-442C-A3F3-9DC18CBB2B6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05:26:32Z</dcterms:created>
  <dc:creator>User</dc:creator>
  <dc:description/>
  <dc:language>en-US</dc:language>
  <cp:lastModifiedBy>User</cp:lastModifiedBy>
  <dcterms:modified xsi:type="dcterms:W3CDTF">2010-01-16T19:22:09Z</dcterms:modified>
  <cp:revision>11</cp:revision>
  <dc:subject/>
  <dc:title>ArmeSFo CA update (including self-audit)</dc:title>
</cp:coreProperties>
</file>