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07D-552F-4B0C-AA42-D7FAECFA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0F9-CB9C-4DEC-84C0-69D28FC4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24D-9152-4B9E-8BBF-F727AB3A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23C-CD2D-4EE8-B75A-57251BEC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45B-B5B4-4995-B791-392159A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E03-8AB7-4DD2-877D-0331D108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1F5-D330-4FA2-ADF1-04832A9C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A36-4A6E-418F-ABB4-37AB5D8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F82-5628-4A81-B77A-28DB02D2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183-14D6-46A6-8736-8D13518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18B-09B4-463E-B6BB-F029BD3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C1E-484B-4FA1-B9FE-094A719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1B2B-F12A-4080-87AA-CDD494D3C741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ccreditatio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logo-sigma-stor.png"/>
          <p:cNvPicPr/>
          <p:nvPr/>
        </p:nvPicPr>
        <p:blipFill>
          <a:blip r:embed="rId1"/>
          <a:stretch/>
        </p:blipFill>
        <p:spPr>
          <a:xfrm>
            <a:off x="285840" y="6192720"/>
            <a:ext cx="1285920" cy="474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34520" y="57150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n Meijer, TCS 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5280" y="5715000"/>
            <a:ext cx="16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uGridP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-20 Jan.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TERENA Logo.gif"/>
          <p:cNvPicPr/>
          <p:nvPr/>
        </p:nvPicPr>
        <p:blipFill>
          <a:blip r:embed="rId2"/>
          <a:stretch/>
        </p:blipFill>
        <p:spPr>
          <a:xfrm>
            <a:off x="4000680" y="5643720"/>
            <a:ext cx="1028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CS technical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legated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ersonal_ca_responsibility_hierarchy.png"/>
          <p:cNvPicPr/>
          <p:nvPr/>
        </p:nvPicPr>
        <p:blipFill>
          <a:blip r:embed="rId1"/>
          <a:stretch/>
        </p:blipFill>
        <p:spPr>
          <a:xfrm>
            <a:off x="785880" y="1428840"/>
            <a:ext cx="7529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t using contr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personal_ca_overview_contracts.png"/>
          <p:cNvPicPr/>
          <p:nvPr/>
        </p:nvPicPr>
        <p:blipFill>
          <a:blip r:embed="rId1"/>
          <a:stretch/>
        </p:blipFill>
        <p:spPr>
          <a:xfrm>
            <a:off x="428760" y="1143000"/>
            <a:ext cx="8072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legated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RE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TERENA - N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NREN – Subscri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 all agree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adhere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to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C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257184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http://www.terena.org/activities/tcs/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ty V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identity of a Requester in a Subscriber's IdP has been validated by the Subscriber. During the validation process or during processes supporting that validation process the identity of the requester was confirmed with a </a:t>
            </a:r>
            <a:r>
              <a:rPr b="1" lang="en-GB" sz="3000" spc="-1" strike="noStrike">
                <a:solidFill>
                  <a:srgbClr val="00b050"/>
                </a:solidFill>
                <a:latin typeface="Calibri"/>
              </a:rPr>
              <a:t>face-to-face meeting and valid photo identific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/or similar official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r autho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bscriber expresses that an identity has been properly validated by setting a specific value in the </a:t>
            </a:r>
            <a:r>
              <a:rPr b="0" i="1" lang="en-GB" sz="30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ttribute of the Requester's identity in the Subscriber's Id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istently unique D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.1.1 Type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N: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asonable representation of the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f the Requester appended with an Identifier that uniquely and persistent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presents the Requester in the Subscriber's Id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escribed in section 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bject Distinguished Name of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sued Certificate is unique for each Requester by including an Identifier that uniquely and persistently represents the Requester in the IdP of its Subscriber. A Subscriber will ensure the persistence and uniqueness of the aforementioned Identifier that its IdP releases to the TERENA eScience Personal CA.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Identifier must be traceable to a Requester for at least as long as the certificate issued to the Requester is val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 can Request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mbe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quest the revocation of any certificate within its constituency of Subscrib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ubscriber can request the revocation of any certificate within its constituency of Request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quester can request the revocation of its own certific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vocation request can be initiated by other entities. Such a revocation request has to be properly and convincingly documen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rcumstances for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quester's IdP account is compromised, revoked or its password is compromis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has been a modification of the information pertaining to the Requester that is contained within the certific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9.4 Revocation Request Grac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ny of the parties defined i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ection 4.9.2 “Who can request revocation”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hat becomes aware of circumstances that require revocation of a certificate is obliged to initiate a revocation request as soon as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anual and automated revocation with Confusa portal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t’s a 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personal--ca-with-federation_kaal2.png"/>
          <p:cNvPicPr/>
          <p:nvPr/>
        </p:nvPicPr>
        <p:blipFill>
          <a:blip r:embed="rId1"/>
          <a:stretch/>
        </p:blipFill>
        <p:spPr>
          <a:xfrm>
            <a:off x="1071720" y="1214280"/>
            <a:ext cx="7108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P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6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scriber Representations and Warran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signing and accepting the Subscriber Agreement, the Subscriber represents to TCS and to relying parties that at the time of acceptance and until further not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All representations made by the Subscriber to TCS regarding the information contained in the certificate of its Requesters are accurate and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grees with the terms and conditions of this CPS and other agreements and policy statements of T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bides by the laws applicable in its country or territory including those related to intellectual property protection, viruses, accessing computer system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complies with all export laws and regulations for dual usage goods as may be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The Subscriber agrees to on request provide full documentation to Member and/or TERENA about the procedures used to populate and maintain the identity related information in its I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otoId requirement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nique Id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P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ocation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NREN, Subscriber,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P data quality requir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9.6.3 Subscriber Representations an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self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 backend audit part of WebTrust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ed Comodo to do audit of issuing process similar to Web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software will be security aud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pen issue: IDM management &amp; securing (deze dus nog be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file say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P/CPS that covers the MICS, the following processes must be described, and must be compliant with th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he primary identity management system is managed and secu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: 9.6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e 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loyment: centralised por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zech Republic, Denmark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Netherlands, Norway, Sweden, Fin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ENA: financial clearing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INETT: project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RFnet: portal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s ‘Confusa’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rtal up and running since Octo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eps to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/EuGridPMA accred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ish reviews, 2 week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modo, NRENs final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port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entralised portal up and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 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PMA representative to attend EUGridPMA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eScience Personal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un Nij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akk for m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ttp://www.terena.org/activities/tc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pecial MICS: 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grid_ca_with_federations_comodo_backendv4.png"/>
          <p:cNvPicPr/>
          <p:nvPr/>
        </p:nvPicPr>
        <p:blipFill>
          <a:blip r:embed="rId1"/>
          <a:stretch/>
        </p:blipFill>
        <p:spPr>
          <a:xfrm>
            <a:off x="428760" y="1500120"/>
            <a:ext cx="8215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roject timeline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ject public, Cyprus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urich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p 2009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rlin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 - Oct 2009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uGridPMA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ajjad Asg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Reimer Karlsen-Mas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David Kels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rst portal oper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v 2009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NR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REN information meeting h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view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view round commen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do review initi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10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st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review round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REN collaboration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oint procurement &amp;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.509 certificate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o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urrent service prov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ENA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tificat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tcs_timelinev2.png"/>
          <p:cNvPicPr/>
          <p:nvPr/>
        </p:nvPicPr>
        <p:blipFill>
          <a:blip r:embed="rId1"/>
          <a:stretch/>
        </p:blipFill>
        <p:spPr>
          <a:xfrm>
            <a:off x="0" y="1785960"/>
            <a:ext cx="885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CS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EREN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actual party, financial clearinghouse, contact conduit to Como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epresent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 per NREN, Formal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y to day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PM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ponsible for poli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nt Engstrom, Jan Meijer, Kevin Meynell,, Teun Nijssen, Milan S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NREN commun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arious other tasks (portal software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16200000">
            <a:off x="-2293200" y="28645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rticipating NR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57240" y="357120"/>
          <a:ext cx="6715440" cy="6701040"/>
        </p:xfrm>
        <a:graphic>
          <a:graphicData uri="http://schemas.openxmlformats.org/drawingml/2006/table">
            <a:tbl>
              <a:tblPr/>
              <a:tblGrid>
                <a:gridCol w="1928880"/>
                <a:gridCol w="1500120"/>
                <a:gridCol w="1071720"/>
                <a:gridCol w="1071720"/>
                <a:gridCol w="11430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ber or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g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-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N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N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C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6:40:19Z</dcterms:created>
  <dc:creator>Jan Meijer</dc:creator>
  <dc:description/>
  <dc:language>en-US</dc:language>
  <cp:lastModifiedBy>davidg</cp:lastModifiedBy>
  <dcterms:modified xsi:type="dcterms:W3CDTF">2010-01-18T11:17:55Z</dcterms:modified>
  <cp:revision>109</cp:revision>
  <dc:subject/>
  <dc:title>TERENA eScience Personal CA</dc:title>
</cp:coreProperties>
</file>