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B774813-D6FB-4B3D-84C3-2DFEA9B9DC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839003E-1AE5-4CD4-A337-0C989C14F6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AEDECD1E-B981-4F35-9F7C-323036C9A11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FA9C0079-95EE-4469-B7C7-953D2B63A38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071471AF-3587-419F-9938-CE88EB548D6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B466B97D-FA73-4F8A-8C07-88955CFE8FE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152B579E-84B8-49B8-98F7-5CAC9DA6510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0377767D-DC91-42A4-9F43-F6314BAD396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45AE0709-50C7-41ED-A516-837BD0610EB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DC4B7C4C-2431-470D-8C0D-4E9AB6871DF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EB46A151-A576-4589-A04A-A76E3091748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721B3AB6-4F70-4773-BE48-BEDB3BFD5F7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4E8A7F2F-20FA-4C26-9F95-3AFC11A46CE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Lucida Sans"/>
              </a:rPr>
              <a:t>IGTF Trust Anchor Distribution </a:t>
            </a:r>
            <a:br>
              <a:rPr sz="3600"/>
            </a:br>
            <a:r>
              <a:rPr b="1" i="1" lang="en-US" sz="2800" spc="-1" strike="noStrike">
                <a:solidFill>
                  <a:srgbClr val="990000"/>
                </a:solidFill>
                <a:latin typeface="Lucida Sans"/>
              </a:rPr>
              <a:t>in the wake of OpenSSL1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9, 2010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18</a:t>
            </a:r>
            <a:r>
              <a:rPr b="1" lang="en-US" sz="20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 EUGridPMA Dublin meeting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Fetch-cr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locationFiles=`${ls} \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"${locationDirectory}"/*.${crlLocationFileSuffix} \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2&gt;/dev/null`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Will find all files with a “.crl_url” suffix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se the OpenSSL in the path (since v2.7) to compute the hash local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avea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e .r0 files will be hashed according to openssl version used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by fetch-crl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, not target softwa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make symlinks locally to get a dual-use CRL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hould we provide a script, or an update to fetch-crl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lternativ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se c_rehash (or other OS specific tools) local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se hard copies instead of symlin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ither as copies of PEM files, or only two copies of s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ke the links on the target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ing ln –s from the make fi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ing a %post script in the RPM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s to be matched with a %preun which could fai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esulting links are not ‘owned’ by an RPM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Collateral chang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pdate RPM format to v4.4 seri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pdate Java keytool to Java6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ow supports CA keys with keysize &gt; 2048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Keys will not work with old (pre-Java5) tools with Sun J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uto-generated sequence numbers support multiple CAs with the same subject name but different alias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ias MUST be unique for each trust anch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till not supported in fetch-crl, though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nd it’s dangerous anyway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(see issues related to the two UTNUserFirst-Hardware CA certs, one self-signed and one by Comodo AAA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mplementation pla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Lucida Sans"/>
              </a:rPr>
              <a:t>Options for discussion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or 1.33 release still have only the old version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ince “OpenSSL1 is still in beta only”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or 1.33 and 1.34 releases, have both versions available with the old style as the advertised one for 1.33, and changing to the new one for 1.34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or 1.33 release, have both versions available with the </a:t>
            </a: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new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style as the advertised on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or 1.33 release, just have the new one, since it’s fully backward-compatible anywa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Or something else ..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OPENSSL1</a:t>
            </a:r>
            <a:br>
              <a:rPr sz="4000"/>
            </a:b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tructure of the trust anchor director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ash functions and cod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tructure of the trust anchor stor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411120" y="936720"/>
            <a:ext cx="8732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sui:certificates:1008$ cd /etc/grid-security/certificates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sui:certificates:1008$ ls -l|grep 16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5341 Oct 26 21:02 16da7552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  40 Oct 26 21:02 16da7552.crl_ur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 442 Oct 26 21:02 16da7552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 630 Oct 26 21:02 16da7552.namespa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4842 Jan 13 08:17 16da7552.r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 342 Oct 26 21:02 16da7552.signing_poli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sui:certificates:1009$ ls -l policy-*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2633 Oct 26 21:03 policy-igtf-classic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152 Oct 26 21:03 policy-igtf-mics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256 Oct 26 21:03 policy-igtf-slcs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sui:certificates:1010$ cat policy-igtf-mics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@(#)policy-igtf-mics.info - IGTF mics author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Generated Monday, 26 Oct, 200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sion = 1.3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s = TACC-MICS = 1.32, 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CSA-mics = 1.3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Hash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Hashes used for lookup of the issuing CA for a given certificat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ndependent from the ‘fingerprint’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$ openssl x509 -noout -subject -issuer \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-fingerprint -sha1 -hash \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-in 16da7552.0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subject= /C=NL/O=NIKHEF/CN=NIKHEF medium-security certification auth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issuer= /C=NL/O=NIKHEF/CN=NIKHEF medium-security certification auth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SHA1 Fingerprint=E5:FA:C3:3B:44:8F:26:1B:3D:D1:DE:BA:5F:EC:ED:35:A9:3F:23:21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16da7552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Code changed in OpenSSL 1 beta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411120" y="936720"/>
            <a:ext cx="873288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X509_NAME_hash(X509_NAME *x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ret=0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md[SHA_DIGEST_LENGTH]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* Make sure X509_NAME structure contains valid cached encoding *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2d_X509_NAME(x,NULL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P_Digest(x-&gt;canon_enc, x-&gt;canon_enclen, md, NULL, </a:t>
            </a:r>
            <a:r>
              <a:rPr b="1" lang="en-GB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EVP_sha1()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ULL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=(   ((unsigned long)md[0]     )|((unsigned long)md[1]&lt;&lt;8L)|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(unsigned long)md[2]&lt;&lt;16L)|((unsigned long)md[3]&lt;&lt;24L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&amp;0xffffffffL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ret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X509_NAME_hash_old(X509_NAME *x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ret=0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md[16]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* Make sure X509_NAME structure contains valid cached encoding *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2d_X509_NAME(x,NULL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P_Digest(x-&gt;bytes-&gt;data, x-&gt;bytes-&gt;length, md, NULL, </a:t>
            </a:r>
            <a:r>
              <a:rPr b="1" lang="en-GB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EVP_md5()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ULL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=(   ((unsigned long)md[0]     )|((unsigned long)md[1]&lt;&lt;8L)|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(unsigned long)md[2]&lt;&lt;16L)|((unsigned long)md[3]&lt;&lt;24L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&amp;0xffffffffL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ret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mpact of chang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day: lookup will fail if a new OpenSSL is use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Lookups happe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via the system OpenSSL, dynamically link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Via application-specific OpenSSL version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Via statically linked openssl librar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Via other implementations of the hash algorithm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.g. in the TrustManager Java implementation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or in Apache, or 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oth implementations will co-exist on single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Will thus requir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eparate trust stor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single trust store that supports both algorith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Proposal for the IGTF distributio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installation bundles, tar-balls and RPMs: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ll CAs and files are named after their alias from the info fi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ymlinks are used to generate the structure for both versions of OpenSS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stallation bundle (the "./configure &amp;&amp; make &amp;&amp; make install" tarball) will create both symlin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e-installed bundles have both hashes, also using symlin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What gets into /etc/grid-security/certificates?</a:t>
            </a:r>
            <a:endParaRPr b="1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1295280"/>
            <a:ext cx="80409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393f7863.0 -&gt; AEGIS.pem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393f7863.info -&gt; AEGIS.info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393f7863.namespaces -&gt; AEGIS.namespace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393f7863.signing_policy -&gt; AEGIS.signing_policy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crl_url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info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namespace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pem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signing_policy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cc5645bd.0 -&gt; AEGIS.pem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cc5645bd.info -&gt; AEGIS.info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cc5645bd.namespaces -&gt; AEGIS.namespace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cc5645bd.signing_policy -&gt; AEGIS.signing_policy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ual packaging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arget system does not need to run c_rehash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orks for hybrid deployments,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ith some software linked to 0.x, others to 1.0, and others have built-in hashing cod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ymlinks may upset (or be messed up by) locally running c_rehash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nclear which one is used - when the links are severed different programs will react differentl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esn’t work on filesystems that do not support symlin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0-01-13T15:05:18Z</dcterms:modified>
  <cp:revision>491</cp:revision>
  <dc:subject/>
  <dc:title>European Grid Policy Management Authority</dc:title>
</cp:coreProperties>
</file>