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0D26B-0E61-4973-BE0E-99763023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8E1C0-1C0F-4233-BDB3-5B622D8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2A1D4-D67A-47AC-B7A7-660FF84D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C4DDF-6006-47B8-8804-87F7EAD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C9F65-3036-4DC4-A0E9-A6E59A8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457C-2ED3-4F3B-A70A-6D9F4A66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A1EF8-8365-474F-BAD3-2B78BEE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428E0-C930-4338-99DE-96B6AEF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DE6ED-6A69-4314-936B-6B256A3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30D0A-2953-4DE2-8C2A-431EBA9A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889D1-20A2-4AB3-95B0-D445E6F5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79D26-BCB5-4D57-9042-E9BCC3C0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dartmouth.edu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6C4-C749-4858-B2C8-D432D3A28DD5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441440" cy="13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F3B-2CDD-4D68-87DA-3FD4C8BD94D9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095560" cy="192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, Berlin, D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 13, 2009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w 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ew Officers elected in Jul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Dartmout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(OS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going Offic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uch appreciation to our outgoing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Vinod Rebello (Chai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Jim Marsteller (V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rg Murray (S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1524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2829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vier Dia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g Murr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5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rtmouth/HEB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8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3 Members from North, Central and South Ame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5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4 SLCS (NCSA x 2, FermiLabs, and NERS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MICS (NCSA and TACC - 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As pending accreditation, 2 more proposed &amp; 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Classic pending (SENAMHI – Peru, UNIANDES - Colomb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Classic proposed (ANSP – Br), 1 MICS proposed (SDSC – U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(OSG, TeraGrid, THEgrid, LCG, Dartmouth/HEB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2 Members in suspended status due to in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UVA (Jim Jokl), Purdue (Greg Barn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and other IGTF aliases managed by ES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Scott.Rea@Dartmouth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9th TAGPMA F2F at PSC, Pittsburgh, 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47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receded b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Federated Identity Day (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0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http://indico.rnp.br/conferenceDisplay.py?confId=4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Recent Accredi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ACC (MI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 (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CSA (Federated SL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0th TAGPMA F2F at Banff, 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ptember 15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– 17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bined with IGFT All-Hands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rrangements can be found here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indico.rnp.br/conferenceDisplay.py?confId=66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OGF #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ing CA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e http://www.summit09.ca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3rd September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09-09-14T11:05:04Z</dcterms:modified>
  <cp:revision>119</cp:revision>
  <dc:subject>EUGridPMA Berlin DE</dc:subject>
  <dc:title>TAGPMA Update</dc:title>
</cp:coreProperties>
</file>