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BE55-C325-458E-A2C0-8E6F1604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16C4-1581-477D-BBB3-C675635D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22A9-9565-497C-84D0-3BD51E26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BD58-D2A1-4E5E-A0BF-BE4EB537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C17F-46D2-4DCE-A4D8-D9CEA924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593C-344E-4DAE-BF86-761AC89A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666B-227E-4115-9162-DA170D62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BDBA-AEE7-4CE1-95D2-AE371AB1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D4B4-967A-4B69-A4B1-1C5E97A6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7043-817C-4C13-AF45-166F9F17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A64F-C693-48F9-A89D-2A39B66E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DFAD-4EE6-4828-B468-DC01A3F1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14/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DD95FF-1B0B-413B-B928-F13F013758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TF Risk Assessment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ttp://tagpma.es.net/wiki/bin/view/IGTF-R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gtf-rat@eugridpma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14/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8D3D89-55B1-4B6D-9F46-E2DEF6C6CA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mber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 membership is open to all IGTF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ct igtf-rat@eugridpma.org to join and help with the risk assessment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14/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965D26-7E90-41B3-BB21-F731F2BA7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TF RAT Audit (2009-0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ttp://tagpma.es.net/wiki/bin/view/IGTF-RAT/2009-0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imelin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5 Jan: RAT begins drafting mess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 Feb: Request sent to CA oper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3 Feb: 57 of 80 CAs responded; reminder s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 Mar: 75 of 80 CAs responded; reminder s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6 Mar: 77 of 80 CAs respon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7 Apr: 77 of 80 CAs responded; reminder s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8 Apr: 78 of 80 CAs respon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 May: 79 of 80 CAs respond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 Aug: 80 of 80 CAs respon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14/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B301ED-1751-409D-A216-2023173E18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TF RAT Audit (2009-0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sult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CAs issued certificates containing (EC)DSA keys, which will all be expired by Aug 27 200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 CAs issued certificates using MD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CAs were currently issuing certificates using MD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 CAs issued CRLs using MD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 CAs were currently issuing CRLs using MD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 CAs had implemented automated checks for RSA keys with weak expon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1 IGTF CAs had implemented automated checks for known weak Debian OpenSSL key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8 IGTF CAs had implemented automated checks for issued certificates using MD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14/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A80385-0A15-4B06-9240-A14DF186F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unications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ttp://tagpma.es.net/wiki/bin/view/IGTF-RAT/2009-0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imelin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5 Aug: Request sent to CA oper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6 Aug: 74 CAs responded within 24 hours; 20 CAs did not; follow-up request sent to non-responding 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7 Aug: 15 more CAs responded; results posted to igtf-general, after which 1 more CA respon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8 Aug: MD-Grid CA respon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ill no response from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fee79b0 IUCC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42edd45 CAL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a661490 PolishGr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14/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F3C054-E7EA-4497-9B3D-7725D084BF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L Issues In Augu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 that failed to update their CRLs prior to the Next Update dat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3f0f4285 ULAGrid-CA-200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742edd45 CAL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 that failed to update their CRLs at least 3 days prior to the NextUpdate dat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1f0e8352 NorduGri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24c3ccde UNAMgrid-c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3f0f4285 ULAGrid-CA-200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6fee79b0 IUCC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742edd45 CAL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7d0d064a MARG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99f9f5a3 FNAL-SLC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7bcb7b2 UNLPGri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254cc30 CERN-Roo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Ls that could not be downloaded for over 24 hour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367b75c3 UKeScienceCA-200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3f0f4285 ULAGrid-CA-200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6e3b436b AustrianGri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7b54708e MaGri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98ef0ee5 UKeScienceRoot-200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Ls with Last Update date in the futur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742edd45 CAL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14/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6DB143-2708-4E60-9BF4-D0CE9BD445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D5 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 issuing MD5 CRL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e12d831 APAC (CA cert expires Jan 201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e43b9cc Grid-Ireland (CA cert expires Jul 201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67b75c3 UKeScienceCA-200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CA cert expires Oct 201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e5501f3 RMKI (CA cert expires Oct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 certificates with MD5 signatu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4a509c3 CNRS-Projets (expires Apr 20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f4ba8c8 CNRS (expires Apr 20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14/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0A8329-C85D-4B5B-AF22-7C6F83FD7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A-1 -&gt; SHA-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ttps://twiki.grid.iu.edu/bin/view/Security/HashAlgorith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su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ureTLS in Java CoG Kit (jglobus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ttp://bugzilla.globus.org/globus/show_bug.cgi?id=673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A-2 support in OpenSSL starting in RHEL5/SL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Lite 3.1 using RHEL4 through 201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Lite 3.2 using RHEL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clusion: Grid middleware not ready for SHA-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14/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084AAA-92B7-4E8A-8D6D-A233E01410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ll-Prefix Atta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ttp://www.thoughtcrime.org/software/sslsnif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ull character in subject of certificate reque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N=www.paypal.com\0.thoughtcrim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N=*\0.thoughtcrim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icks automated checks performed by 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icks TLS software hostname matching algorith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act on IGTF host certificate request verificatio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ample: NCSA MICS does automated verification; existing sanity checks reject null-prefix reques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14/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8FC4BB-0DB9-4C5A-AA40-66D393E172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5:37:02Z</dcterms:created>
  <dc:creator>Jim Basney</dc:creator>
  <dc:description/>
  <dc:language>en-US</dc:language>
  <cp:lastModifiedBy>Jim Basney</cp:lastModifiedBy>
  <dcterms:modified xsi:type="dcterms:W3CDTF">2009-09-10T17:56:30Z</dcterms:modified>
  <cp:revision>2</cp:revision>
  <dc:subject/>
  <dc:title>IGTF Risk Assessment Team</dc:title>
</cp:coreProperties>
</file>