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481-5E7E-4DC9-8D9C-28DB1516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criteria for exp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ow sampl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ighlight how we can compare auto-mappe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licy units = more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policy unit = length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ity of pa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nd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Requires versus required in analys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.1.4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rustworthiness of any PKI rests upon expectations for trust and the degree to which those expectations are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olicies document expectations for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e-Science, financial institutions, U.S. Feder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Demand consistent processes, efficient, transparent, reproduc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 CP operations are time consuming, lack end user transparency, difficult to re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formed trust decisions should be based on processes that consistently estimate actual organization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urrently-practiced, manual CP operations are costly, time-consuming, lack end-user transparency, and are difficult to reprodu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Blacklist or whitelist individual pro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hallow, coarse policy 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Ps are reference works, encode their referenc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The mechanisms for policy retrieval are largely unrelated to the mechanisms for citing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Navigation versus c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Page numbers as unnecessary artifac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avigate policies by logical reference rather than by pag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In our experience people copy and tweak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Klobucar stated need for policy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E26-73C1-47C5-8850-03F7BD64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220-1626-45F6-8410-B1BD0304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7AF-C24B-4EEF-A769-BA7950DA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51D-AA97-4623-B3D7-ABCD964B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C97-4255-4D35-96F9-3E6E301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9A3-BBA6-4FCD-97CB-94739BD2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104-5642-43FE-99E7-5ABD306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9AD-7793-46BC-82D2-7395A533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DF0-F419-403A-AEB9-E8A9C0D7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67C-3A08-4568-9D18-675C44DD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3D1-F508-42B9-A56A-EF1FE4F7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E5B-4BED-4F3D-90B0-51D38A0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6F10-F320-4D6C-81BC-16F1C345A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ts3.sourceforge.net/" TargetMode="External"/><Relationship Id="rId2" Type="http://schemas.openxmlformats.org/officeDocument/2006/relationships/hyperlink" Target="http://pkipolicy.appspot.com/" TargetMode="External"/><Relationship Id="rId3" Type="http://schemas.openxmlformats.org/officeDocument/2006/relationships/hyperlink" Target="mailto:gweave01@cs.dartmouth.edu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kipolicy.appspot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Computational Framework for Certificate Policy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Gabriel A. Weaver, Scott Rea, Sean W. Smi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Dartmouth Colle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more, higher-quality information for comparing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aring policy is a fundament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a se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enerate a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olicy provision, and a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ource Text:  Just grab the source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FC 2119:  Find discrepancies between significance of CP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3CF-6E59-4029-8457-83954E77A1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rter -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P comparison is subjective, so we timed how long it takes to aggregate information needed to compare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ypothesis: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ed processes take less time and provide better-quality information than non-automat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Setup: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Given CPs in PDF on disk or lo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me to do RFC 2119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l benefit comes from value-adde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7B9-3041-46C8-9813-C1688A480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534520" cy="297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3314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Ma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 the content of a CP/CPS in 2527 format into 3647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ping a 2527 to 3647 requires 20% more effort than two 3647 CPs.  Avg. mapping takes 80-120 hours in a bridge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FC 3647 defines tables, takes many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mapping transforms 2527 to 3647 in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flexibly configure the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overed errors in the transformation table (2.1 -&gt; 2.6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5E3-8943-4E7E-A6DE-3D45C6D289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xtra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rases, NLP for more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pic-driven extractions (eg. How does a policy handle Personnel?) (FPKIPA-CP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pand the PKI Policy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lyze the policies to extract common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ord senses (e.g. ‘reasonable’ as in Dutch law versus Engli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mparison of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D32-ECE3-4A06-8640-AD9340957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ture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sign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licy annotation (annotate phrases or word s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tomatically extracting mapping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porting GU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igning policy enforcement mechanisms with policy via re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e the automatic certificate validation from Dublin (Dav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ract inputs to the cert. validator directly from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PM-backed serv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97120" y="3657600"/>
            <a:ext cx="539460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2A1-BF12-46B5-9981-86A83A573B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/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4640" y="4495680"/>
            <a:ext cx="5103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cts3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pkipolicy.appspo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act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gweave01@cs.dartmouth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 workshop in Washington D.C. in 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icies document expectations for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and for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consistent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rtificate policy (CP)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ro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KI Compliance Audit, Policy Mapping for Bridging, Grid Accred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igned, built, &amp; evaluated a computational framework for C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494-556D-478A-9CFC-D07754CE5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formalization of PKI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utational Tools &amp;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ture Researc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413-5550-4FDA-B719-43B7C2833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r Formalization of Certificat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Formalizing Certificate Poli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laim that computationally processing machine-actionable CPs would be m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TS-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I-XML encoding of reference structure (2527, 364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chine-actionable, but human readable (FPK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lgorithms are consistent, unambiguous, reproduc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670572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845-013D-40D0-B0CB-EDB501DE01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KI audits, accreditation, and policy mapping depend upon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ference and retriev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C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vigate texts by logical reference (versus pag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pository sets stage for processing CP con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i-automated process to extract and encode P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itial repository @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kipolicy.appspo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83502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461-D288-4F06-9B11-D7499848A1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PKI Policy Enc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iginally, encoding PDF as XML took 4-6 hours.  Now down to 15 minutes at m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DF -&gt; Text -&gt; XML -&gt;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tch missing/malformed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mo!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8EF-507B-4DDE-A61C-506064628E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ational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4852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Gill Sans"/>
              </a:rPr>
              <a:t>Tools:  PKI Policy Buil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hine-assisted policy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py and paste in the real world (IGT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may not fully understand poli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r approach:  Pull polici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KI Policy Repositor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fill out 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clude references (CTS-URNs) to copied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e how many policy statements pulled from previously-approved C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38672f">
                  <a:alpha val="61176"/>
                </a:srgbClr>
              </a:gs>
              <a:gs pos="100000">
                <a:srgbClr val="1a30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PMAGrid 2009, Ber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F65-0B7C-4B95-964E-A3B3C3B316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4:25:17Z</dcterms:created>
  <dc:creator>Michael Weaver</dc:creator>
  <dc:description/>
  <dc:language>en-US</dc:language>
  <cp:lastModifiedBy>Michael Weaver</cp:lastModifiedBy>
  <dcterms:modified xsi:type="dcterms:W3CDTF">2009-09-16T06:45:42Z</dcterms:modified>
  <cp:revision>16</cp:revision>
  <dc:subject/>
  <dc:title>A Computational Framework for Certificate Policy Operations</dc:title>
</cp:coreProperties>
</file>