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76DB-5EF4-4D48-9A53-324E529D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ACFE2-9DEE-4B12-A0D6-CE6C6F68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C6394-58E6-433B-BBC7-007D1008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76DF7-918F-40DD-BE1C-4C6E521E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7F79E-C03C-4BCE-82A0-05B2FC34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9D243-4C8F-470C-BC40-E8BD899B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B9B42-B36C-4A74-9291-6660FC9B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 Termination: should define clearly in Charter how to terminate a CA if the operation project/institute ends before CA lif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4A13D-46C9-4C86-92D8-569E36B8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278604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6 +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343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updates since Zurich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Completed : HKU, IGCA, KISTI, APAC, ASGCCA, NECTEC GOC-CA and NCH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7 In Progres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KEK, NAREGI and PRAGMA-UCSD (wait for NAREGI new pat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, IHEP and NGO/Netrus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GTF RAT communicatio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ey need to reply within one business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ct time : Aug 25 –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ult: all APGridPMA members complet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4% responded within one da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6% responded afte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reque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GridPMA Services migration to ASGC is under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b site, Nagios, Mirror of IGTF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member in Asia Pa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Mongolian University of Science and Technology ) is preparing CP/C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907920"/>
            <a:ext cx="8497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ff, Canada, in conjunction with OGF27 and Grid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pected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APAC/ARCS, ASGC, NAREGI/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mayb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genda from APGridPM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Policy implemened in APGridP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/Membership Terminatio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lls of APAC have been taken over by AR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 SL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y generation by a 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50:08Z</dcterms:created>
  <dc:creator>David Groep</dc:creator>
  <dc:description/>
  <dc:language>en-US</dc:language>
  <cp:lastModifiedBy>Yoshio Tanaka</cp:lastModifiedBy>
  <dcterms:modified xsi:type="dcterms:W3CDTF">2009-09-14T07:53:46Z</dcterms:modified>
  <cp:revision>131</cp:revision>
  <dc:subject/>
  <dc:title>International Grid Trust Federation Session  GGF 18 Washington, DC, USA</dc:title>
</cp:coreProperties>
</file>