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636-34E4-4CDA-AEC5-55101B01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6404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DB6-46F2-47E7-A5DD-CD2DE067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241-177D-4D30-9171-B775C909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30481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6404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C8F-0D9B-47B1-9359-4240F747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4DA-E10D-4092-9D31-FBA7B3CE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25E-FCC9-49F7-9C87-EB7E1B5E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CEB-B2DA-4FB6-B38C-1D6FEC2E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31C-67F3-41F7-A179-755026DE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203-2BB5-41DA-A6A5-F48105A6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D7B-0C48-4A4D-B17D-7A78CF09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6404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E30-6525-45A7-BC97-69637241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30481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6404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B31-A0C5-4854-A032-459108E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83412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16784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501560" indent="-1666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AEFC-836E-4227-B2BF-59BD95541A2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12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gridpp2_logo"/>
          <p:cNvPicPr/>
          <p:nvPr/>
        </p:nvPicPr>
        <p:blipFill>
          <a:blip r:embed="rId3"/>
          <a:stretch/>
        </p:blipFill>
        <p:spPr>
          <a:xfrm>
            <a:off x="5572080" y="361800"/>
            <a:ext cx="3183120" cy="8924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ngs.jpg"/>
          <p:cNvPicPr/>
          <p:nvPr/>
        </p:nvPicPr>
        <p:blipFill>
          <a:blip r:embed="rId4"/>
          <a:stretch/>
        </p:blipFill>
        <p:spPr>
          <a:xfrm>
            <a:off x="5929200" y="5734080"/>
            <a:ext cx="28940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ivate Robot Key Nam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J Jens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TFC Rutherford Appleton La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Berlin, Sep 2009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s Is.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Membership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f role enabl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uthorised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use of key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permitted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purposes of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ertificate is not necessarily person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ertificate may be a prox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s is: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Owner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f Robot Certific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delegate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role-to-use RC to o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human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g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wner obtains commitment that certificate is used for permitted purpos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restricted by owner beyond restrictions by C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wo Separate Case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(see also Soapbox)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nt is huma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cting via someone else’s certific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something else’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nt is automated (true robot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Role of Deleg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4240" y="2714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legation of auz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to do some smtg on behalf of sbd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are more dynami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 princip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ole access can be managed by someone else (delegation of delegation is delegat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Role of Prox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legation of all…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scape the evil controlling clutches of the C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call previous discussion re use of ce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rid monitoring jobs, Grid jobs (eg portal), Mailing list management, 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stricting use of ce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restrict the access to authorised us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log who the user was, if applicable (W&amp;F discussion later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o ensure certificate is used for permitted purpo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orisation is in system designer, admi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gging, requires individual Au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rmitted purposes restricted by C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strict further : by AuZ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ether a true cert or a proxy is irreleva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beit proxying takes key out of CA’s remi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4240" y="271476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evious comments on naming robots meaningful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a robot is a role then it should name a role (human backen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a robot is an automated agent then it should name what it *is* (not what it doe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Kihon - Private Key Protec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and robot nam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&amp;F revisi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me will reappear in soapbo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e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W&amp;F: identif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Subscrib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istinguish Subscriber and E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bscriber is responsible for ce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E is named in the ce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al: EE == Subscri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&amp;F revisit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5880" y="24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DN reasonably identifying Subscriber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all client cert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enticated use of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iz., by the role mem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sertions by the CA when po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means of AuC to cert could be 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evels of exdir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o State The Obviou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must of course conform to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in’l reqs, robot reqs (insofar as they exist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CP/CPS of the issuing C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GTF policy (insofar as it exist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960" y="26427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t is OK to be conf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fusion arises through lack of comprehen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ack of comprehension is norm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xperience+cogitation-&gt;comprehen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prehension-&gt;IGT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gorithm, Size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ifetime of corresponding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vocation timeliness of corresponding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private key is protec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tecting host, filesystem, key, HSM, SS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backups are protec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private key is activated/deactiv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Key Activ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14240" y="24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entication to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login as root, login on ho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nowing a password/passphr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HSM in FIPS140-2 L3: smartcar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thorisation to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ole based authorisation =&gt; Robo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rea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42960" y="257184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nauthorised use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ft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nnotic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ticed, but key is still availa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ey is gon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rtial theft of key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struction of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itig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2960" y="285768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ccess control to (use of)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of key logged secure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hysical controls, provable contro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CKSS, ironical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ngs are sometimes not as secure as they see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Your Homework Assign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(&amp; Areas for Research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2960" y="278568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 best practices (eg via CAOP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rove following area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ure logging use of k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eventing use other than authori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etter authorisation too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ole Based Key Activ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Other Type of Robo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9:55:48Z</dcterms:created>
  <dc:creator>Jens Jensen</dc:creator>
  <dc:description/>
  <dc:language>en-US</dc:language>
  <cp:lastModifiedBy>jj47</cp:lastModifiedBy>
  <dcterms:modified xsi:type="dcterms:W3CDTF">2009-09-15T11:22:28Z</dcterms:modified>
  <cp:revision>84</cp:revision>
  <dc:subject/>
  <dc:title>PowerPoint Presentation</dc:title>
</cp:coreProperties>
</file>