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512-F82F-4B0A-8E56-15C8928CB9CA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147D-DFE3-4E78-8B9F-141F3E14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3E9F4-F2AC-4292-9B7E-2187973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1DFC-0267-4296-8AE0-33E9EFB3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3818-1EA7-4108-BD99-DD0350F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D71C7-310D-4367-B62D-AEC1EE7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39E0D-EE06-4EE5-8864-F8F956AF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6741B-7297-44B5-BD7B-D0CCA0C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BF0B4-870D-4E89-852C-9AA1BCE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7F70-2260-4A7D-A983-4F40E12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CADA-AB78-42DC-BBFC-5EF26FF9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F53F8-6933-4013-ABC8-AE7CE60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ACDD4-90DA-4512-A894-15F29F4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4920"/>
            <a:ext cx="34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th EUGridPMA Mtg, 11 May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A36A-77D0-43EC-B987-04E63261116E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0B6-E63C-432D-90D5-72BC5125889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gpma.org/files/MICS_AP_FINAL_1.1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jpe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c.pdf" TargetMode="External"/><Relationship Id="rId2" Type="http://schemas.openxmlformats.org/officeDocument/2006/relationships/hyperlink" Target="http://tagpma.es.net/wiki/bin/view/Main/SLCS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6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n Update from the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AGP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Zurich, Switzerland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11th May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492280"/>
            <a:ext cx="3527280" cy="1287000"/>
            <a:chOff x="468360" y="249228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49228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13668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032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version of the MICS profile (V1.0 17/07/2007) is undergoing revi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approved V1.1 (02/05/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agpma.org/files/MICS_AP_FINAL_1.1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 to bring it in line with other prof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es NOT contain changes (yet) to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e next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nguage used in Prof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membership growing stead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versity is leading to various (valid?) interpretations of Auth. Profile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lot of common/similar text in all three 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 the true intent of the policy statements being captured by the current language in the APs or is the meaning of the writers being forgo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e Jens’ Kihon Soapbox Present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brought this up at the last EUGridPMA meeting with respect to the Classic Pro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r MICS, TAGPMA members are requesting an IGTF discussion on what constitutes “traceability” before addressing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ther Relevant Highl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vived Bridge 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hen can we move to SHA-2?”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Jim Basney showed that InCommon Federation’s Silver Identity Assurance Policy meets current SLCS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oE Grids Audit Report – Some interesting feedback that perhaps should somehow filter back into Yoshio’s Audit guidelines – See Mike’s tal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ould be happy to be responsible for DoE Grid CA should ESnet wish to transfer accreditation from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most Accredited FiNALl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ermi Lab’s SLSC CA is almost accredited (credits to Irwin Gaines) – only missing the OK from one reviewer for the Operational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be in the next IGTF distrib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so expect NCSA’s Federated-SLCS CA to be accredited before the next distribution is du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rther questions to Jim Basn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MICS CA from TACC is also pretty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oposing a joint PMA (IGTF all hands) meeting in Banff, Alberta, Canada, during week of the 12th October 2009, co-located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GF 27, 12th to 16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EEE Grid 2009, 13th to 15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ybera/CANARIE National Summit, 13th to 15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Considering extending the IGTF Session to one and half or two days during OGF and using some part of Saturday 17th to minimise overlap with other ev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lease discu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Given Banff is going to busy, need to make arrangements and reservations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s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13th M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in and participate in any of our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720" y="1484280"/>
            <a:ext cx="518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RC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Snet (DOEGrids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(PSC)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0" y="1916280"/>
            <a:ext cx="3697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tinues to be 22 Members from North, Central and South Ame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1 IGTF Accredited CAs (8 Classic, 2 SLCS, 1 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urther 1 Classic, 2 SLCS and 1 MICS CAs in process of accreditation 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(more on this later)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+ 3 more about to 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harter updated (currently v2.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lines process for “involuntary resignation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embership states: active; inactive (automatic if don’t participate in TAGPMA activities for a year); and suspended (requires TAGPMA vot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oss of membership implies loss of accredi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0760"/>
            <a:ext cx="80755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s of the Cyprus EUGridPMA meeting (Jan 2009), accreditation transferred to TAG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has handed over/back management and operations of the Canadian Grid CA to Canadian National Research Council (NR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has substituted CANARIE as a TAGPMA member with Roger Impey is the new P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will audit existing system then upgrade entire infrastructure and update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NRC do not expect any interruption to the serv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usted Introducer (nominated by the Chai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Term of office ends in July 2009. Elections to be held between May and June. Existing officers will not be running again so expect new names for next me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at Pittsburgh Supercomputing Center, Pittsburgh, PA,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, 2009, 9am – 6p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genda detail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Full minutes will be posted s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Highlights to follow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Just Prior to the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SC hosted a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derated Identity Workshop (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 open to the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bjective was to discuss the state of existing and upcoming Federation technologies; what is available and what is needed for interoperability between different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resentation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nCommon seemed keen to work IGT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erizon Business (CyberTrust) showed willingness host IGTF CAs along the lines (I guess) of Quo Vad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With SafeNet/Aladdin merger less likely to have HSM-like tok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Charter Amend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TAGPMA voted to approve the EUGridPMA proposed amendment to Namespace Assignment Policy described in Section 3.1 of V1.1 of the IGTF Charter (25 June 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approved version of the SLCS Profile is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.1c, 03/02/2009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c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nly minor changes from 2.1b to 2.1c (correction to referen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lete revision history on the wiki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bin/view/Main/SLCS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5-11T00:11:41Z</dcterms:modified>
  <cp:revision>103</cp:revision>
  <dc:subject>EUGridPMA Zurich May 2009</dc:subject>
  <dc:title>TAGPMA Updates</dc:title>
</cp:coreProperties>
</file>