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A20-1281-4665-B877-8D45BCC3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F35-875D-40BE-86C1-74AFD440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9B2-4EF6-4F98-9314-5CD5FC20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E3E-36B7-41B9-A61F-72666975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F2B-4E81-491D-969A-3DDB164C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BA6-D525-4408-BCD0-F0B1DC8A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62A-2286-4650-AAE3-3710DFA2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B1D-8950-4EFE-A01A-BE0D6693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085-A4FE-419C-8B37-6B6C9CE7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3A8-FFAE-4BD1-9C29-D327BA19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8B8-C6F3-4385-BDED-3813D4DD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49B-4FE0-4350-A35F-B83AE9FF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CFE69-AB25-4EC7-9E2B-20932AFF1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435EE-271B-48F2-8C12-0B000CC7A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Ps Not Updating CRL U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Grids CA reported (Apr 11) that about 25% of CRL requests are to the old U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L changed in IGTF distribution a month earl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a concer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ction should we t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1D113-D904-4260-A770-D2D4B7F82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D5 hash collisions in X.509 certific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for new certificates issued using MD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GTF should not have any of thes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2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so concern about MD5 weakness in genera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certificates (and subordinat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ld CNRS subordinate using MD5; new CNRS2 hierarchy using SHA1 released Januar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ACGrid, Grid-Ireland, UK eScience, KFKI RMKI, IUCC, Polish Grid, Grid Canada still using MD5 in CR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rid-Ireland and UK eScience will switch to SHA-1 by Ju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xy certificates (Globus, VOMS, MyProx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us migrating away from MD5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tp://bugzilla.globus.org/globus/show_bug.cgi?id=661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6CF20-2736-4C31-B55D-7D89C5864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EC)DSA EE K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SSL client vuln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ly that IGTF CAs have certified (EC)DSA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8.t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requested CAs to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CAs found (EC)DSA certific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(EC)DSA certificates valid until Aug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E71A8-4D18-41D3-95A1-483AE8970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ity Checking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A Exponent &lt; 655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tokens (pkcs11-tool) tend to generate exponents 3 &amp; 5 by defa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n-weak (Debian OpenSSL)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C)D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89277-7B47-49EE-9585-4EAB4D951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4F613-A34F-4543-BD46-CBD8BDF5B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://tagpma.es.net/wiki/bin/view/IGTF-RAT/2009-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5 Jan: RAT begins drafting mess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1 Feb: Request sent to CA opera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3 Feb: 57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ar: 75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6 Mar: 77 of 80 CAs respon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7 Apr: 77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 Apr: 78 of 80 CAs respon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DC487-B35E-4B64-8F51-6318F0E42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CAs issued certificates containing (EC)DSA keys, expiring by Aug 27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CAs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CAs are currently issuing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 CAs issued CRLs using MD5. 7 are currently issuing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9 CAs have implemented automated checks for RSA keys with weak ex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CAs have implemented automated checks for known weak Debian OpenSSL ke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 CAs have implemented automated checks for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C4B7E-05D9-435A-97C3-75489E20B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ail to CA contact address in dis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urvey (surveymonkey.co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bjection received; response sent by email inst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s considered priv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 results pu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publish response times for each C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4E408-3160-49F2-9486-4D347CDF1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-1 -&gt; SHA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D5 weaknesses remind us about weaknesses in SHA-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ST advises to replace SHA-1 by end of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-1 Collision search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iaik.tugraz.at/content/research/krypto/sha1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is our level of concern about SHA-1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th forward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 software support for SHA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with middleware providers to support SHA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urage upgrade to OpenSSL 0.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relying parties support SHA-2 (in 2010?), begin issuing SHA-2 certific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8C6CA-6707-4625-8DE2-641555256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0:22:18Z</dcterms:created>
  <dc:creator>Jim Basney</dc:creator>
  <dc:description/>
  <dc:language>en-US</dc:language>
  <cp:lastModifiedBy>Jim Basney</cp:lastModifiedBy>
  <dcterms:modified xsi:type="dcterms:W3CDTF">2009-05-11T00:52:10Z</dcterms:modified>
  <cp:revision>15</cp:revision>
  <dc:subject/>
  <dc:title>IGTF RAT</dc:title>
</cp:coreProperties>
</file>