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766E-D7F1-4503-A64F-42DD582D11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9C17-C51C-4866-A442-AAB61C129A4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3BE5-8105-4E47-8DA6-ADC6D81E679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296D-0E41-436A-BD56-360960007A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9B0B-5C5C-4BD5-A0EA-7E1F4C89E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5F7E-2445-4D70-AEEF-2A9AC31578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950C-B645-411B-848E-1086B714F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034A-8668-4B43-842F-5877803BB8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FF44-7B83-4388-A5AD-DC3C8C4A5E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1A75-7C7A-4679-9CDB-18385A531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3F26-6049-4014-8F1F-F4D772E476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0A03-CE1A-4C78-89B8-2606499D3B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E2C1-E1D3-4514-A27D-AD6047F028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5AA6-09AC-4F3B-9124-7AC04E6EF3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1F4A-B53F-4389-9B79-71319E8E1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41E8-FBA6-45D5-B23F-12A739CC04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4846-33F2-45A5-ADB4-8A09712550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873F-09A1-4F5F-918A-6A33976615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1F82-432C-4440-8509-1D5F8C38A0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4AAE-F1D4-4B95-9EDA-4151B32C8D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1C8A-A4E5-497B-ABD6-ACD05B7804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63E4-083F-4D37-B5EF-F42D02E8AC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88E5-72BE-4189-BA76-E4D5793C58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D72E-B157-4C19-8F1A-17ED622D26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5E4-3357-43C9-B0C7-5236DB4035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425-1489-4005-9291-59FA2B82E0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F0A-9257-4D61-848E-5EE57DF194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D8F-F056-4C28-8060-C96EB105B1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404-726C-4654-B998-3CC4C97C524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AE1-7497-4055-8D0C-A859370B86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B9F-93E7-4074-BBF5-2E323D6D52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6D2-AC2E-4B36-955B-ECE8595EDA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4D3-557E-4F55-8D09-0C81A5B75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4E5-E188-4130-9381-13B1EF3FA2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E37-FCFB-41A9-88B2-89BAD6B547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364-2F9D-4514-B874-E5A550C9A5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879200"/>
            <a:ext cx="736632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60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be6030"/>
              </a:solidFill>
              <a:latin typeface="Verdan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9007400">
            <a:off x="-329760" y="297000"/>
            <a:ext cx="1751040" cy="35532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ellas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596880" y="3822840"/>
            <a:ext cx="10147320" cy="3035160"/>
          </a:xfrm>
          <a:prstGeom prst="roundRect">
            <a:avLst>
              <a:gd name="adj" fmla="val 6273"/>
            </a:avLst>
          </a:prstGeom>
          <a:solidFill>
            <a:srgbClr val="ebeb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47880" y="1942920"/>
            <a:ext cx="280692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3531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6664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7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01124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366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1" marL="725400" indent="-2426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058760" indent="-25848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3" marL="13762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4" marL="168120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5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6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bdbdbd"/>
          </a:solidFill>
          <a:ln w="12600">
            <a:solidFill>
              <a:srgbClr val="65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9007400">
            <a:off x="-355680" y="283680"/>
            <a:ext cx="1751040" cy="35568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Verdana"/>
              </a:rPr>
              <a:t>HellasGrid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8780040" y="6540120"/>
            <a:ext cx="2811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9D8A-9DAE-40B7-A4AE-274963B64C95}" type="slidenum">
              <a: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6572160"/>
            <a:ext cx="618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19191"/>
                </a:solidFill>
                <a:latin typeface="Verdana"/>
                <a:ea typeface="Verdana"/>
              </a:rPr>
              <a:t>16th EUGridPMA Meeting, 13 May 2009, Zur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509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8408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99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55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3124080"/>
            <a:ext cx="9144000" cy="3581280"/>
            <a:chOff x="0" y="3124080"/>
            <a:chExt cx="9144000" cy="3581280"/>
          </a:xfrm>
        </p:grpSpPr>
        <p:sp>
          <p:nvSpPr>
            <p:cNvPr id="122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8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7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6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5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0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72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4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77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9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1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4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6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39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91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34340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4068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 fontScale="65000"/>
          </a:bodyPr>
          <a:p>
            <a:pPr marL="91440"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" indent="-65880" algn="ctr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91440" indent="-65880" algn="ctr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3869280" y="1003680"/>
            <a:ext cx="150840" cy="48448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2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44C7-C6B2-46F8-907E-00468151755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263" name=""/>
            <p:cNvSpPr/>
            <p:nvPr/>
          </p:nvSpPr>
          <p:spPr>
            <a:xfrm>
              <a:off x="0" y="259092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42900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50532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02760"/>
            <a:ext cx="8001000" cy="167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44280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5064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60440" indent="-31752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3480" indent="-30168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5805-8C81-4AE9-B2CF-46E65C6BDBC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3962520" cy="13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406440" y="337824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06440" y="99072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tria@grid.auth.gr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88840" y="1447920"/>
            <a:ext cx="73663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6030"/>
                </a:solidFill>
                <a:latin typeface="Verdana"/>
              </a:rPr>
              <a:t>Towards Managed Credential Stores and a “national” virtual smart card</a:t>
            </a:r>
            <a:endParaRPr b="0" lang="en-US" sz="4000" spc="-1" strike="noStrike">
              <a:solidFill>
                <a:srgbClr val="be6030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4965840"/>
            <a:ext cx="6858000" cy="172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96800" algn="r">
              <a:lnSpc>
                <a:spcPct val="98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Kanellopoulos (skanct@grid.auth.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Triantafyllidi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tria@grid.auth.gr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16th EUGridP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Zurich, 13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9816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has been stated numerous times: </a:t>
            </a:r>
            <a:r>
              <a:rPr b="0" lang="en-US" sz="2200" spc="-1" strike="noStrike" u="sng">
                <a:solidFill>
                  <a:srgbClr val="c36a3d"/>
                </a:solidFill>
                <a:uFillTx/>
                <a:latin typeface="Verdana"/>
              </a:rPr>
              <a:t>The users do not want to deal with certificat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3C4A-FB78-4E8E-93B5-4685AD86A9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y are a proven technology for working on distributed computing infrastructur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nd most importantly the provide a solution NOW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C8C8-B9AD-4984-8694-9820DC49C2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make the user experience bet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49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ry to move many of the standard operations to the web (registering to the grid, joining VOs, accessing UIs </a:t>
            </a:r>
            <a:r>
              <a:rPr b="0" i="1" lang="en-US" sz="2200" spc="-1" strike="noStrike">
                <a:solidFill>
                  <a:srgbClr val="c36a3d"/>
                </a:solidFill>
                <a:latin typeface="Verdana"/>
              </a:rPr>
              <a:t>[14th EUGridPMA meeting, Lisbon]</a:t>
            </a: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everage emerging national AAI as a more user friendly service for the u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MyProxy service for long term proxy storage. Retrieve proxies on  demand. What about security?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 convenience vs  Security !!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EBE3-F989-4D36-8615-D420BF37DF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ity vs common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s store long term proxies on various MyProxy services for their convenien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3156-CB79-44BB-9979-653778ED9D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probl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Browser incompatibilities (IE6 vs IE7 vs IE8 vs Firefox vs Chrome etc etc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How to transfer their certificates from the browser to the UI (or the other way around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getting passphras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osing the private key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40C0-CE35-4299-B723-F471C06CA7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User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9CD4-320B-4B82-A39E-55D90DFDFF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e work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 the HellasGrid Training Infrastructure we are focusing on using Greek National AAI in order to provide on demand generation and delivery of key pair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e MyProxy service as an online CA, to generate and store user key pair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the production MyProxy service  to use for proxy storage and delegation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2F1D-96E0-4DB3-B715-8B757DFC67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antage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user does not have to deal with private/public key generation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 normal grid usage the user just uses proxies and thus the private key pair does not have to be exposed in a large number of place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n case the user accidentally loses the key pair they can retrieve it again from the servi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EE67-DFA5-4B7A-AD78-E63E2835F1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Triantafyllidis</dc:creator>
  <dc:description/>
  <dc:language>en-US</dc:language>
  <cp:lastModifiedBy/>
  <cp:revision>0</cp:revision>
  <dc:subject/>
  <dc:title>HellasGrid CA - RA Duties</dc:title>
</cp:coreProperties>
</file>