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91CB-F8EB-471C-9C47-B42B1FFC6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4B0A-6AB1-4838-B818-96E07A69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26CB-F7D6-433C-B376-322CA58F9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A343-D0DE-42BC-9B70-B83D2232F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536D-6ECA-4656-9257-FFD4851F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B664-7184-4980-BEE5-24EF3C40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AE7B-321F-4140-9C4B-2FE63444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4AD9-33EB-478D-A6EC-F4D9B137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46DB-2520-411B-B139-A120AC89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8EDF-A7E5-4052-A562-3FACF105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9017-E065-4BF9-8C99-17C8D410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6AEE-C253-4496-9875-6341E6AD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GridPMA 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BD49-96BB-4634-9349-F8CE902FB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doodle.com/r5cnvskcftf534nz" TargetMode="External"/><Relationship Id="rId2" Type="http://schemas.openxmlformats.org/officeDocument/2006/relationships/hyperlink" Target="http://doodle.com/r?url=http%3A%2F%2Fwww.doegrids.org%2FDocs%2FDOEGrids-3.1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944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3760" y="609120"/>
            <a:ext cx="34290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EGrids Audit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4120" y="24382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hael He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76320" y="128520"/>
            <a:ext cx="1322280" cy="1014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8229600" y="60958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4"/>
          <a:stretch/>
        </p:blipFill>
        <p:spPr>
          <a:xfrm>
            <a:off x="6629400" y="6248520"/>
            <a:ext cx="1371600" cy="407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"/>
          <p:cNvPicPr/>
          <p:nvPr/>
        </p:nvPicPr>
        <p:blipFill>
          <a:blip r:embed="rId5"/>
          <a:stretch/>
        </p:blipFill>
        <p:spPr>
          <a:xfrm>
            <a:off x="5334120" y="6095880"/>
            <a:ext cx="990360" cy="601920"/>
          </a:xfrm>
          <a:prstGeom prst="rect">
            <a:avLst/>
          </a:prstGeom>
          <a:ln w="0">
            <a:noFill/>
          </a:ln>
        </p:spPr>
      </p:pic>
      <p:sp>
        <p:nvSpPr>
          <p:cNvPr id="48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6E94-9ACD-4531-9003-15CA220EF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76320" y="61405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etworking for the Future of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ubtitle 2"/>
          <p:cNvSpPr/>
          <p:nvPr/>
        </p:nvSpPr>
        <p:spPr>
          <a:xfrm>
            <a:off x="5334120" y="3429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ergy Sciences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wrence Berkeley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ubtitle 2"/>
          <p:cNvSpPr/>
          <p:nvPr/>
        </p:nvSpPr>
        <p:spPr>
          <a:xfrm>
            <a:off x="5334120" y="43434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May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2" descr="DOEGrids.jpg"/>
          <p:cNvPicPr/>
          <p:nvPr/>
        </p:nvPicPr>
        <p:blipFill>
          <a:blip r:embed="rId6"/>
          <a:stretch/>
        </p:blipFill>
        <p:spPr>
          <a:xfrm>
            <a:off x="6019920" y="1600200"/>
            <a:ext cx="15588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GridPMA 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8AD8-CAD9-4128-8152-A53834571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Auditing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ST 800-53 framework – ong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net PKI CSPP – working on publ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guration Review – ong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net Security Peer Revie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G risk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ed re-issu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hanges caused a lot of trou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ration from Iplanet CMS to Redhat CS using old configu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st in other 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d every automatically issued certificate (renewals, certain kinds of RA agent functions) since Jul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GridPMA 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FFA7-EC2D-4C4A-B19F-AC4B42188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all now pass lovingly over these documents as time permits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Grids Audi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doegrids.org/Docs/DOEGridsInternalAudit2007Report.d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of work done on au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doegrids.org/Docs/Audit2007-Response.d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oodle.com/r5cnvskcftf534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Grids CPS 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doegrids.org/Docs/DOEGrids-3.1.do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GridPMA 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6318-46CC-44BC-A6DD-2F30F4F48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little background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ed up for audit in Sep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t of various features Nov-Dec 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issu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files: census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ST 800-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 review” style committee, focused on early version of IGTF Audit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Report Amsterdam Jan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Audit Report Aug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C 3647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d” Audit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GridPMA 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2D4B-A0EE-4758-A911-02D26E1AF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dit Repo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t Report Executive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al matters of interest to auditors; includes significant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ct list – discussed in Amster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net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plan for issues found in au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se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auditors’ spreadsheets and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GridPMA 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D595-381C-4177-BFB8-5483BF213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dit Report Executive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deal with ID verification 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RAs to maintain identificatio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CPS format to RFC 36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offering a MICS-type 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/revamp DOEGrids P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ity of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ST 800-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ID &amp; authentication-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GridPMA 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12B3-1FE6-4D4F-A494-5A01100DC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dit Fi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ken into 2 classes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gnificant deviat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topics with obvious seriousness, where either the documentation was missing, or the CA operations didn’t conform to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inor deviat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essentially minor documentation errors and o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GridPMA 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A7A1-1246-4C0C-B526-62FF78C94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of Audit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 Verification (initial) was resolved at Amsterdam -&gt; resulted in TTP 1S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 re-verification remains an open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 record retention – under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 -&gt; see the “CA cloning” s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ucturing CPS to RFC 3647– done – v 3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d CPS according to Audit Log – done v 3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Grids PMA rev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planning remains a future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GridPMA 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277C-115F-4CE3-B48E-17A4EE44E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Grids CPS Tran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Grids CPS v 2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ly implemented at Apr 2008 TAGPMA at NERS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ESnet RA &amp; Philips 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Grids CPS v 3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ion of v 2.10 -&gt; RFC 3647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Grids CPS v 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of DOEGrids Audit 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nall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GridPMA 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791E-9D3B-48D1-ACAD-46B2236C8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Grids CPS 3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ing thru DOEGrids PMA approval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ved by ESne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reflects the reality of how we must operate the CA &amp; its serv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ntroversial ar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serve the right to make change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has the right to cause a certificate to be revoked (or other CA operation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cy &amp; confidentiality (N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GridPMA 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38B2-97CD-4EA9-9FF7-CA4968376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standing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issues become the next work program after DOEGrids CPS 3.1 accep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ty re-ver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difficult community 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ols to support this are in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currently studying the demographics &amp; plan to have a program for re-verifying ancient subscribers in place by Octo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 responsibilities &amp;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ty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P/GFD 125 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on gradual adoption – another community relations 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deration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to be identified as a customer 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PS restruct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RA Disclosure appendices, put in DOEGrids PMA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dynamic content and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 – linking with NIST 800-53 – based security and practice 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 various anachronisms 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04:49:47Z</dcterms:created>
  <dc:creator>michael helm</dc:creator>
  <dc:description/>
  <dc:language>en-US</dc:language>
  <cp:lastModifiedBy>helm</cp:lastModifiedBy>
  <dcterms:modified xsi:type="dcterms:W3CDTF">2009-05-12T09:14:40Z</dcterms:modified>
  <cp:revision>26</cp:revision>
  <dc:subject/>
  <dc:title>DOEGrids Audit Report</dc:title>
</cp:coreProperties>
</file>