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DEB-2046-4BD4-81DD-08B2D079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3776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FC3-A713-4D61-8BDE-08C21D58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56A-E348-45D5-A607-C11B9373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42064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42064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3776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3776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3776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611-5676-426A-A916-30FDADB9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811-AEC4-497E-9E23-36A6FE6E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E9B-BFD6-46BE-ABD7-525CB0A5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C40-4B9D-4035-ADD8-1567D0C6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F65-C424-414F-971B-DE688CB5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8ED-D4FF-4D23-BA72-A2585EA0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27C-6D68-4245-8BA8-BCE4C556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EAF-7326-4DAF-BB25-68CAF20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3776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228-FDFD-4ED4-8B36-0EF14552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72BA-EEB1-4824-B2D0-D92CC361FCB2}" type="slidenum">
              <a:rPr b="0" lang="en-GB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ngs"/>
          <p:cNvPicPr/>
          <p:nvPr/>
        </p:nvPicPr>
        <p:blipFill>
          <a:blip r:embed="rId3"/>
          <a:stretch/>
        </p:blipFill>
        <p:spPr>
          <a:xfrm>
            <a:off x="4140360" y="5734080"/>
            <a:ext cx="4765680" cy="952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gridpp2_logo"/>
          <p:cNvPicPr/>
          <p:nvPr/>
        </p:nvPicPr>
        <p:blipFill>
          <a:blip r:embed="rId4"/>
          <a:stretch/>
        </p:blipFill>
        <p:spPr>
          <a:xfrm>
            <a:off x="611280" y="5842080"/>
            <a:ext cx="27367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Jens’ N</a:t>
            </a:r>
            <a:r>
              <a:rPr b="0" lang="en-US" sz="44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 soapbox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85520" y="3714840"/>
            <a:ext cx="7715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’t be a PMA without a Soapbox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Jens Jensen, R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U GridPMA, Switch, Z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ich, 11-13 May 2009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nfrastructu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14240" y="2285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tworks – (internet/web needed for at least CR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NS, inter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NS, exter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chines, hardwa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hysical prot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ntern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Front) datab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ogging and archiving (if different) (WORM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 operator interfa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gning infrastructu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SM, if us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 datab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per and/or onlin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people/rol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424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 Manag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884160" indent="-4680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, admi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A manager manag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884160" indent="-4680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 managers, RA operators (variation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(Self)audit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“Manual” Trus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2960" y="235692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hotocopies (or equiv) of i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ppointment lett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INs, if u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rivate keys throughout PK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assphr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ntern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14240" y="20714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gh </a:t>
            </a:r>
            <a:r>
              <a:rPr b="0" lang="en-US" sz="3200" spc="-1" strike="noStrike">
                <a:solidFill>
                  <a:srgbClr val="0070c0"/>
                </a:solidFill>
                <a:latin typeface="Lucida Grande"/>
              </a:rPr>
              <a:t>availability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ervi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dundancy, monitor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gh </a:t>
            </a:r>
            <a:r>
              <a:rPr b="0" lang="en-US" sz="3200" spc="-1" strike="noStrike">
                <a:solidFill>
                  <a:srgbClr val="00b050"/>
                </a:solidFill>
                <a:latin typeface="Lucida Grande"/>
              </a:rPr>
              <a:t>integrity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ervi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ackup, integrity check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gh </a:t>
            </a: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confidentiality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ervi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cryption, physical protection, release proced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509520" y="3143160"/>
            <a:ext cx="2465280" cy="10688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dit resul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nal audi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lf audi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ternal audi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643040" y="2071440"/>
            <a:ext cx="62150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Assurance – Lo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Effort – L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Expertise – Lo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evel of Contribution? – Lo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ing change – inertia – Lo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nghy vs supertank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Reputation(?) – L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tching up with changing requirem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eneral rule of decay and obsolescen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mponents, docume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: Rule of that curvy th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CA – exception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ping with special cases and erro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ually on a case by case bas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e humans vs comps later in pr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S II &amp; II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OLICY AND SOFTWAR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 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WHAT IS A CA?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Guiding Principl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dde Caesari quae sunt Caesari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o orthogonise or no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Jens’ Law of Humans vs Compute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Jens’ Law of Complex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 I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OLICY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! in CP/CPS Templ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! in “1”SC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! in software – see next Pa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s (non-exhaustive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42960" y="235692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ither describe separate dimens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private key prot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identity vetting W&amp;F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scribe with OI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IDs are not order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.e,. .1 &gt; .2 &gt; .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Straight Connector 22"/>
          <p:cNvSpPr/>
          <p:nvPr/>
        </p:nvSpPr>
        <p:spPr>
          <a:xfrm flipH="1">
            <a:off x="2356920" y="5286240"/>
            <a:ext cx="71640" cy="35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5"/>
          <p:cNvSpPr/>
          <p:nvPr/>
        </p:nvSpPr>
        <p:spPr>
          <a:xfrm flipH="1">
            <a:off x="3214800" y="5286240"/>
            <a:ext cx="71280" cy="35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onde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nstead of “how is it implemented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is the goal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LoA is achiev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APs relate to each other in this respe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 mapp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r no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44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thog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ually a good th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parates things that are separ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odula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796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n-orthog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asier to interpre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ngle mapping to other levels (maybe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384000" y="514368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it makes sense to do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ivate key in 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ssword protect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er generat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ertificate pers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2F id vett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GTF-reke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 am a Classic…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3384000" y="514368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it makes sense to do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 II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SOFTWAR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w of Humans vs Compute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puters are good at computer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ke computers do them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umans are good at human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ive human things back to huma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perating Manu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ing existing pract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ing special c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scourage too much creativ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uidelines – goo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n IGTF CA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1424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the institution running the issuing autho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the trust anchor, a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a cert and a (sub-)namespa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a collection of certs and namespa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a person (le roi, c’est moi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w of Complexit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e simple things simple, complex things possible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e things as simple as possible, but not simpler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Complexity has to go somewhe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e Software Triang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Isosceles Triangle 3"/>
          <p:cNvSpPr/>
          <p:nvPr/>
        </p:nvSpPr>
        <p:spPr>
          <a:xfrm>
            <a:off x="2571840" y="2643120"/>
            <a:ext cx="3857400" cy="27147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071960" y="20718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500880" y="4786200"/>
            <a:ext cx="23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227520" y="4929120"/>
            <a:ext cx="22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mplex)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 – web CA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F can no longer import certs from file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ackwards DNs, IE on Vist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version from PKCS#12 to PE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ort/export for non-personal ce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rust web sites flag not set on cert imp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new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ort into brows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pem of course is O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taining use of private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igning Polici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ation of RPDN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Good(ish) certs outside RPDN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ore softwa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FC will release Java clients softwa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n Source licen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s soon as I get round to doing i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ther Java clients STFC-licen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ree (beer) for non-commerci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oapbo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l of the above (ish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lus the following…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Servi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4240" y="226188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pport infrastructure (eg helpdesk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ntact emails (e.g., .info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ront end – certificate request/downloa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813600" indent="-457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newal and RA interface (if different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ack end – signing servi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R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813600" indent="-457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d OCSP, if avail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Servi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1424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otification serv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ssuance, renewal, reke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voc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ame, most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nusual ev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Servi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posito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atisfying repository oblig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ublications according to local (usu country) la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onal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GT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PDNC… (see later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 manager’s GPG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ACAR registration paper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ttendance rec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MA most recent presentation recor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MA most recent audit recor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GT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MA reviewer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itial, re-review: mails, spreadshee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inreq and AP implement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1:45:44Z</dcterms:created>
  <dc:creator>jj47</dc:creator>
  <dc:description/>
  <dc:language>en-US</dc:language>
  <cp:lastModifiedBy>jj47</cp:lastModifiedBy>
  <dcterms:modified xsi:type="dcterms:W3CDTF">2009-05-12T14:05:55Z</dcterms:modified>
  <cp:revision>135</cp:revision>
  <dc:subject/>
  <dc:title>Slide 1</dc:title>
</cp:coreProperties>
</file>