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274A-DE20-490F-9CAA-2FA4460F33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7855-ECA4-4961-ABC5-C6CBDD3FC3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A849B-88B1-498B-8881-858904EFB7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3728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91A8B-CEA6-4AC8-A184-F0DE94B325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02896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3728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3728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A0B6C-D2B7-465D-BB27-2FB3DB4924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02896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02896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3728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3728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3728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C1B2B-1872-4EC5-8053-210B3F83D2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32491-4ADF-4494-AAF3-9856BB54C2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202896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5A9CF-FC1E-4DDA-9289-5224BF308B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5DCDD-FFE7-4A07-A1F7-4ACFAA47FD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202896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C910D-3AEE-4D41-810C-983922998C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ADE33-3B0F-47CC-99DF-AB958EC1A5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276200"/>
            <a:ext cx="8229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53AE1-BC1A-45E4-B570-30368823D7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02896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33728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6C08A-39D2-4448-BCF0-C5E2C6C5CD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02896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613C7-0CD2-416C-A082-F4238A8A19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202896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33728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F5842-9BEF-44ED-A01D-371676399F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02896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33728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96E3B-4839-4D24-98E4-BF557481B4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33728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55448-1737-4E41-BEA8-FBA76B33F9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02896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3728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33728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E5D0D-1555-4782-B468-8A2CF087C7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202896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202896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33728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33728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33728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EF415-F1FC-44CD-8A54-F8AE8DBBF4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CA41F-5083-4C68-95FE-0E39CE0424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02896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B9A4C-3FC7-4672-80C5-27A75C2B17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75D15-E70C-4C15-B0A2-D65314D653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76200"/>
            <a:ext cx="8229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85EB5-97EC-4955-B33C-6DCA6CDAE2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02896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3728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7F59A-3F69-43C4-B608-B8A8243E07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02896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3728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FEB7B-FC06-42B2-AE52-5969ED7C5A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02896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3728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7C05E-63EF-47B0-9472-18309BB2D6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1" descr="QV_border_qv"/>
          <p:cNvPicPr/>
          <p:nvPr/>
        </p:nvPicPr>
        <p:blipFill>
          <a:blip r:embed="rId2"/>
          <a:stretch/>
        </p:blipFill>
        <p:spPr>
          <a:xfrm>
            <a:off x="-14400" y="-14400"/>
            <a:ext cx="9158400" cy="6872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762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02896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52720"/>
            <a:ext cx="380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4BCD-9C08-4EB4-90B0-F0D8AAB186EF}" type="slidenum">
              <a:rPr b="0" lang="en-GB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QVlogo2008.jpg"/>
          <p:cNvPicPr/>
          <p:nvPr/>
        </p:nvPicPr>
        <p:blipFill>
          <a:blip r:embed="rId3"/>
          <a:stretch/>
        </p:blipFill>
        <p:spPr>
          <a:xfrm>
            <a:off x="358920" y="311040"/>
            <a:ext cx="253980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QV_border_qv"/>
          <p:cNvPicPr/>
          <p:nvPr/>
        </p:nvPicPr>
        <p:blipFill>
          <a:blip r:embed="rId2"/>
          <a:stretch/>
        </p:blipFill>
        <p:spPr>
          <a:xfrm>
            <a:off x="-14400" y="-14400"/>
            <a:ext cx="9158400" cy="6872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QVlogo2008.jpg"/>
          <p:cNvPicPr/>
          <p:nvPr/>
        </p:nvPicPr>
        <p:blipFill>
          <a:blip r:embed="rId3"/>
          <a:stretch/>
        </p:blipFill>
        <p:spPr>
          <a:xfrm>
            <a:off x="339840" y="330120"/>
            <a:ext cx="2539800" cy="635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Swissanchor.gif"/>
          <p:cNvPicPr/>
          <p:nvPr/>
        </p:nvPicPr>
        <p:blipFill>
          <a:blip r:embed="rId4"/>
          <a:stretch/>
        </p:blipFill>
        <p:spPr>
          <a:xfrm>
            <a:off x="1373040" y="1935000"/>
            <a:ext cx="6143760" cy="1791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2762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02896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F87D-BD38-4E09-A9C4-00C4CD86F492}" type="slidenum">
              <a:rPr b="0" lang="en-GB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4350960"/>
            <a:ext cx="6451560" cy="8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QuoVadis Group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5235120"/>
            <a:ext cx="6400800" cy="9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oman Brunner, Group CE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pdate for EUGridPMA – May 12, 200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2762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Example:  Trust/Link SSL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2028960"/>
            <a:ext cx="4280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-vetted details allows immediate issuance of SSL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emplates for consistency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institution “accounts”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legated administration, ability to accommodate different approval regime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ingle login for Subscribers to manage all their SSL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ustom emails for lifecycle event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lexibility for certificate types, use of SANs, etc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QuoVadis can provide demonstrations for interested group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5008680" y="2092320"/>
            <a:ext cx="359712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4350960"/>
            <a:ext cx="6451560" cy="8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Roman Brunner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5235120"/>
            <a:ext cx="6400800" cy="9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.brunner@quovadisglobal.c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+41 71 272 60 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2762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QuoVadis Snapshot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02896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unded 1999 as Commercial Certification Authority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ffices in Switzerland, UK, Holland, Bermuda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rganisations want to “use digital certificates” more than “run their own PKI”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mplexity of PKI policy and technology can distract from the actual busines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QuoVadis provides turnkey solutions surrounding digital certificates and digital signature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llow the customer to focus on their users and core systems/processe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ritical mass to provide: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pecialised registration systems to improve user experience, compliance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ure hosting and operations of the PKI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pport for arcane PKI issue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udits and accreditation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ide distribution of roots in OS and Browser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2762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o It Yourself ?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49480" y="397980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</a:rPr>
              <a:t>O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98600" y="1917720"/>
            <a:ext cx="135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Oper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policy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995120" y="541008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Archi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7665120" y="1373040"/>
            <a:ext cx="10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3622680" y="2819520"/>
            <a:ext cx="17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3305160" y="3741840"/>
            <a:ext cx="13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Oper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1523160" y="502920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Root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313560" y="312408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3278160" y="57657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5604120" y="2666880"/>
            <a:ext cx="12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Smart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issu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4750200" y="3505320"/>
            <a:ext cx="118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2224080" y="419112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Na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con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318200" y="4343400"/>
            <a:ext cx="13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Regul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311040" y="5105520"/>
            <a:ext cx="106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Renew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4606920" y="16714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O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7630920" y="5070600"/>
            <a:ext cx="132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Re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2016360" y="312408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Reg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8034120" y="352116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Le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l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1"/>
          <p:cNvSpPr/>
          <p:nvPr/>
        </p:nvSpPr>
        <p:spPr>
          <a:xfrm>
            <a:off x="5083200" y="565452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CP &amp; C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2"/>
          <p:cNvSpPr/>
          <p:nvPr/>
        </p:nvSpPr>
        <p:spPr>
          <a:xfrm>
            <a:off x="3729240" y="200664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Bac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3"/>
          <p:cNvSpPr/>
          <p:nvPr/>
        </p:nvSpPr>
        <p:spPr>
          <a:xfrm>
            <a:off x="2704680" y="495288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Firew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4"/>
          <p:cNvSpPr/>
          <p:nvPr/>
        </p:nvSpPr>
        <p:spPr>
          <a:xfrm>
            <a:off x="7313760" y="4206960"/>
            <a:ext cx="16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continuity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5"/>
          <p:cNvSpPr/>
          <p:nvPr/>
        </p:nvSpPr>
        <p:spPr>
          <a:xfrm>
            <a:off x="418320" y="5816520"/>
            <a:ext cx="24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Policy and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6"/>
          <p:cNvSpPr/>
          <p:nvPr/>
        </p:nvSpPr>
        <p:spPr>
          <a:xfrm>
            <a:off x="6505920" y="564984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organ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7"/>
          <p:cNvSpPr/>
          <p:nvPr/>
        </p:nvSpPr>
        <p:spPr>
          <a:xfrm>
            <a:off x="6743160" y="1828800"/>
            <a:ext cx="8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8"/>
          <p:cNvSpPr/>
          <p:nvPr/>
        </p:nvSpPr>
        <p:spPr>
          <a:xfrm>
            <a:off x="3842640" y="520704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End-to-end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9"/>
          <p:cNvSpPr/>
          <p:nvPr/>
        </p:nvSpPr>
        <p:spPr>
          <a:xfrm>
            <a:off x="994320" y="38178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Operations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0"/>
          <p:cNvSpPr/>
          <p:nvPr/>
        </p:nvSpPr>
        <p:spPr>
          <a:xfrm>
            <a:off x="7498800" y="251460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System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1"/>
          <p:cNvSpPr/>
          <p:nvPr/>
        </p:nvSpPr>
        <p:spPr>
          <a:xfrm>
            <a:off x="5557680" y="19051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2"/>
          <p:cNvSpPr/>
          <p:nvPr/>
        </p:nvSpPr>
        <p:spPr>
          <a:xfrm>
            <a:off x="2084040" y="1922400"/>
            <a:ext cx="119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end-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3"/>
          <p:cNvSpPr/>
          <p:nvPr/>
        </p:nvSpPr>
        <p:spPr>
          <a:xfrm>
            <a:off x="5758920" y="4724280"/>
            <a:ext cx="12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4"/>
          <p:cNvSpPr/>
          <p:nvPr/>
        </p:nvSpPr>
        <p:spPr>
          <a:xfrm>
            <a:off x="2346840" y="26748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5"/>
          <p:cNvSpPr/>
          <p:nvPr/>
        </p:nvSpPr>
        <p:spPr>
          <a:xfrm>
            <a:off x="384120" y="43434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6"/>
          <p:cNvSpPr/>
          <p:nvPr/>
        </p:nvSpPr>
        <p:spPr>
          <a:xfrm>
            <a:off x="6059520" y="37339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7"/>
          <p:cNvSpPr/>
          <p:nvPr/>
        </p:nvSpPr>
        <p:spPr>
          <a:xfrm>
            <a:off x="6977880" y="2895480"/>
            <a:ext cx="12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Concep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2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3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4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6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6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70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7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800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9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15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25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300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35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40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45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0"/>
                            </p:stCondLst>
                            <p:childTnLst>
                              <p:par>
                                <p:cTn id="1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500"/>
                            </p:stCondLst>
                            <p:childTnLst>
                              <p:par>
                                <p:cTn id="1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600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2762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Service Overview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202896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igital Certificat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nd User certificates, including Qualified and Advanced certificates, for various use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unctional certificates, including ElDI-V/GeBüV, code signing, gateway, etc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SL including the new Extended Validation SSL.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anaged PK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utsourced certification authorities (CA) that can be tailored to the particular needs of a client or community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apid-deployment Trust/Link registration authority (RA) web portals for easy issuance for both End User and SSL certificate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igning Servic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rusted time-stamping to reinforce data integrity and non-repudiation in the submission, storage/archive, or tracking of electronic record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gital signing tools (both client and server side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oot Servic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oot CA hosting for organisations wishing to set up their own trust anchors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oot CA signing enhances the trust and recognition of customers’ in-house CAs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KI policy, technologies, and integration into customer environment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2762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Root Distribution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2028960"/>
            <a:ext cx="4038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rowser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icrosoft Internet Explorer 5.0+ (including Maxthon and others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zilla Firefox 1.02+ (including Camino, Fennec, and Sea Monkey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pera 9.26+ (including Opera Mini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fari 1.0+  (including mobile Safari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oogle Chrom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onqueror and K-Mele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perating Syste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icrosoft Windows XP+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pple OS/X+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IM Blackberry 4+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D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Java (in progress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48320" y="2028960"/>
            <a:ext cx="4038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mail Clien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pple Mail.app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udora 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icrosoft Entourage 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icrosoft Outlook 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icrosoft Outlook Express 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zilla Thunderbird 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zilla Sea Monkey 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IM Blackberry Mail (part of Core Applications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icrosoft Office 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pen Offic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de array of OSS applications that use the Mozilla NSS libraries 3.9+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Adobe Acrobat (in progress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2762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Audits and Accreditations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202896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QuoVadis seeks accreditations in support of our client needs: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ebTrust for Certification Authoritie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ebTrust for Extended Validation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Swiss Qualified Certification Services Provide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Netherlands Qualified Certification Services Provide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Bermuda Authorised Certification Services Provide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Currently obtaining PKI Overheid Accreditation in the Netherland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2" descr="http://www.quovadisglobal.bm/~/media/Images/CompanyLogos/logo%20bermudaCSP.ashx"/>
          <p:cNvPicPr/>
          <p:nvPr/>
        </p:nvPicPr>
        <p:blipFill>
          <a:blip r:embed="rId1"/>
          <a:stretch/>
        </p:blipFill>
        <p:spPr>
          <a:xfrm>
            <a:off x="7550280" y="5557680"/>
            <a:ext cx="453960" cy="839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http://www.quovadisglobal.bm/~/media/Images/CompanyLogos/WebTrust%20CA.ashx"/>
          <p:cNvPicPr/>
          <p:nvPr/>
        </p:nvPicPr>
        <p:blipFill>
          <a:blip r:embed="rId2"/>
          <a:stretch/>
        </p:blipFill>
        <p:spPr>
          <a:xfrm>
            <a:off x="2576520" y="5557680"/>
            <a:ext cx="668160" cy="824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http://www.quovadisglobal.bm/~/media/Images/CompanyLogos/WebTrustEV.ashx"/>
          <p:cNvPicPr/>
          <p:nvPr/>
        </p:nvPicPr>
        <p:blipFill>
          <a:blip r:embed="rId3"/>
          <a:stretch/>
        </p:blipFill>
        <p:spPr>
          <a:xfrm>
            <a:off x="4259160" y="5556240"/>
            <a:ext cx="668520" cy="804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http://www.quovadisglobal.bm/~/media/Images/CompanyLogos/logo%20swissCSP.ashx"/>
          <p:cNvPicPr/>
          <p:nvPr/>
        </p:nvPicPr>
        <p:blipFill>
          <a:blip r:embed="rId4"/>
          <a:stretch/>
        </p:blipFill>
        <p:spPr>
          <a:xfrm>
            <a:off x="1035000" y="5557680"/>
            <a:ext cx="544680" cy="860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QuoVadis BSI seal ETS 010 for Dutch CSP"/>
          <p:cNvPicPr/>
          <p:nvPr/>
        </p:nvPicPr>
        <p:blipFill>
          <a:blip r:embed="rId5"/>
          <a:stretch/>
        </p:blipFill>
        <p:spPr>
          <a:xfrm>
            <a:off x="5943600" y="5557680"/>
            <a:ext cx="622440" cy="8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2762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QuoVadis Grid CA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6840" y="2028960"/>
            <a:ext cx="4197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ustom GridCA built for SWITCH in compliance with EUGridPMA standard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pdates made to QuoVadis CP/CP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olved from QuoVadis relationship providing SSL to SWITCH institutions using Trust/Link SSL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vailable for other EUGrid members’ use: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Reduce PKI management burden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imple interface for user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hained to QuoVadis root for wider “trust” in end user software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5245200" y="1952640"/>
            <a:ext cx="31114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2762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EUGridPMA Accreditation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02896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UGridPMA team has performed a detailed review and approval of: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QuoVadis CP/CP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QuoVadis Grid Issuing CA, End User, Server and CRL certificate profile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repository on the QuoVadis website (http://www.quovadisglobal.com/repository) contains  the QuoVadis Grid Issuing CA certificate, the Grid CRL, and the QuoVadis Root Certificate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pdate to CP/CPS will be posted when CA goes into production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QuoVadis are currently in progress with the TACAR application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A big thanks to all the EUGridPMA reviewers for all their hard work, time, and input!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2762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ertificate Types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202896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rid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End User certificate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for authentication and secure e-mai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rid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Server certificate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for authentication and secure communication with Grid resourc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rid members who wish to use the Grid CA would sign up as Participating Institutions/Registration Authoriti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uoVadis is working with SWITCH to document procedures for R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ertificates will be issued and managed using our Trust/Link web applications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rust/Link For End 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rust/Link For SS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8T13:09:53Z</dcterms:created>
  <dc:creator>EVC</dc:creator>
  <dc:description/>
  <dc:language>en-US</dc:language>
  <cp:lastModifiedBy>bkilborn</cp:lastModifiedBy>
  <dcterms:modified xsi:type="dcterms:W3CDTF">2009-05-11T13:37:20Z</dcterms:modified>
  <cp:revision>226</cp:revision>
  <dc:subject/>
  <dc:title>Slide 1</dc:title>
</cp:coreProperties>
</file>