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6BF-087E-4F00-84DB-0455B7E0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A37-8836-41C4-8909-E1AC95B5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056-9C55-4AA0-9F43-2B0F5D9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E48-7D86-4CF0-923B-281EB68C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30F-8000-4120-8DDD-192C03C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489-0CCB-4B4D-B2C3-9C04A1F3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ED3-3F2B-49B4-BE63-9E7442C8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140-4050-4FA4-908B-5394051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E60-FCAF-478B-B3BE-D6AC55FB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E6B-7212-45A4-BBED-754FAE6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8A2-AD18-4A73-9CDF-60CDE04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C51-D1FC-4A06-A430-15DF80F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F1F7-93F7-41A3-93F8-078C3D65A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qs.org/rfcs/rfc2527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grading CP/CP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C 2527             RFC 36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Majid Arabg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RAN GRID 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nstitute for Studies in Theoretcal Physics and Mathemat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Teharn, Ira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1148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icture 2.png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12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RFC 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 RFC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Document Name and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Audit collection system (internal vs. exter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Key Pair and Certificate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, 2.1.3, 2.1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( merge /split /mo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 Time Within Which CA Must Process the Revocation Requ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vailable (N/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4.2.2-new.png"/>
          <p:cNvPicPr/>
          <p:nvPr/>
        </p:nvPicPr>
        <p:blipFill>
          <a:blip r:embed="rId1"/>
          <a:stretch/>
        </p:blipFill>
        <p:spPr>
          <a:xfrm>
            <a:off x="0" y="2743200"/>
            <a:ext cx="423720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4.1-old.png"/>
          <p:cNvPicPr/>
          <p:nvPr/>
        </p:nvPicPr>
        <p:blipFill>
          <a:blip r:embed="rId2"/>
          <a:stretch/>
        </p:blipFill>
        <p:spPr>
          <a:xfrm>
            <a:off x="4343400" y="1523880"/>
            <a:ext cx="4800600" cy="25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.2-old.png"/>
          <p:cNvPicPr/>
          <p:nvPr/>
        </p:nvPicPr>
        <p:blipFill>
          <a:blip r:embed="rId3"/>
          <a:stretch/>
        </p:blipFill>
        <p:spPr>
          <a:xfrm>
            <a:off x="4419720" y="4724280"/>
            <a:ext cx="4724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.5.2-new.png"/>
          <p:cNvPicPr/>
          <p:nvPr/>
        </p:nvPicPr>
        <p:blipFill>
          <a:blip r:embed="rId1"/>
          <a:stretch/>
        </p:blipFill>
        <p:spPr>
          <a:xfrm>
            <a:off x="0" y="2971800"/>
            <a:ext cx="474336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.3.4-old.png"/>
          <p:cNvPicPr/>
          <p:nvPr/>
        </p:nvPicPr>
        <p:blipFill>
          <a:blip r:embed="rId2"/>
          <a:stretch/>
        </p:blipFill>
        <p:spPr>
          <a:xfrm>
            <a:off x="3733920" y="1676520"/>
            <a:ext cx="5181480" cy="119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.1.5-old.png"/>
          <p:cNvPicPr/>
          <p:nvPr/>
        </p:nvPicPr>
        <p:blipFill>
          <a:blip r:embed="rId3"/>
          <a:stretch/>
        </p:blipFill>
        <p:spPr>
          <a:xfrm>
            <a:off x="3632040" y="4952880"/>
            <a:ext cx="5511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men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4.12-new.png"/>
          <p:cNvPicPr/>
          <p:nvPr/>
        </p:nvPicPr>
        <p:blipFill>
          <a:blip r:embed="rId1"/>
          <a:stretch/>
        </p:blipFill>
        <p:spPr>
          <a:xfrm>
            <a:off x="685800" y="2743200"/>
            <a:ext cx="5032440" cy="137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6.2.2-old.png"/>
          <p:cNvPicPr/>
          <p:nvPr/>
        </p:nvPicPr>
        <p:blipFill>
          <a:blip r:embed="rId2"/>
          <a:stretch/>
        </p:blipFill>
        <p:spPr>
          <a:xfrm>
            <a:off x="4952880" y="1752480"/>
            <a:ext cx="3918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cal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5.1.7-new.png"/>
          <p:cNvPicPr/>
          <p:nvPr/>
        </p:nvPicPr>
        <p:blipFill>
          <a:blip r:embed="rId1"/>
          <a:stretch/>
        </p:blipFill>
        <p:spPr>
          <a:xfrm>
            <a:off x="457200" y="2286000"/>
            <a:ext cx="49658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5.1.7-old.png"/>
          <p:cNvPicPr/>
          <p:nvPr/>
        </p:nvPicPr>
        <p:blipFill>
          <a:blip r:embed="rId2"/>
          <a:stretch/>
        </p:blipFill>
        <p:spPr>
          <a:xfrm>
            <a:off x="4191120" y="3048120"/>
            <a:ext cx="495288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8.2-new.png"/>
          <p:cNvPicPr/>
          <p:nvPr/>
        </p:nvPicPr>
        <p:blipFill>
          <a:blip r:embed="rId3"/>
          <a:stretch/>
        </p:blipFill>
        <p:spPr>
          <a:xfrm>
            <a:off x="533520" y="4495680"/>
            <a:ext cx="4343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.7.2-old.png"/>
          <p:cNvPicPr/>
          <p:nvPr/>
        </p:nvPicPr>
        <p:blipFill>
          <a:blip r:embed="rId4"/>
          <a:stretch/>
        </p:blipFill>
        <p:spPr>
          <a:xfrm>
            <a:off x="4419720" y="4876920"/>
            <a:ext cx="39621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9.4-new.png"/>
          <p:cNvPicPr/>
          <p:nvPr/>
        </p:nvPicPr>
        <p:blipFill>
          <a:blip r:embed="rId1"/>
          <a:stretch/>
        </p:blipFill>
        <p:spPr>
          <a:xfrm>
            <a:off x="0" y="1600200"/>
            <a:ext cx="4267080" cy="401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.8-old.png"/>
          <p:cNvPicPr/>
          <p:nvPr/>
        </p:nvPicPr>
        <p:blipFill>
          <a:blip r:embed="rId2"/>
          <a:stretch/>
        </p:blipFill>
        <p:spPr>
          <a:xfrm>
            <a:off x="4114800" y="1600200"/>
            <a:ext cx="589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Sti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143000"/>
          <a:ext cx="5791320" cy="4826160"/>
        </p:xfrm>
        <a:graphic>
          <a:graphicData uri="http://schemas.openxmlformats.org/drawingml/2006/table">
            <a:tbl>
              <a:tblPr/>
              <a:tblGrid>
                <a:gridCol w="1581120"/>
                <a:gridCol w="2292480"/>
                <a:gridCol w="19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ying Par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nymity or Pseudonymity of Subscri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Verified Subscri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Inter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ithin Which CA M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the Revocation 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Sub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-Stam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SP Profil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 and Termination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4.9.5-new.png"/>
          <p:cNvPicPr/>
          <p:nvPr/>
        </p:nvPicPr>
        <p:blipFill>
          <a:blip r:embed="rId1"/>
          <a:stretch/>
        </p:blipFill>
        <p:spPr>
          <a:xfrm>
            <a:off x="228600" y="2743200"/>
            <a:ext cx="892008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.1.3-new.png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6.8-new.png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67080" y="5486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 to RFC 2527 mapping  t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76720" y="2666160"/>
            <a:ext cx="762480" cy="3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0"/>
          <p:cNvCxnSpPr/>
          <p:nvPr/>
        </p:nvCxnSpPr>
        <p:spPr>
          <a:xfrm>
            <a:off x="3276720" y="3504960"/>
            <a:ext cx="76248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6"/>
          <p:cNvCxnSpPr/>
          <p:nvPr/>
        </p:nvCxnSpPr>
        <p:spPr>
          <a:xfrm>
            <a:off x="6476760" y="2438280"/>
            <a:ext cx="5338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553080" y="40381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Rectangle 12"/>
          <p:cNvSpPr/>
          <p:nvPr/>
        </p:nvSpPr>
        <p:spPr>
          <a:xfrm>
            <a:off x="4267080" y="2057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us 13"/>
          <p:cNvSpPr/>
          <p:nvPr/>
        </p:nvSpPr>
        <p:spPr>
          <a:xfrm>
            <a:off x="5105520" y="49528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>
            <a:off x="2971440" y="441936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Straight Arrow Connector 17"/>
          <p:cNvCxnSpPr/>
          <p:nvPr/>
        </p:nvCxnSpPr>
        <p:spPr>
          <a:xfrm flipV="1">
            <a:off x="6781680" y="4647600"/>
            <a:ext cx="5342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GRID CA was approved on the basis of CP/CPS: RFC 2527  in Ma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mised to change to RFC 3647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existing examples ( based on RFC 36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the existing policy and practices into the new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new/extra sti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cp/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rid (Morroc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accred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K Grid (Pakis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upgraded ( 2527 to 36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with I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FF  Brazilian CA (Braz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cross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e with the standard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267080" y="1981080"/>
            <a:ext cx="213372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V="1">
            <a:off x="3428640" y="2819160"/>
            <a:ext cx="7628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3428640" y="358092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6"/>
          <p:cNvCxnSpPr>
            <a:stCxn id="54" idx="3"/>
          </p:cNvCxnSpPr>
          <p:nvPr/>
        </p:nvCxnSpPr>
        <p:spPr>
          <a:xfrm>
            <a:off x="6400800" y="2400120"/>
            <a:ext cx="534240" cy="49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>
            <a:stCxn id="55" idx="3"/>
          </p:cNvCxnSpPr>
          <p:nvPr/>
        </p:nvCxnSpPr>
        <p:spPr>
          <a:xfrm flipV="1">
            <a:off x="6400800" y="38095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364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presentatives of the ISC made changes to the framework to better suite it to the legal environment and make it more accessible to lawyers (new Section 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technical perspective, the changes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FC 252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mework were minimal and incremental, rather than revolution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160640" y="1600200"/>
            <a:ext cx="682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rting the conten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c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or incremen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nfiguration or reorga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New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364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3 Subscriber Oblig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.2, 4.4, 4.5, 4.5.1, 4.6.5, 4.7.5, 4.8.1, 4.8.5, 4.9.1, 4.9.2, 4.9.13, 4.9.15, 5., 6., 9.6.3, 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Financi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02:55Z</dcterms:created>
  <dc:creator>Majid Arabgol</dc:creator>
  <dc:description/>
  <dc:language>en-US</dc:language>
  <cp:lastModifiedBy>majid</cp:lastModifiedBy>
  <dcterms:modified xsi:type="dcterms:W3CDTF">2009-05-13T05:03:05Z</dcterms:modified>
  <cp:revision>119</cp:revision>
  <dc:subject/>
  <dc:title>Upgrading CP/CPS: RFC 2527-&gt;RFC 3647</dc:title>
</cp:coreProperties>
</file>