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3120" y="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120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784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812760" y="9361440"/>
            <a:ext cx="290988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F8EB4-18F5-448B-888A-734C3D1FD2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79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79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06E5B-3420-4CBA-8231-99227DE1D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2640" y="397044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C7C23-FA12-492E-8C33-5C102A5C5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08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01EA7-404E-4A73-B5BE-42F8913A6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48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4264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48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F0FC-48D1-4945-B82E-EABAFC518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95E2E-0CC9-4B17-A570-01D37988B7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86DF1-FD7B-4AD0-A45A-E15DC64794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BDD74-1F5C-487C-930F-788424A07A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88A8B-A7F0-4C96-816D-316D2C23DD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6D8BC-A375-46D4-9631-36F5EE4C92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03280" y="6120"/>
            <a:ext cx="75549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D36FB-F6FF-4090-A2D8-1E823B73F1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5682A-3E10-4E84-BFF6-09FD52A25E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C101D-8A82-4C8C-9239-91E2B5292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08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0B41E-D33C-4E19-91E1-3DAE001EA5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01F3A-23E5-4420-9050-F214B27329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42640" y="397044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BBD5A-699A-47C1-ACEC-31DE17952A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08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5E2D2-8C6B-4B7D-B622-9797BE178D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48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796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4264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48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796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042CD-47A2-4705-875B-B37BA72A3D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1D64F-601E-40C6-955C-E3915B6E4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AFC50-AFB8-409C-AE14-DA5CA9FBD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7E9BC-441C-4C00-9F8E-594622EAA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03280" y="6120"/>
            <a:ext cx="75549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CCA24-5B01-4D0F-9FBC-D1FCDEA46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D372F-0715-4589-8BD1-918A2B6C9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08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1F5A6-BDA7-44D0-AF06-08C7370CD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C5713-4DC1-46DF-A223-BAD7303CC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9280" y="6597720"/>
            <a:ext cx="144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763640" y="6597360"/>
            <a:ext cx="6112080" cy="3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5th EUGridPMA, January 28</a:t>
            </a:r>
            <a:r>
              <a:rPr b="0" lang="et-EE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2009, Nico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027640" y="6597360"/>
            <a:ext cx="3538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F07E5-51B2-41C2-ABDD-D86AA99A271E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357200"/>
            <a:ext cx="9144000" cy="5194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e8f6">
                  <a:alpha val="6705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553600" y="6448320"/>
            <a:ext cx="590400" cy="4096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" y="2276640"/>
            <a:ext cx="9140760" cy="2736720"/>
          </a:xfrm>
          <a:prstGeom prst="rect">
            <a:avLst/>
          </a:prstGeom>
          <a:gradFill rotWithShape="0">
            <a:gsLst>
              <a:gs pos="0">
                <a:srgbClr val="064977">
                  <a:alpha val="49019"/>
                </a:srgbClr>
              </a:gs>
              <a:gs pos="50000">
                <a:srgbClr val="d5e8f6"/>
              </a:gs>
              <a:gs pos="100000">
                <a:srgbClr val="064977">
                  <a:alpha val="49019"/>
                </a:srgbClr>
              </a:gs>
            </a:gsLst>
            <a:lin ang="5400000"/>
          </a:gradFill>
          <a:ln w="9360">
            <a:solidFill>
              <a:srgbClr val="064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189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altic</a:t>
            </a:r>
            <a:r>
              <a:rPr b="0" lang="et-E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id</a:t>
            </a:r>
            <a:r>
              <a:rPr b="0" lang="et-EE" sz="3600" spc="-1" strike="noStrike">
                <a:solidFill>
                  <a:srgbClr val="ffffff"/>
                </a:solidFill>
                <a:latin typeface="Arial"/>
              </a:rPr>
              <a:t> Certification Autho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553600" y="6453360"/>
            <a:ext cx="590400" cy="409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3280" y="44280"/>
            <a:ext cx="755496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6597720"/>
            <a:ext cx="144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1763640" y="6597360"/>
            <a:ext cx="6112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ame, date and place of the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8027640" y="6597360"/>
            <a:ext cx="3538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6D5F6B-BD87-4677-8EA4-B0A746A52C95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63640" y="6597720"/>
            <a:ext cx="61182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15th EUGridPMA, January 28</a:t>
            </a:r>
            <a:r>
              <a:rPr b="0" i="1" lang="et-EE" sz="10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 2009, Nico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28000" y="6597720"/>
            <a:ext cx="3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55758-6EB9-49B7-831C-00CC487E34C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666880"/>
            <a:ext cx="863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elf-aud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4292640"/>
            <a:ext cx="8605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i T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6040" y="6072120"/>
            <a:ext cx="824040" cy="43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. Advice (must chang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ss phrase of the encrypted private key must be kept also on an offline medium, separated from the encrypted private keys and guarded in a safe place where only the authorized personnel of the CA have ac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everything in one safe accessible only for the Director of EE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have a separate safe for CA back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L profile must be versio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now there are version 1 CRLs iss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EM file is availe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/CPS needs several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 archiving and auditing  procedures should be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o CRL v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90100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i.teder@eenet.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ca.balticgrid.or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000" y="1341360"/>
            <a:ext cx="86500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tic Grid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ltic Grid 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tic Grid CA gives certificates to end entities which are located in Estonia, Latvia or Lithuania and have interest in grid compu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redited: Novembe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: EENet, Tartu, Est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tated 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i T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õnu Raitvi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ri Anton (not any m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3 issued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99 user, 297 host, 17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 revo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5 LT, 292 LV, 275 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3 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9 user, 103 host, 1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Auditing Guidelines for Grid 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Recommendation (minor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Recommendation (major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Advice (must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. Could not evaluate (N/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. Recommendation (minor chang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P/CPS should be structured as defined in RFC36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FC 25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certificate lifetime must be no longer then 20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ot certificate lifetime is not mentioned in CP/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entity must request revocation of its certificate as soon as possible, but within one working day after detection of he/she lost or compromised the private key pertaining to the certificate or the data in the certificate are no longer 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updates in CP/CPS and user gu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. Recommendation (minor chang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s may be renewed or re-keyed for more than 5 years without a form of identity and eligibility verification, and this procedure must be described in the CP/C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/CPS update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. Recommendation (major chang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A must issue a new CRL at least 7 days before ex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 notification methods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 requests must only be rekeyd, not renew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signed same request ag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CA management software does not allow that any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A must perform operational audits of the CA/RA staff at least once per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udited all 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. Recommendation (major chang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 must record and archive all requests and confirm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s archived cent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s CP/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ojciech Zając</dc:creator>
  <dc:description/>
  <dc:language>en-US</dc:language>
  <cp:lastModifiedBy>Hardi Teder</cp:lastModifiedBy>
  <dcterms:modified xsi:type="dcterms:W3CDTF">2009-01-28T07:53:31Z</dcterms:modified>
  <cp:revision>23</cp:revision>
  <dc:subject/>
  <dc:title>Slajd 1</dc:title>
</cp:coreProperties>
</file>