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2CC-DA0C-491D-9CB7-805D9165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CA9-B63A-4352-87CD-BDE7E89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551-827B-41E0-9863-E7F5799E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653-6138-4925-A033-5BDE8D88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2C4-C038-4476-852E-7F70D81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1D1-5C07-400C-A50A-C01321F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01E-482B-4509-9096-002D9477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75F-DD7D-4616-97C8-5253DB79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5ED-1324-4610-8F83-9765715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D96-90D9-4BB1-A22B-CA18466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CAC-4FF8-4D48-99AE-F5940C2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DDD-C574-414D-B99E-DA356FF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6000" y="303120"/>
            <a:ext cx="612144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kton Pro Ex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kton Pro 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950760" y="1100160"/>
            <a:ext cx="4392360" cy="436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979280" y="180720"/>
            <a:ext cx="77389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18560" y="6948360"/>
            <a:ext cx="144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8360" y="6948360"/>
            <a:ext cx="1873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30EA59-12EF-4EF6-8BDD-197035968CED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nu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5th EuGridP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192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kton Pro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  <a:p>
            <a:pPr lvl="1" marL="216000"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1640" algn="ctr">
              <a:lnSpc>
                <a:spcPct val="95000"/>
              </a:lnSpc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863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GRID-FR self audi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12720" y="5500800"/>
            <a:ext cx="7056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A. de Bignicourt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(UREC / CNRS)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Guideline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ID-FR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elfaudit :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-FR CA: classic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 certificates for institutes participating in GRID projects in which CNRS is involv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EE, LCG, DEISA , Grid 5000, ILDG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Sciences, Integrative Biology,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 user, server and service certificates t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nch public institutes &amp; private instit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ign public &amp; private institutes, no HEP, and who do not have CA (catch-all) : France + 10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72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ucture of the 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47720" y="1676520"/>
          <a:ext cx="891216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6520"/>
                    <a:ext cx="891216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1440" y="180720"/>
            <a:ext cx="7739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tatistic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elf audit : Result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si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ha1 (for GRID-FR CA and EE certificat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ega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NRS and CNRS-Projets: md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P / CPS: NOT OK for uppon C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 certificates : CRL distribution 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84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A &amp; expir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DR28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ID-F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72000" y="2411280"/>
            <a:ext cx="3818160" cy="603720"/>
          </a:xfrm>
          <a:prstGeom prst="rect">
            <a:avLst/>
          </a:prstGeom>
          <a:noFill/>
          <a:ln w="28440">
            <a:solidFill>
              <a:srgbClr val="60c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ignature Algorithm: md5WithRSA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45080" y="320364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09080" y="313200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63680" y="2101680"/>
            <a:ext cx="7843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N and the way EE certificates are issued are the 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Next steps for the futur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P/CPS (according RFC 3647) internal revewing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obot certificates (3 « commands »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figure cache CR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ning to move CA machines (from Toulouse to Ly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grate HSM (FIPS 140-2 lvl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e Gross</dc:creator>
  <dc:description/>
  <dc:language>en-US</dc:language>
  <cp:lastModifiedBy>Alice</cp:lastModifiedBy>
  <dcterms:modified xsi:type="dcterms:W3CDTF">2009-01-27T07:07:20Z</dcterms:modified>
  <cp:revision>42</cp:revision>
  <dc:subject/>
  <dc:title>1989 -&gt; 1993</dc:title>
</cp:coreProperties>
</file>