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BAD-9CC4-4F0C-91AB-89FA5886D0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2BD-CD36-44F6-9497-1AEE0E0F6A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98072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A623-CB8A-4730-A60D-5277114D124B}" type="slidenum">
              <a:rPr b="0" lang="ja-JP" sz="11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OPs WG Telec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63000" cy="197640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27 (Tue)  16:30 – 17:25 (GMT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located with EUGridPM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s: Christos Kanellopoulos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shio Tan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フッター プレースホルダ 3"/>
          <p:cNvSpPr/>
          <p:nvPr/>
        </p:nvSpPr>
        <p:spPr>
          <a:xfrm>
            <a:off x="198108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961-8EB9-45F6-9612-F8B407DE1602}" type="slidenum">
              <a:rPr b="0" lang="ja-JP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ying Party Defined Namespace Constraints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 C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s on GFD.125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ting Guidelines Document (Yosh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da of the CAOPs/IGTF Workshop at OGF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22:23Z</dcterms:created>
  <dc:creator/>
  <dc:description/>
  <dc:language>en-US</dc:language>
  <cp:lastModifiedBy>Yoshio Tanaka</cp:lastModifiedBy>
  <cp:lastPrinted>2006-08-17T17:55:00Z</cp:lastPrinted>
  <dcterms:modified xsi:type="dcterms:W3CDTF">2009-01-27T10:17:33Z</dcterms:modified>
  <cp:revision>62</cp:revision>
  <dc:subject/>
  <dc:title>OGF slide presentation template</dc:title>
</cp:coreProperties>
</file>