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35A-9055-4501-BDF6-9D5F561C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7796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067-A829-4D5A-A6AA-716CA375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D5C-45A9-4775-9227-31C61117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480-7CE9-4530-A16F-1166219A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7B1-93B3-472C-8660-B8AD7F2B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214-7115-46F1-80AF-4DC88C30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06F-291C-4EC8-B761-5C6C9805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131-5F25-40E5-91B0-8376F3CA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834840"/>
            <a:ext cx="77706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BC4-6331-49A1-AAB5-4472AB24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28F-A332-4A9A-945B-ECC6AF2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D29-EE99-4C64-A3C9-B96D448B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4A4-291C-43EC-AB45-6D66E07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56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91CA51-74FF-4C9C-9A27-08122933A44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4140360" y="5734080"/>
            <a:ext cx="4765680" cy="952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611280" y="5842080"/>
            <a:ext cx="27367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Jens' obligatory soap 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Can't be a PMA without a SoapBox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A random collection of Soapy thing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Nicosia, 26-28 Jan 2009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2960" y="2142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have nam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ing robots for code signing doesn’t make sen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acting on behalf of many users, meaningles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ople use host certif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sts can do everything people can d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uritif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municating systems behaviou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admi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municating user behaviou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VO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has a certificate done since it was (requested) revok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subsequently successfully revok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ork with RPs to improve operational security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ms like no-brain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does mean revealing addition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to whom, under which circ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ich areas increase impa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f. RA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OSCG et 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 Profi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ofile bas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 they diverge or converge, or neith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mensions: ~six dimens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ixing and matc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utomatic RA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does the loa W&amp;F l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yond Authentication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o encrypt or not encryp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: already have PKI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: Certs expire; maintain CRL forever; no consistent way of locating keys (no keyservers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: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NOT RECOMMEND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yond Authent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20001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O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ther services where certificate is relev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 sign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o can have i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oes it me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 signing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 way to define righ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xcept for robots! (or probots!!)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ack to Authent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rvice certif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 we still need them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does it mean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o can have them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services can we “issue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 practices/recommend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2143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ck to Template CP/C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eating the computer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member your password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is a strong passphrase/w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specif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chec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4240" y="2143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deviations from PKI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nd those other aspects of 3647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, acceptance, suspension, modif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Manage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Key valid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known key validation paramet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rsonnel polic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inning down those practic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ke the re-keying ques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emplate will help here, possib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will alone not be suffici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ildcard D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Not the Globus DNS wildcard!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view revie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esn’t quite 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st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ensure and improve consisten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utomation is bett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Too much automation is dangerou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fficient base for common softwa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ow local flavou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ertificate management frame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andards, standards, standa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which one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inner Discussion Topic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RL cach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rance of undersea c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ternal CRL cach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direct cli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hasing miscreants by CR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helping RPs and OCSPs et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e cases for “expired” CR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424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more auto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umans do too many machine th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less auto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chines do human th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r once try to do it proper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s is no time for complac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ny things still not on top of other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Template Policy to the rescue™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re work…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ny things could be improved with better text, descrip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little working groups working on work needed to make work 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Housekeep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eb sites: locating repository oblig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stent interfaces for automated client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at least URLs? (.info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f. Jim’s tal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view certificat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view CP/CP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ocate support conta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intaining revie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 (policies get updat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Template Policy frame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not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eds an interfa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ts confusing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use” of D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are all those DNs in the lo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Job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yProxy proxies?  Proxied proxie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gent with central key or prox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hared private key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use” of credenti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4240" y="20714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Activation of private 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91440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Key token, Unencrypted (host), Encrypted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Activation of MyProxy account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Intentional use of prox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Proxy use of prox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Unintentional use of proxy or priv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Intentional misuse of proxy or priv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91440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ost key, user ke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engthen security by weakening i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reas of investig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improve secur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mpaign for enforcablier secu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ke it easier for RPs and opsec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ing MyProxy to manage credentia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ngle point of, er, someth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ngle sign-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-use of passw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single password is better (in some way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eaker secu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redential autom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 act on behalf of users, e.g., port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 act independent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re these differen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47</cp:lastModifiedBy>
  <dcterms:modified xsi:type="dcterms:W3CDTF">2009-01-27T10:56:59Z</dcterms:modified>
  <cp:revision>62</cp:revision>
  <dc:subject/>
  <dc:title>PowerPoint Presentation</dc:title>
</cp:coreProperties>
</file>