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5AE-17AA-4CE2-BA77-6D559435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DDD-1236-46E4-B633-CD9B970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25D-3B94-4554-BC9E-9D5FD106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1DD-9983-4279-A997-44AC5B17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451-CF2F-448D-9FE5-99EA0AB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DD8-F94F-49E5-947C-96EAB412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29D-F81C-4736-8F41-4595957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0FA-BCA1-4BD0-83B1-19A0BCF4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18E-2DE6-41BE-9307-AFF288C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339-4D65-4295-94A6-3918EF5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8BA-2ADB-4AF5-8B41-045B833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E82-0125-45B9-B200-51E8382B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09F6-AEE3-4A07-9C15-23B9BA8B8842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0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ay@niif.h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IF CA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tatus Updat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Self-Audit Results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EUGridPMA me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7.01.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co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Tamás Mára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maray@niif.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IIF Instit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status of CA –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f the self-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s ta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BBE-D939-4CFB-AF53-01F58D768C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ral Inform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IF CA is an X.509 PKI CA with online CA infrastructure (Sun CMS + HSM: Chrysalis Luna crypto H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ccredited by the EUGridPMA in 2005 January during the Marseille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free X.509 user and host certificates mainly for the academic user community (research and higher education) in Hungary but also for some companies participating in EU FP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Budapest, operated by NIIF Institute (the Hungarian NR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108-8653-4EEF-8885-DE817992DD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rrent Status of C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of yester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7 CERTs are issued in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3 CERTs are 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94 CERTs are exp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 CERTs are revo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ll the CERTs are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807-2EF7-4E71-BC6D-BABE2353EF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lf-Aud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it me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oroghful review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eration of the C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ocument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fic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ing the entire staff responsible for running the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is based on Yoshio Tanaka’s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uidelines for auditing Grid CAs version 1.0-b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”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ublished in September 200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C99-9C09-4F89-8142-53AAAE8320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serious problems were not detected.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rational manual is mi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PS/CP documents are still organised according to RFC 2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0: The secure environment is documented only in Hungarian (NIIF’s internal regulation documents,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ISO 9001:20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ISO/IEC 27001:2005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therefore it is not available to the P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7 and Q18: root key renewal process is not satisfyingly addressed. Discussion of the overlap issue is missing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880-505A-4E77-828C-D187080DFB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32: multiple, simultaneous revocations have not been tested ye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43: FQDN is not included in the SubjectAlternativeName in host certific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(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53: yearly operational audit of the CA/RA staff was not a practice before (though a regular, internal NIIF service reporting procedure is implemen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62: disaster recovery procedure is not described in CPS/CP (though a general procedure description do exist for the NIIF as a who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EE8-69B9-41E3-A260-CD662CD738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95280"/>
            <a:ext cx="8153280" cy="480060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tions take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audit report was prepared, giving answer to *all* the audit 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over, decisions were made abou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certification request process (leaving out the requirement of the “project manager’s” approval of the request from the Pre-Authorisation ph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operation (quitting the former log server, archiving the logs directly from the TC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documentation work (CPS/CP are only published in English, Hungarian version is not maintained anymo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ifying the CPS/CP documents according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. (Version 1.4 is prepared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816-589A-43AC-8494-9505CF27D7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Pla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operation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CA’s disaster recovery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organising CPS/CPs according to RFC 364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FQDN in the SubjectAlternativeName in host certificate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a yearly operational audit of the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A6E-6BF5-49AF-8B5F-4C914A35A0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11:13:33Z</dcterms:created>
  <dc:creator>Benczéné Páldi Piroska</dc:creator>
  <dc:description/>
  <dc:language>en-US</dc:language>
  <cp:lastModifiedBy>Springer Ferenc</cp:lastModifiedBy>
  <dcterms:modified xsi:type="dcterms:W3CDTF">2009-01-27T08:53:28Z</dcterms:modified>
  <cp:revision>109</cp:revision>
  <dc:subject/>
  <dc:title>Az NIIF E10000 szuperszámítógép felhasználása, fejlesztési tervek</dc:title>
</cp:coreProperties>
</file>