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66CC-E5E3-407D-A3E2-3DF4F0C9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19796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9EE5-FA4C-4545-A72C-84EE9153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3B8E-0FBF-47FF-A201-E209128B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1FD5-E090-4F73-8D69-A507E01B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2D4-3024-4674-8DD5-CFFC781A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E404-6497-4CA7-A7FD-FC97D560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F8A1-E2D8-4E44-B1B7-D65EC0A6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298A-D754-4ACB-A1E0-086CFBFB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98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A903-E704-4790-8457-F3CEDC04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3412-9508-4DB2-9D06-47DE0886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7AC7-49D0-4083-A7D5-B8D0F583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54D1-62BF-4709-9C7D-6DEC7743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9CB5-1EEB-4186-B836-9422A37394D0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" name="Picture 7" descr="SCI_PPT_templ4"/>
          <p:cNvPicPr/>
          <p:nvPr/>
        </p:nvPicPr>
        <p:blipFill>
          <a:blip r:embed="rId2"/>
          <a:stretch/>
        </p:blipFill>
        <p:spPr>
          <a:xfrm>
            <a:off x="0" y="0"/>
            <a:ext cx="7162920" cy="15177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gridpp2_logo"/>
          <p:cNvPicPr/>
          <p:nvPr/>
        </p:nvPicPr>
        <p:blipFill>
          <a:blip r:embed="rId3"/>
          <a:stretch/>
        </p:blipFill>
        <p:spPr>
          <a:xfrm>
            <a:off x="7020000" y="115920"/>
            <a:ext cx="1979640" cy="55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uthorization W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Updat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avid Kels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U Grid PMA, Nicosi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27 Jan 2009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5" name="Picture 4" descr="egee"/>
          <p:cNvPicPr/>
          <p:nvPr/>
        </p:nvPicPr>
        <p:blipFill>
          <a:blip r:embed="rId1"/>
          <a:stretch/>
        </p:blipFill>
        <p:spPr>
          <a:xfrm>
            <a:off x="324000" y="5373720"/>
            <a:ext cx="201924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LCGlogo"/>
          <p:cNvPicPr/>
          <p:nvPr/>
        </p:nvPicPr>
        <p:blipFill>
          <a:blip r:embed="rId2"/>
          <a:stretch/>
        </p:blipFill>
        <p:spPr>
          <a:xfrm>
            <a:off x="7524720" y="530064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uture plan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Produce next draft of document by end of March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Work with VOMS server AASP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Try an accreditation in Zurich PMA meeting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4396-CCD8-44C6-B369-72C9309EB9E3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2204640"/>
            <a:ext cx="7772400" cy="3816360"/>
          </a:xfrm>
          <a:prstGeom prst="rect">
            <a:avLst/>
          </a:prstGeom>
          <a:ln w="0">
            <a:noFill/>
          </a:ln>
        </p:spPr>
      </p:pic>
      <p:sp>
        <p:nvSpPr>
          <p:cNvPr id="9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01C9-BB96-4B0D-A406-A84F2E959B1A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D8E2-2E6D-4B0C-91B9-E7BAD8D8929F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</a:rPr>
              <a:t>Mandate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Lucida Grande"/>
              </a:rPr>
              <a:t>EUGridPMA Working Group on Policy Management for Grid Authoris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Lucida Grande"/>
              </a:rPr>
              <a:t>Mandate and aim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o prepare recommendations on policy and global trust issues related to Grid Authorisation (AuthZ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he initial list of issues will include: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Minimum requirements and best practice for the operation of a Grid AuthZ attribute authorit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Etc etc etc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Meeting on 2 Dec 2008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At NIKHEF – just before TERENA federation meeting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Vincenzo Ciaschini, David Groep, Oscar Koeroo, Mike Helm, Reimer Karlsen-Masur, Steve Timm, Jules Wolfrat, Dave Kelse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Worked on the AA profile document and discussed some issu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0372-118F-467C-98BC-365D779BACC7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Main changes to documen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Cleaned up intro, abstract and scop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General architectur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Two well established architectur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Issue attributes to users, pushed by user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ttributes extracted to local AuthZ DB (GUMS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Should be one AASP per organis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ccredit the AASP, not each instance or VO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ABAD-08E7-4C3A-AE54-E102BCB1B11A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Issues discussed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AA signing ke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gree we should not use host certificat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VOMS develop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willing to implement use of separate ke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Should be tied to AASP (not VO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ASP encouraged to consider an HSM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But  not forced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8386-F2F2-4D50-955E-9334751D0A0D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Issues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Revoc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No case for revoking AC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Other AC may exist with same assertion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Entire cert chain must be verified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Revocation of AA cert will kill all issued assertion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Revocation of EE cert must stop issue of attribut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RP must check validity of identity cer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ttribute Practice Statement (APS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Practice statement required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Simple with templat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D7D9-7BE7-45F5-8AF9-EF2D7F25FBD4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Issues (3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P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assign it a globally unique object identifier (OID).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This should at least contain: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persistent contact details for the AAS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document their operational environmen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state compliance with this polic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maintain accurate VO contact information for all the AAs they host and a link to the VO AU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should be public and made availabl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except for the operational environment which must be disclosed to the accrediting bod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D217-714A-40D9-964B-D7191AFBAEE3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Issues (4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ASP naming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The registered name is needed to ensure that different accreditation bodies do not accredit different AASPs with the same name inside the realm of one CA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AASP accrediting body should act as registrar for repository of AASP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A:&lt;reasonable representation of name of aasp &gt; - &lt;arbitrary non-null string identify the server or VO&gt;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set by CA or requested by AASP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E.g. “AA:cern-wlcgvoms”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F9EC-1302-448F-AE4A-5D9F3E28F1BE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Other new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Have discussed with Steve Trayle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He runs the VOMS servers at CER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He is keen to work with u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Together with Steve Timm at F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nd other VOMS operators(?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Will include comments from them on the profile documen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B46E-5A09-410D-BC2F-8362C5C240C6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4:19:45Z</dcterms:created>
  <dc:creator>D Kelsey</dc:creator>
  <dc:description/>
  <dc:language>en-US</dc:language>
  <cp:lastModifiedBy>Kelsey</cp:lastModifiedBy>
  <dcterms:modified xsi:type="dcterms:W3CDTF">2009-01-27T07:37:06Z</dcterms:modified>
  <cp:revision>71</cp:revision>
  <dc:subject/>
  <dc:title>Grid Security</dc:title>
</cp:coreProperties>
</file>