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907588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36138-A13E-4C36-BC3F-3A3F42F0D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360" y="27756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360" y="1599840"/>
            <a:ext cx="8420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90360" y="3966480"/>
            <a:ext cx="8420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D1DE6-A0CD-46E3-8EE2-F0FE437AC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90360" y="27756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90360" y="1599840"/>
            <a:ext cx="41086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304960" y="1599840"/>
            <a:ext cx="41086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90360" y="3966480"/>
            <a:ext cx="41086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304960" y="3966480"/>
            <a:ext cx="41086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4C534-F24D-4DFB-BB99-0248D3305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90360" y="27756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90360" y="1599840"/>
            <a:ext cx="2711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37600" y="1599840"/>
            <a:ext cx="2711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684480" y="1599840"/>
            <a:ext cx="2711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90360" y="3966480"/>
            <a:ext cx="2711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37600" y="3966480"/>
            <a:ext cx="2711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684480" y="3966480"/>
            <a:ext cx="2711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819A2-FDD9-42E4-94D4-3D84A1491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A5FB3-CDAE-4730-A6CE-DB47A4598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360" y="27756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90360" y="1599840"/>
            <a:ext cx="842004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DA86E-C358-4F56-B68C-B71A9CB5C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360" y="27756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360" y="1599840"/>
            <a:ext cx="84200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364EA-1BE3-479A-99AF-BA8D34685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90360" y="27756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90360" y="1599840"/>
            <a:ext cx="41086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304960" y="1599840"/>
            <a:ext cx="41086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7DB7D-8843-497A-A023-477E119A7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90360" y="27756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2285B-9215-4007-B586-31FEA7ADA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90360" y="27756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64B27-511C-4D1F-9DDC-495977873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90360" y="27756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90360" y="1599840"/>
            <a:ext cx="41086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304960" y="1599840"/>
            <a:ext cx="41086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90360" y="3966480"/>
            <a:ext cx="41086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838AD-3547-43E7-8BF2-4A604E386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360" y="27756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90360" y="1599840"/>
            <a:ext cx="842004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5D50C-8C29-48DF-BA11-D8FCB8FAA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360" y="27756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90360" y="1599840"/>
            <a:ext cx="41086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304960" y="1599840"/>
            <a:ext cx="41086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304960" y="3966480"/>
            <a:ext cx="41086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3938B-B86C-4146-9E74-7B4B7F5F3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90360" y="27756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90360" y="1599840"/>
            <a:ext cx="41086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304960" y="1599840"/>
            <a:ext cx="41086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90360" y="3966480"/>
            <a:ext cx="8420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3396E-385C-4763-9FA4-48FE28D56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7756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90360" y="1599840"/>
            <a:ext cx="8420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90360" y="3966480"/>
            <a:ext cx="8420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6D4C7-D565-474A-A1F6-25F44E053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0360" y="27756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90360" y="1599840"/>
            <a:ext cx="41086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304960" y="1599840"/>
            <a:ext cx="41086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90360" y="3966480"/>
            <a:ext cx="41086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304960" y="3966480"/>
            <a:ext cx="41086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F2303-5F95-4657-B520-18D667F9F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90360" y="27756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90360" y="1599840"/>
            <a:ext cx="2711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837600" y="1599840"/>
            <a:ext cx="2711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84480" y="1599840"/>
            <a:ext cx="2711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90360" y="3966480"/>
            <a:ext cx="2711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837600" y="3966480"/>
            <a:ext cx="2711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84480" y="3966480"/>
            <a:ext cx="2711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04A8D-8541-4C83-BF9B-9CEEA835D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360" y="27756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90360" y="1599840"/>
            <a:ext cx="84200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7F5E5-C190-490C-B91B-0E6CF4DEC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360" y="27756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90360" y="1599840"/>
            <a:ext cx="41086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304960" y="1599840"/>
            <a:ext cx="41086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078F5-F5A5-415E-B818-34EED815F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360" y="27756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D48B9-7820-458B-85B8-611CB6E9B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90360" y="27756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D59E7-8DFE-46A4-9BF9-B0F7C1B7A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360" y="27756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0360" y="1599840"/>
            <a:ext cx="41086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304960" y="1599840"/>
            <a:ext cx="41086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90360" y="3966480"/>
            <a:ext cx="41086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85EE9-88AE-4F37-859B-744BE8F92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90360" y="27756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0360" y="1599840"/>
            <a:ext cx="41086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304960" y="1599840"/>
            <a:ext cx="41086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304960" y="3966480"/>
            <a:ext cx="41086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231F5-C055-4435-B8F5-D49F7E63A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360" y="27756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0360" y="1599840"/>
            <a:ext cx="41086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04960" y="1599840"/>
            <a:ext cx="41086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90360" y="3966480"/>
            <a:ext cx="8420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8D8D8-1F23-4396-BE4C-B1A2F7D2C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410040" cy="4876920"/>
            <a:chOff x="0" y="0"/>
            <a:chExt cx="941004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6024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12560" y="1417680"/>
              <a:ext cx="8997480" cy="182520"/>
              <a:chOff x="412560" y="1417680"/>
              <a:chExt cx="899748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7428960" y="1417680"/>
                <a:ext cx="198108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412560" y="1494000"/>
                <a:ext cx="899748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90360" y="27756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90360" y="1599840"/>
            <a:ext cx="84200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90720" y="6251400"/>
            <a:ext cx="2146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5675D-FFD8-4137-B2CB-A564F4E92D1C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631680" y="6248520"/>
            <a:ext cx="3219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734652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AAD73-EEF2-4D30-97FB-BAF5E144826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6024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" name="" descr=""/>
          <p:cNvPicPr/>
          <p:nvPr/>
        </p:nvPicPr>
        <p:blipFill>
          <a:blip r:embed="rId2">
            <a:lum contrast="-8000"/>
          </a:blip>
          <a:stretch/>
        </p:blipFill>
        <p:spPr>
          <a:xfrm>
            <a:off x="8623440" y="4680"/>
            <a:ext cx="1263600" cy="127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9492480" cy="5943600"/>
            <a:chOff x="0" y="0"/>
            <a:chExt cx="9492480" cy="59436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18982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" name=""/>
            <p:cNvGrpSpPr/>
            <p:nvPr/>
          </p:nvGrpSpPr>
          <p:grpSpPr>
            <a:xfrm>
              <a:off x="0" y="3505320"/>
              <a:ext cx="9492480" cy="2438280"/>
              <a:chOff x="0" y="3505320"/>
              <a:chExt cx="9492480" cy="2438280"/>
            </a:xfrm>
          </p:grpSpPr>
          <p:sp>
            <p:nvSpPr>
              <p:cNvPr id="51" name=""/>
              <p:cNvSpPr/>
              <p:nvPr/>
            </p:nvSpPr>
            <p:spPr>
              <a:xfrm>
                <a:off x="1073160" y="3505320"/>
                <a:ext cx="841932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1124640" y="3733920"/>
                <a:ext cx="828540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0" y="4876920"/>
                <a:ext cx="107316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" name=""/>
            <p:cNvGrpSpPr/>
            <p:nvPr/>
          </p:nvGrpSpPr>
          <p:grpSpPr>
            <a:xfrm>
              <a:off x="687600" y="533520"/>
              <a:ext cx="8749800" cy="304560"/>
              <a:chOff x="687600" y="533520"/>
              <a:chExt cx="8749800" cy="304560"/>
            </a:xfrm>
          </p:grpSpPr>
          <p:sp>
            <p:nvSpPr>
              <p:cNvPr id="55" name=""/>
              <p:cNvSpPr/>
              <p:nvPr/>
            </p:nvSpPr>
            <p:spPr>
              <a:xfrm>
                <a:off x="6795720" y="533520"/>
                <a:ext cx="264168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687600" y="685800"/>
                <a:ext cx="874980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28760" y="1143000"/>
            <a:ext cx="71820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88560" y="625140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C67EB-A403-4EF9-A636-38F6CE7560D6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63348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734652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288E9-E81C-4017-8419-C274E130730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6320" y="71280"/>
            <a:ext cx="1752480" cy="16416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609480" y="2514600"/>
            <a:ext cx="701640" cy="47628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eugridpma.org/agenda/fullAgenda.php?ida=a042" TargetMode="External"/><Relationship Id="rId2" Type="http://schemas.openxmlformats.org/officeDocument/2006/relationships/hyperlink" Target="http://eugridpma.org/agenda/fullAgenda.php?ida=a042" TargetMode="External"/><Relationship Id="rId3" Type="http://schemas.openxmlformats.org/officeDocument/2006/relationships/hyperlink" Target="http://eugridpma.org/agenda/fullAgenda.php?ida=a042" TargetMode="External"/><Relationship Id="rId4" Type="http://schemas.openxmlformats.org/officeDocument/2006/relationships/hyperlink" Target="http://www.ncp.edu.pk/pk-grid-ca/CA-pub.htm#cp_cps" TargetMode="External"/><Relationship Id="rId5" Type="http://schemas.openxmlformats.org/officeDocument/2006/relationships/hyperlink" Target="http://www.ncp.edu.pk/pk-grid-ca/userinstructions.htm" TargetMode="External"/><Relationship Id="rId6" Type="http://schemas.openxmlformats.org/officeDocument/2006/relationships/hyperlink" Target="http://www.ncp.edu.pk/pk-grid-ca/hostinstructions.htm" TargetMode="External"/><Relationship Id="rId7" Type="http://schemas.openxmlformats.org/officeDocument/2006/relationships/hyperlink" Target="http://www.ncp.edu.pk/pk-grid-ca/CA-pub.htm#crl" TargetMode="External"/><Relationship Id="rId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00200" y="990720"/>
            <a:ext cx="83059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Times New Roman"/>
                <a:ea typeface="Arial"/>
              </a:rPr>
              <a:t>PK-Grid-CA </a:t>
            </a:r>
            <a:br>
              <a:rPr sz="4800"/>
            </a:br>
            <a:r>
              <a:rPr b="1" lang="en-US" sz="4800" spc="-1" strike="noStrike">
                <a:solidFill>
                  <a:srgbClr val="000066"/>
                </a:solidFill>
                <a:latin typeface="Times New Roman"/>
                <a:ea typeface="Arial"/>
              </a:rPr>
              <a:t>Audit &amp; Status Report </a:t>
            </a:r>
            <a:br>
              <a:rPr sz="4800"/>
            </a:b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Arial"/>
              </a:rPr>
              <a:t>(15</a:t>
            </a:r>
            <a:r>
              <a:rPr b="1" lang="en-US" sz="3200" spc="-1" strike="noStrike" baseline="30000">
                <a:solidFill>
                  <a:srgbClr val="000066"/>
                </a:solidFill>
                <a:latin typeface="Times New Roman"/>
                <a:ea typeface="Arial"/>
              </a:rPr>
              <a:t>th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Arial"/>
              </a:rPr>
              <a:t> EU-Grid-PMA Meeting, Nicosia)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2445840" y="4053960"/>
            <a:ext cx="6180120" cy="13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ajjad Asgh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Garamond"/>
              </a:rPr>
              <a:t>PK-Grid-CA Mana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National Centre for Phys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90360" y="27756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urrent Statistic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90360" y="1599840"/>
            <a:ext cx="84200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 far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13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gital certificates (in total) have been issued to various organizations and persons in Pakistan in terms o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7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User Certifica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61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Host Certifica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t of those 131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62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got Expir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28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were Revok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 it gives the current active certificates number equivalent to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4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tional Centre for Physics, http://www.ncp.edu.p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8FC4D-88B5-41D6-9413-456778AD5B6A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64C0F7-BEA1-4CCF-946A-4817CB1DFFB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90360" y="27756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urrent Statistic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90360" y="1599840"/>
            <a:ext cx="84200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new root key has the CN “PK-GRID-CA”, the CN for old key was “ncp.edu.pk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new key is valid for ten years till 1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ec, 2017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st certificate from the old root key was signed on 5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ec, 2007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5 days before the expiry of root key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st CRL signed by the old key was on 3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ov, 2008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tional Centre for Physics, http://www.ncp.edu.p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15468-53CE-483D-96FC-938AF0B93AB2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D0BD0B-0211-410D-B298-239B5248E5C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90360" y="27756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First Self-Audi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90360" y="1599840"/>
            <a:ext cx="84200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ever self-audit for PK-Grid-CA has been conducted to check compliance of CA operations with the CP-CP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udit was conducted according to the "Audit Guidelines Document" provided by the AP-Grid-PM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.e., Audit Guidelines – 1.0-B5.doc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tional Centre for Physics, http://www.ncp.edu.p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632EE-8577-4E36-A447-E72FA5C2A224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6F0661-AABA-4087-8411-47CB40B1D56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90360" y="27756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Audit Procedures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90360" y="1599840"/>
            <a:ext cx="84200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item in the audit checklist should be scored according to the results of examin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A: Go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B: Recommendation (minor chang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C: Recommendation (major chang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D: Advice (must chang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68686"/>
                </a:solidFill>
                <a:latin typeface="Arial"/>
              </a:rPr>
              <a:t>X: Could not evaluate (N/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erial us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P/CPS, Manuals for subscribers, CA repository (website), CA certificate, CRLs, EE certific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pe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A room, backup media for CA key, Offline medium, Media storage, Logs of the CA/RA Servers, Logs of the repository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Records of operations of the CA private key, Access log to the CA room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tional Centre for Physics, http://www.ncp.edu.p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978DA-4190-4EDA-BF70-31923A1B5A1E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09AF35-A7FE-4E33-8FEC-14B4342725C3}" type="datetime1">
              <a:rPr lang="en-US"/>
              <a:t>07/30/26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61760" y="27756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Audit Checklist – Deficient Aspect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90360" y="1599840"/>
            <a:ext cx="84200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A system must be located in a secure environment where access is control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r Score: 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B (need more tighter access control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ecure environment must be documented and approved by the P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r Score: 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B (we need to write it down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Very little details are mentioned in our CP/CP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online CA architecture should provide for a tamper-protected log of issued certificates and signed CR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r Score: 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B (how to make it tamper proof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Currently this record is offline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Available only on reques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tional Centre for Physics, http://www.ncp.edu.p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0BA8D-BEE6-4433-8B12-5D0539769767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15341A-481B-4FD9-8EFF-3B67E9BE03D7}" type="datetime1">
              <a:rPr lang="en-US"/>
              <a:t>07/30/26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61760" y="27756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Audit Checklist – Deficient Aspect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90720" y="15235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E must request revocation ASAP, but within 1 working 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24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r Score: </a:t>
            </a:r>
            <a:r>
              <a:rPr b="0" lang="en-US" sz="2200" spc="-1" strike="noStrike">
                <a:solidFill>
                  <a:srgbClr val="868686"/>
                </a:solidFill>
                <a:latin typeface="Arial"/>
              </a:rPr>
              <a:t>X</a:t>
            </a:r>
            <a:r>
              <a:rPr b="0" lang="en-US" sz="2100" spc="-1" strike="noStrike">
                <a:solidFill>
                  <a:srgbClr val="cccc99"/>
                </a:solidFill>
                <a:latin typeface="Arial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(have no control on EE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RL lifetime must be no more than 30 d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r Score: 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B (missed it a few times by crossing 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23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 day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Due to long official holidays but never crossed 30 day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Following this practice strictly for last few year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No outdated CRLs in near pas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 CA must issue a new CRL at least 7 days before expi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r Score: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B (missed it several time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Mistake of operational staff on network en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Again bad planning for long official holiday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tional Centre for Physics, http://www.ncp.edu.p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641A1-3732-4FBE-936F-D9B946AF46A9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1A274C-B462-421D-95E0-660A350DBBC3}" type="datetime1">
              <a:rPr lang="en-US"/>
              <a:t>07/30/26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1760" y="27756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Audit Checklist – Deficient Aspect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90360" y="1599840"/>
            <a:ext cx="84200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pository must be run at least on a best-effort basis, with an intended availability of 24x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r Score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B (the downtime is not notified to PM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Few times due to international fiber cable connectivity probl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Unplanned power cut and power outa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Problem on network provider si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ery CA should make a reasonable effort to make sure that EE realize the importance of properly protecting their private data. When using software tokens, the user must protect his/her private key with a strong pass phrase, i.e. at least 12 characters long and following current best practices in choosing high-quality pass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r Score: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B (not clearly mentioned in CP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We have no control over EE for their private key password length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Planning to conduct a seminar for EE where we could emphasize on this poi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tional Centre for Physics, http://www.ncp.edu.p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8263C-5402-4ADC-9A9F-55D70EA67D70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4DCCC0-767B-45F8-8362-5BC6DC85B2FE}" type="datetime1">
              <a:rPr lang="en-US"/>
              <a:t>07/30/2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61760" y="27756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Audit Checklist – Deficient Aspect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90360" y="1599840"/>
            <a:ext cx="84200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r certificates bound to network entities a FQDN shall be included as a dnsName in the SubjectAlternativeNa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ur Score: </a:t>
            </a: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B (we are using emai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tificates associated with a private key residing solely on hardware token may be renewed for a period of upto 5 years (for equivalent RSA key length of 2048 bits) or 3 years (for equivalent RSA key length 1024 bit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Score: </a:t>
            </a:r>
            <a:r>
              <a:rPr b="0" lang="en-US" sz="2800" spc="-1" strike="noStrike">
                <a:solidFill>
                  <a:srgbClr val="868686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Not applicabl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tional Centre for Physics, http://www.ncp.edu.p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B744A-203C-4036-A0E5-252C7BEBAC48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A492F4-AC62-4C55-A5D9-4874667D67F2}" type="datetime1">
              <a:rPr lang="en-US"/>
              <a:t>07/30/26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61760" y="27756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Audit Checklist – Deficient Aspect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90360" y="1599840"/>
            <a:ext cx="84200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rtificated may be renewed or re-keyed for more than 5 years with a form of identity and eligibility verification, and this procedure must be described in the CP/C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r Score: 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D (have to include this in CP-CPS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We do identity check for every re-key from R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Do not ask for new copy of documents after the first time verification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ery CA must record and archive all requests for certificates, along with all the issued certificates, all the request for revocation, all the issued CRLs and the login/logout/reboot of the issuing mach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r Score: 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B (logs have to be organized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se records must be available to external auditors in the course of their work as audi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r Score: 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B (logs have to be organized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tional Centre for Physics, http://www.ncp.edu.p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6C3D7-2F11-4405-860D-92E7E604C7C9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52BDC2-C988-40CA-9AD8-27B04947481E}" type="datetime1">
              <a:rPr lang="en-US"/>
              <a:t>07/30/26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61760" y="27756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Audit Checklist – Deficient Aspect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90360" y="1600200"/>
            <a:ext cx="84200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ery CA must perform operational audits of the CA/RA staff at least once per y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Our Score: </a:t>
            </a:r>
            <a:r>
              <a:rPr b="0" lang="en-US" sz="1700" spc="-1" strike="noStrike">
                <a:solidFill>
                  <a:srgbClr val="ff0000"/>
                </a:solidFill>
                <a:latin typeface="Arial"/>
              </a:rPr>
              <a:t>D (were not doing any audits)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ff"/>
                </a:solidFill>
                <a:latin typeface="Arial"/>
              </a:rPr>
              <a:t>Will be done on regular basis in the future</a:t>
            </a:r>
            <a:r>
              <a:rPr b="0" lang="en-US" sz="17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list of CA and RA personnel should be maintained and verified at least once per y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Our Score: </a:t>
            </a:r>
            <a:r>
              <a:rPr b="0" lang="en-US" sz="1700" spc="-1" strike="noStrike">
                <a:solidFill>
                  <a:srgbClr val="ff0000"/>
                </a:solidFill>
                <a:latin typeface="Arial"/>
              </a:rPr>
              <a:t>D (no list being maintained)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ff"/>
                </a:solidFill>
                <a:latin typeface="Arial"/>
              </a:rPr>
              <a:t>This part has been included in our internal CA operational manual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ff"/>
                </a:solidFill>
                <a:latin typeface="Arial"/>
              </a:rPr>
              <a:t>Only maintain the list of RA Head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A shall provide their trust anchor to a trust anchor repository…anchor reposi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Our Score: </a:t>
            </a:r>
            <a:r>
              <a:rPr b="0" lang="en-US" sz="1900" spc="-1" strike="noStrike">
                <a:solidFill>
                  <a:srgbClr val="0000ff"/>
                </a:solidFill>
                <a:latin typeface="Arial"/>
              </a:rPr>
              <a:t>B (working for TACAR) – </a:t>
            </a:r>
            <a:r>
              <a:rPr b="0" lang="en-US" sz="1900" spc="-1" strike="noStrike">
                <a:solidFill>
                  <a:srgbClr val="008000"/>
                </a:solidFill>
                <a:latin typeface="Arial"/>
              </a:rPr>
              <a:t>NOW DON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A must have an adequate compromise and disaster recovery procedure, and we are willing to discuss this in the P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Our Score: </a:t>
            </a:r>
            <a:r>
              <a:rPr b="0" lang="en-US" sz="1900" spc="-1" strike="noStrike">
                <a:solidFill>
                  <a:srgbClr val="0000ff"/>
                </a:solidFill>
                <a:latin typeface="Arial"/>
              </a:rPr>
              <a:t>B (have to document it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tional Centre for Physics, http://www.ncp.edu.p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9A47D-E82C-43EC-9CAB-3F6DA338BF8C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927D86-7D40-44A0-AB15-25E9C937E69E}" type="datetime1">
              <a:rPr lang="en-US"/>
              <a:t>07/30/2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90360" y="27756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Scheme of Presentation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90360" y="1599840"/>
            <a:ext cx="84200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roduction of PK-GRID-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story of Emerg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ortant URLs regarding PK-GRID-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rrent Statis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ent Improv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tendance in various EU-GRID-PMA meet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f-Audit, checklist and post-activ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ture Pl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tional Centre for Physics, http://www.ncp.edu.p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CEC0A-87DB-4C51-99F3-D83C3766286B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CF7734-A9CF-460A-94D5-4DA1C0C4886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61760" y="27756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Audit Checklist – Deficient Aspect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90360" y="1599840"/>
            <a:ext cx="84200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KI CA must define the role of registration authority (RA), and these RAs are responsible for the identity of all the E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ur Score: </a:t>
            </a: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B (have to mention the role in the CP-CPS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tional Centre for Physics, http://www.ncp.edu.p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EB4C7-212D-4D51-8DE9-E73367182A31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51E339-04EC-4BAF-BA75-58D10AEAAEF4}" type="datetime1">
              <a:rPr lang="en-US"/>
              <a:t>07/30/26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90360" y="27756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Self-Audit Post-Activiti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90360" y="1599840"/>
            <a:ext cx="84200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ve to make changes in the CP-CPS based on this aud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d the CP-CPS for approval to the PM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ve to publish a report on self audit on the CA website and to the PMA memb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tify measures which are not in accordance with the CP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tain lists of CA/RA staff and update on regular bas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e more effort in CA project, by adding more people with proper training to the CA staff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tional Centre for Physics, http://www.ncp.edu.p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0C671-F1E6-4E89-A240-212184E84FB7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226D27-1E8E-4F64-A0CD-2686B5AAFC8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90360" y="27756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Future Plan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90360" y="1523880"/>
            <a:ext cx="84200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ed level of security in CA premi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iered access for CA ro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ree physical zones defined for increased access control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Green zone, yellow zone and red zone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reen and yellow zones can be used for key-signing ceremonies (RAs for PKIReliance) etc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d zone will contain CA offline machi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deo Surveillance System for CA ro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nitoring all zones with video camer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tion recording facility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tional Centre for Physics, http://www.ncp.edu.p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5B72B-D326-49C8-8721-E7D928DA738C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A2BCE6-1700-4B50-A134-FF3235282B2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90360" y="27756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Future Plan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90360" y="1599840"/>
            <a:ext cx="84200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ess Control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ccess control on the door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ual person authentication for red zo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riple verification/authentication (pin + card + thumb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wo devices (both sides of the door) in red zone for recording in and out time as we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rdware Security Module (HSM) to be purchas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ipment procurement is under wa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more secure safe for CA offline record in the new premis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of PKIReliance at national leve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tional Centre for Physics, http://www.ncp.edu.p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89936-46C8-42FF-8C81-7B4E5F2369A3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2CBD55-0456-465A-AE21-994203A1CAD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47640" y="2971440"/>
            <a:ext cx="86486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800" spc="-1" strike="noStrike">
                <a:solidFill>
                  <a:srgbClr val="330033"/>
                </a:solidFill>
                <a:latin typeface="Times New Roman"/>
              </a:rPr>
              <a:t>QUESTIONS?</a:t>
            </a:r>
            <a:endParaRPr b="0" lang="en-US" sz="10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tional Centre for Physics, http://www.ncp.edu.p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FBBC2-8492-45E1-9DA2-B32907666A77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26E5B6-5417-4092-AFA7-623275D89BB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90360" y="27756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Introduction of PK-GRID-CA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90360" y="1523520"/>
            <a:ext cx="87627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K-Grid-CA is managed by National Center For Physics Islamaba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s X.509 certificates to support the secure environment in LC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sues User and Host Certificates to people and sites participating in grid computing in collaboration/partnership with NC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n users are the physicists involved in LHC experi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staff is responsible to manage Grid node and the grid certification authority (PK-Grid-CA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tional Centre for Physics, http://www.ncp.edu.p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85D25-C1BB-4F2D-BDE4-C0C4E3858BD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5A7CC1-C6A4-4F58-9864-49F3094E629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90360" y="27756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History of Emergenc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90360" y="1599840"/>
            <a:ext cx="84200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K-Grid-CA Certification Authority is working under European Grid Policy Management Authority (EU-GRID-PMA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ffort Started in October 2003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CP produced the first Certificate Policy and Certification Practice Statement (CP-CPS) document in December 20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viewed by several members of EU-GRID-PMA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d several revisions and useful comments, feed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&amp; suggestions by the PMA memb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nal version was published in April 200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tional Centre for Physics, http://www.ncp.edu.p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81968-965C-4B11-9600-18F4522BD65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C2BD12-225A-4D51-90CC-1CD522A9D7A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90360" y="27756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History of Emergenc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90360" y="1599840"/>
            <a:ext cx="8915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K-GRID-CA was officially presented in the 2nd meeting of the EU-Grid-PMA held in Brussels, BELGIUM during September 23-24, 2004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r. Usman Ahmad Malik from NCP presented the C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nce then it became formally approved and accredited by the EU-Grid-PMA as a C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K-Grid-CA had started operations since th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as the first and only Certification Authority in Pakistan at that tim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tional Centre for Physics, http://www.ncp.edu.p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C999C-D831-45A5-977D-DCAA7C12B41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A998D1-05FB-4123-8CD2-ED3CE41D4E2C}" type="datetime1">
              <a:rPr lang="en-US"/>
              <a:t>07/30/26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90360" y="27756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Important URL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90720" y="1599840"/>
            <a:ext cx="8686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details of the historical EU-GRID-PMA meeting (Brussels) in context of PK-GRID-CA can be found at:                                  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990033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800" spc="-1" strike="noStrike" u="sng">
                <a:solidFill>
                  <a:srgbClr val="990033"/>
                </a:solidFill>
                <a:uFillTx/>
                <a:latin typeface="Arial"/>
                <a:hlinkClick r:id="rId2"/>
              </a:rPr>
              <a:t>eugridpma.org/agenda/fullAgenda.php?ida</a:t>
            </a:r>
            <a:r>
              <a:rPr b="0" lang="en-US" sz="1800" spc="-1" strike="noStrike" u="sng">
                <a:solidFill>
                  <a:srgbClr val="990033"/>
                </a:solidFill>
                <a:uFillTx/>
                <a:latin typeface="Arial"/>
                <a:hlinkClick r:id="rId3"/>
              </a:rPr>
              <a:t>=a0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details about all versions of the PK-Grid-CA CP-CPS documents produced/published by NCP can be found a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990033"/>
                </a:solidFill>
                <a:uFillTx/>
                <a:latin typeface="Arial"/>
                <a:hlinkClick r:id="rId4"/>
              </a:rPr>
              <a:t>http://www.ncp.edu.pk/pk-grid-ca/CA-pub.htm#cp_c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 online portal is available for requesting user/host certificates using following URLs respectivel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0033"/>
                </a:solidFill>
                <a:uFillTx/>
                <a:latin typeface="Arial"/>
                <a:hlinkClick r:id="rId5"/>
              </a:rPr>
              <a:t>http://www.ncp.edu.pk/pk-grid-ca/userinstructions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0033"/>
                </a:solidFill>
                <a:uFillTx/>
                <a:latin typeface="Arial"/>
                <a:hlinkClick r:id="rId6"/>
              </a:rPr>
              <a:t>http://www.ncp.edu.pk/pk-grid-ca/hostinstructions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latest copy of the PK-GRID-CA CRL can be fetched from:                       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0033"/>
                </a:solidFill>
                <a:uFillTx/>
                <a:latin typeface="Arial"/>
                <a:hlinkClick r:id="rId7"/>
              </a:rPr>
              <a:t>http://www.ncp.edu.pk/pk-grid-ca/CA-pub.htm#crl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tional Centre for Physics, http://www.ncp.edu.p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9C5DD-0CFD-4077-8597-360B1B9201F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B4EED7-9537-4034-AA68-2A2ABCA817E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90360" y="27756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Recent Improvement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90360" y="1599840"/>
            <a:ext cx="84200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old root key for PK-Grid-CA expired on December 9, 2008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ence no certificate could be signed with it after December 8, 2007 as per polic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new key pair valid till December 2017, with a key length of 4096 bits has been generated and sent to the PMA, and hence distributed via the (International Grid Trust Federation) IGTF-releas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r the last one year, the two root keys were valid for PK-Grid-CA. But the new certificate requests are being signed by the new root key. Old root key was being used for CRL sign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w, only the new root key is distributed and trusted on WLCG as the older one has recently expired on December 9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 2008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tional Centre for Physics, http://www.ncp.edu.p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FD909-0D7F-4606-A495-1B938812FF3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A6241E-B7F0-46C1-81D5-50CEF44A39D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90360" y="27756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Recent Improvement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90360" y="1599840"/>
            <a:ext cx="84200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December 2007, the PK-Grid-CA team drafted the new CP-CPS (1.1.2.0) based on the structure suggested by RFC – 3647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PS was approved by the NCP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which it was sent to the EU-Grid-PMA mailing list for approval which was approved by the PMA after its meeting in January 2008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tional Centre for Physics, http://www.ncp.edu.p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7AB96-F10B-4468-A989-1393821745C7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B81CB5-1BEE-41CA-A72E-4544552EE75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90360" y="27756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Recent Improvement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90360" y="1599840"/>
            <a:ext cx="84200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K-GRID-CA setup has been recently shifted in the new purpose campus of NC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ew building was designed keeping into consideration a proper place for the CA setup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ffers better physical and operational security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security oriented apparatus is in the pipeline including Closed-Circuit Cameras and HSM etc. for the CA room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tional Centre for Physics, http://www.ncp.edu.p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FD7ED-B244-4663-8E40-C3558B399CF1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324F8F-B2FC-4DDB-B70D-3345C7D78DA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15T06:13:57Z</dcterms:created>
  <dc:creator>Usman Ahmad Malik</dc:creator>
  <dc:description/>
  <dc:language>en-US</dc:language>
  <cp:lastModifiedBy>Usman A. Malik</cp:lastModifiedBy>
  <dcterms:modified xsi:type="dcterms:W3CDTF">2009-01-26T11:01:26Z</dcterms:modified>
  <cp:revision>1780</cp:revision>
  <dc:subject/>
  <dc:title>IBCAST IRS</dc:title>
</cp:coreProperties>
</file>