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1AAD9-BF45-479C-B51E-17C73D2534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815640"/>
            <a:ext cx="822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4B21B-7A40-437D-9AA8-1A99DFA920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81564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0560" y="381564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0D869-510C-4A0B-8BAB-8574EA5DB1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5960" y="132228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8400" y="132228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81564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5960" y="381564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98400" y="381564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36118-6A00-4C6C-A26E-487BFABA70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6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28400" y="256680"/>
            <a:ext cx="8334360" cy="288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6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381564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6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508E5-347F-4420-85B0-8DFC80DA4D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50560" y="381564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815640"/>
            <a:ext cx="822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3815640"/>
            <a:ext cx="822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81564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50560" y="381564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5960" y="132228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8400" y="132228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381564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5960" y="381564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8400" y="381564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4D97B-53CC-4A9E-83A9-F34893E3C6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94239-F12F-44D6-A901-486AF7BD5E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7AE7C-6CE5-4E25-8774-F4C91DDEC8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28400" y="256680"/>
            <a:ext cx="8334360" cy="288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6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C593E-07CE-4392-A19D-EE4E3AD279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81564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E42EA-0AF6-41EF-80E0-72E7E2622D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0560" y="381564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3BF7A-28D5-4584-B42C-127F9094FD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815640"/>
            <a:ext cx="822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F0700-7AFD-4DA4-8E80-7F1B54963C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47d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9320" indent="-187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8120" indent="-19836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16120" indent="-18720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16120" indent="-18720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16120" indent="-18720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858000" y="6391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24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6742-59B7-42FA-AAD0-A43E32E8402E}" type="slidenum">
              <a:rPr b="0" lang="en-GB" sz="1400" spc="-1" strike="noStrike">
                <a:solidFill>
                  <a:srgbClr val="0024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75440" y="6388200"/>
            <a:ext cx="15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47d"/>
                </a:solidFill>
                <a:latin typeface="Arial"/>
              </a:rPr>
              <a:t>© 2008 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533520" y="6384960"/>
            <a:ext cx="252360" cy="30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9108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24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47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txBody>
          <a:bodyPr lIns="90000" rIns="90000" tIns="46800" bIns="450000" anchor="b">
            <a:noAutofit/>
          </a:bodyPr>
          <a:p>
            <a:pPr marL="4269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65520" y="3809880"/>
            <a:ext cx="4187880" cy="1200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rcRect l="10044" t="15722" r="14065" b="61081"/>
          <a:stretch/>
        </p:blipFill>
        <p:spPr>
          <a:xfrm>
            <a:off x="0" y="1752480"/>
            <a:ext cx="9144000" cy="16765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46040" indent="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algn="ctr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39760" algn="ctr"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28920" algn="ctr"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528920"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528920"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txBody>
          <a:bodyPr lIns="90000" rIns="90000" tIns="46800" bIns="450000" anchor="b">
            <a:noAutofit/>
          </a:bodyPr>
          <a:p>
            <a:pPr marL="4269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Arial"/>
              </a:rPr>
              <a:t>QuoVadis accreditation with EuGridPMA</a:t>
            </a:r>
            <a:endParaRPr b="1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1261800"/>
            <a:ext cx="9144000" cy="41436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marL="446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76600" y="5524560"/>
            <a:ext cx="436248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47d"/>
                </a:solidFill>
                <a:latin typeface="Arial"/>
              </a:rPr>
              <a:t>Alessandro Us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47d"/>
                </a:solidFill>
                <a:latin typeface="Arial"/>
              </a:rPr>
              <a:t>alessandro.usai@switch.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6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47d"/>
                </a:solidFill>
                <a:latin typeface="Arial"/>
              </a:rPr>
              <a:t>So who are they (where are you going:)?</a:t>
            </a:r>
            <a:endParaRPr b="1" lang="en-US" sz="33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Stephen’s talk for an overview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nutshell (see also my Lisbon’s talk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QuoVadis’ accreditations (yearly audits)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fied Certification Practice Statement (CSP)  in Netherlands granted by the Independent Post and Telecommunications Authority (OPT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fied CSP in Switzerland granted by BAKOM (Bundesamt für Kommunikation I.e.The Federal Office of Communication OFCO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sed CSP in Bermuda based on that country’s Electronic Transactions 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Trust for Certification Authorities, and WebTrust for Extended Validation (by Ernst &amp; Yo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03105-0478-424E-8287-DDBB6D2611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47d"/>
                </a:solidFill>
                <a:latin typeface="Arial"/>
              </a:rPr>
              <a:t>The QuoVadis CA certificate hierarchy</a:t>
            </a: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666880" y="1295280"/>
            <a:ext cx="2743200" cy="990720"/>
          </a:xfrm>
          <a:prstGeom prst="rect">
            <a:avLst/>
          </a:prstGeom>
          <a:solidFill>
            <a:srgbClr val="f2f4f5">
              <a:alpha val="49000"/>
            </a:srgbClr>
          </a:solidFill>
          <a:ln w="19080">
            <a:solidFill>
              <a:srgbClr val="000000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uoVadis Root Certification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048 bits, 2001–20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09960" y="2895480"/>
            <a:ext cx="2057400" cy="609840"/>
          </a:xfrm>
          <a:prstGeom prst="rect">
            <a:avLst/>
          </a:prstGeom>
          <a:solidFill>
            <a:srgbClr val="f2f4f5">
              <a:alpha val="49000"/>
            </a:srgbClr>
          </a:solidFill>
          <a:ln w="19080">
            <a:solidFill>
              <a:srgbClr val="000000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a3abb1"/>
                </a:solidFill>
                <a:latin typeface="Arial"/>
              </a:rPr>
              <a:t>QV Schweiz 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a3abb1"/>
                </a:solidFill>
                <a:latin typeface="Arial"/>
              </a:rPr>
              <a:t>2048 bits, 2006–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0400" y="4191120"/>
            <a:ext cx="1676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600" spc="-1" strike="noStrike">
                <a:solidFill>
                  <a:srgbClr val="a3abb1"/>
                </a:solidFill>
                <a:latin typeface="Arial"/>
              </a:rPr>
              <a:t>QuoVadis standard user certificates (1/2/3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89" idx="2"/>
            <a:endCxn id="90" idx="0"/>
          </p:cNvCxnSpPr>
          <p:nvPr/>
        </p:nvCxnSpPr>
        <p:spPr>
          <a:xfrm>
            <a:off x="4038120" y="2295000"/>
            <a:ext cx="1080" cy="591120"/>
          </a:xfrm>
          <a:prstGeom prst="straightConnector1">
            <a:avLst/>
          </a:prstGeom>
          <a:ln w="19080">
            <a:solidFill>
              <a:srgbClr val="000000">
                <a:alpha val="49000"/>
              </a:srgbClr>
            </a:solidFill>
            <a:miter/>
            <a:tailEnd len="med" type="triangle" w="med"/>
          </a:ln>
        </p:spPr>
      </p:cxnSp>
      <p:cxnSp>
        <p:nvCxnSpPr>
          <p:cNvPr id="93" name=""/>
          <p:cNvCxnSpPr/>
          <p:nvPr/>
        </p:nvCxnSpPr>
        <p:spPr>
          <a:xfrm>
            <a:off x="4038120" y="3504960"/>
            <a:ext cx="1080" cy="686520"/>
          </a:xfrm>
          <a:prstGeom prst="straightConnector1">
            <a:avLst/>
          </a:prstGeom>
          <a:ln w="19080">
            <a:solidFill>
              <a:srgbClr val="000000">
                <a:alpha val="49000"/>
              </a:srgbClr>
            </a:solidFill>
            <a:miter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5848200" y="1409760"/>
            <a:ext cx="2476800" cy="762120"/>
          </a:xfrm>
          <a:prstGeom prst="rect">
            <a:avLst/>
          </a:prstGeom>
          <a:solidFill>
            <a:srgbClr val="f2f4f5">
              <a:alpha val="49000"/>
            </a:srgbClr>
          </a:solidFill>
          <a:ln w="19080">
            <a:solidFill>
              <a:srgbClr val="000000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marL="193680" indent="-1936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a3abb1"/>
                </a:solidFill>
                <a:latin typeface="Arial"/>
              </a:rPr>
              <a:t>QuoVadis Root C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a3abb1"/>
                </a:solidFill>
                <a:latin typeface="Arial"/>
              </a:rPr>
              <a:t>4096 bits, 2006–20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2895480"/>
            <a:ext cx="3047760" cy="609840"/>
          </a:xfrm>
          <a:prstGeom prst="rect">
            <a:avLst/>
          </a:prstGeom>
          <a:solidFill>
            <a:srgbClr val="f2f4f5">
              <a:alpha val="49000"/>
            </a:srgbClr>
          </a:solidFill>
          <a:ln w="19080">
            <a:solidFill>
              <a:srgbClr val="000000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a3abb1"/>
                </a:solidFill>
                <a:latin typeface="Arial"/>
              </a:rPr>
              <a:t>QuoVadis Global SSL 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a3abb1"/>
                </a:solidFill>
                <a:latin typeface="Arial"/>
              </a:rPr>
              <a:t>2048 bits, 2007–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>
            <a:stCxn id="94" idx="2"/>
            <a:endCxn id="95" idx="0"/>
          </p:cNvCxnSpPr>
          <p:nvPr/>
        </p:nvCxnSpPr>
        <p:spPr>
          <a:xfrm>
            <a:off x="7086240" y="2181240"/>
            <a:ext cx="1080" cy="705240"/>
          </a:xfrm>
          <a:prstGeom prst="straightConnector1">
            <a:avLst/>
          </a:prstGeom>
          <a:ln w="19080">
            <a:solidFill>
              <a:srgbClr val="000000">
                <a:alpha val="49000"/>
              </a:srgbClr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5257800" y="4191120"/>
            <a:ext cx="1752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600" spc="-1" strike="noStrike">
                <a:solidFill>
                  <a:srgbClr val="a3abb1"/>
                </a:solidFill>
                <a:latin typeface="Arial"/>
              </a:rPr>
              <a:t>QuoVadis Business SSL server certificates (1/2/3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238880" y="4191120"/>
            <a:ext cx="1676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600" spc="-1" strike="noStrike">
                <a:solidFill>
                  <a:srgbClr val="a3abb1"/>
                </a:solidFill>
                <a:latin typeface="Arial"/>
              </a:rPr>
              <a:t>QuoVadis</a:t>
            </a:r>
            <a:br>
              <a:rPr sz="1600"/>
            </a:br>
            <a:r>
              <a:rPr b="0" i="1" lang="en-GB" sz="1600" spc="-1" strike="noStrike">
                <a:solidFill>
                  <a:srgbClr val="a3abb1"/>
                </a:solidFill>
                <a:latin typeface="Arial"/>
              </a:rPr>
              <a:t>EV SSL</a:t>
            </a:r>
            <a:br>
              <a:rPr sz="1600"/>
            </a:br>
            <a:r>
              <a:rPr b="0" i="1" lang="en-GB" sz="1600" spc="-1" strike="noStrike">
                <a:solidFill>
                  <a:srgbClr val="a3abb1"/>
                </a:solidFill>
                <a:latin typeface="Arial"/>
              </a:rPr>
              <a:t>server certificates</a:t>
            </a:r>
            <a:br>
              <a:rPr sz="1600"/>
            </a:br>
            <a:r>
              <a:rPr b="0" i="1" lang="en-GB" sz="1600" spc="-1" strike="noStrike">
                <a:solidFill>
                  <a:srgbClr val="a3abb1"/>
                </a:solidFill>
                <a:latin typeface="Arial"/>
              </a:rPr>
              <a:t>(1/2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"/>
          <p:cNvCxnSpPr>
            <a:stCxn id="95" idx="2"/>
            <a:endCxn id="97" idx="0"/>
          </p:cNvCxnSpPr>
          <p:nvPr/>
        </p:nvCxnSpPr>
        <p:spPr>
          <a:xfrm flipH="1">
            <a:off x="6133680" y="3514320"/>
            <a:ext cx="953280" cy="677160"/>
          </a:xfrm>
          <a:prstGeom prst="straightConnector1">
            <a:avLst/>
          </a:prstGeom>
          <a:ln w="19080">
            <a:solidFill>
              <a:srgbClr val="000000">
                <a:alpha val="49000"/>
              </a:srgbClr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5" idx="2"/>
            <a:endCxn id="98" idx="0"/>
          </p:cNvCxnSpPr>
          <p:nvPr/>
        </p:nvCxnSpPr>
        <p:spPr>
          <a:xfrm>
            <a:off x="7086600" y="3514320"/>
            <a:ext cx="991440" cy="677160"/>
          </a:xfrm>
          <a:prstGeom prst="straightConnector1">
            <a:avLst/>
          </a:prstGeom>
          <a:ln w="19080">
            <a:solidFill>
              <a:srgbClr val="000000">
                <a:alpha val="49000"/>
              </a:srgbClr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9" idx="3"/>
            <a:endCxn id="94" idx="1"/>
          </p:cNvCxnSpPr>
          <p:nvPr/>
        </p:nvCxnSpPr>
        <p:spPr>
          <a:xfrm>
            <a:off x="5419800" y="1790280"/>
            <a:ext cx="419760" cy="1080"/>
          </a:xfrm>
          <a:prstGeom prst="straightConnector1">
            <a:avLst/>
          </a:prstGeom>
          <a:ln w="19080">
            <a:solidFill>
              <a:srgbClr val="000000">
                <a:alpha val="49000"/>
              </a:srgbClr>
            </a:solidFill>
            <a:prstDash val="dash"/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228600" y="2895480"/>
            <a:ext cx="2286000" cy="609840"/>
          </a:xfrm>
          <a:prstGeom prst="rect">
            <a:avLst/>
          </a:prstGeom>
          <a:solidFill>
            <a:srgbClr val="00ff00"/>
          </a:solidFill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uoVadis Grid 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048 bits, 2009–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89" idx="1"/>
            <a:endCxn id="102" idx="0"/>
          </p:cNvCxnSpPr>
          <p:nvPr/>
        </p:nvCxnSpPr>
        <p:spPr>
          <a:xfrm flipV="1" rot="10800000">
            <a:off x="1370880" y="1789560"/>
            <a:ext cx="1286640" cy="1096200"/>
          </a:xfrm>
          <a:prstGeom prst="bentConnector2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533520" y="4191120"/>
            <a:ext cx="16761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QuoVadis Grid user and server certificates</a:t>
            </a:r>
            <a:br>
              <a:rPr sz="1600"/>
            </a:b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(1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"/>
          <p:cNvCxnSpPr>
            <a:stCxn id="102" idx="2"/>
            <a:endCxn id="104" idx="0"/>
          </p:cNvCxnSpPr>
          <p:nvPr/>
        </p:nvCxnSpPr>
        <p:spPr>
          <a:xfrm>
            <a:off x="1371240" y="3514320"/>
            <a:ext cx="1080" cy="67716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DCD9F-D85F-4265-BAF0-CD21ABA40B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10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47d"/>
                </a:solidFill>
                <a:latin typeface="Arial"/>
              </a:rPr>
              <a:t>Reviewers’ major points (Big Thanks to Reimer and Jens!) </a:t>
            </a: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 general comment, most of the points were already met, they just needed some rewording in the CP/CPS docu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tokens:rewording done in the CP/CPS document; notice however that we will not support this use case for the time be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CA HSM documentation: already audited by various International bodies; ready to disclose info on demand (see Stephen's talk)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CA architecture: same general comment; a separate document avail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ID: the oid as in the grid section will change accordingly, but not the one on the main part of the CP/CPS, which is not grid specific: is it o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 certificate of 12 months: is this o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1ABC8-78E1-40A0-A416-041E3B162B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47d"/>
                </a:solidFill>
                <a:latin typeface="Arial"/>
              </a:rPr>
              <a:t>Reviewers’ major points 2</a:t>
            </a: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GridPMA must be notified and must approve a change: this will be the case whenever a change in the grid part occ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act between QV and IGTF necessary? The requirements for contracts is currently being considered by QuoVadi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st 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renewed or re-keyed for more than 5 years without a form of auditable identity and eligibility verification:renewals are not supported and renewal requests are treated like a new certificate issu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 can request revocation if they can sufficiently prove compromise or exposure of the associated private key: CP/CPS document changed according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riginating authority must grant to the PMA and the Federation, by virtue of its accreditation, the right of unlimited re-distribution of its information: this is already the case; more input perhaps needed on the real mean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D0D79-BC78-4DD7-AF81-57D54D38F6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47d"/>
                </a:solidFill>
                <a:latin typeface="Arial"/>
              </a:rPr>
              <a:t>Reviewer’s major points 3</a:t>
            </a: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 shall provide their trust anchor to a trust anchor repository, specified by the accrediting PMA, via the method specified in the policy of the trust anchor repository: QuoVadis will be added to TACAR (already discussed with Teren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http or https URL of the PEM-formatted CA certificate: the QuoVadis website will show http of PEM certificate instead of being embed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-on/log-out events are not recorded: Logon/logouts (both success and failure) are logged at a server level; CP/CPS updated according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using software tokens, the private ke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protected with a strong pass phrase, i.e., at least 12 characters long and following current best practice in choosing high-quality passwords: QuoVadis CP/CPs updated to meet EUGridPMA Authentication Profile requir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keys pertaining to host and service certificat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stored without a pass phrase, bu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adequately protected by system methods if stored without passphrase: QuoVadis CP/CPs updated to meet EUGridPMA Authentication Profile requir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d CP/CPS explicitly allows proxies for the Grid 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C62A9-5C14-4C54-B3BF-DE99A9924F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14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247d"/>
                </a:solidFill>
                <a:latin typeface="Arial"/>
              </a:rPr>
              <a:t>QuoVadis Accreditation Timeline</a:t>
            </a:r>
            <a:br>
              <a:rPr sz="4300"/>
            </a:br>
            <a:r>
              <a:rPr b="0" lang="en-US" sz="4300" spc="-1" strike="noStrike">
                <a:solidFill>
                  <a:srgbClr val="00247d"/>
                </a:solidFill>
                <a:latin typeface="Arial"/>
              </a:rPr>
              <a:t>                 Update</a:t>
            </a:r>
            <a:endParaRPr b="1" lang="en-US" sz="43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uoVadis CP/CPS draft version available and submitted to the reviewers (they will also receive an updated version of the spreadsheet with our feedback/comment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nce accepted, the CP/CPS will be submitted for review and acceptance to the QuoVadis PMA (February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pon acceptance, the CA will be created and tested (March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sertion of QuoVadis into the IGTF distribution (by April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D4702-F6E6-4678-B70A-5B25AC6E8E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ssandro Usai</cp:lastModifiedBy>
  <dcterms:modified xsi:type="dcterms:W3CDTF">2009-01-26T08:26:18Z</dcterms:modified>
  <cp:revision>58</cp:revision>
  <dc:subject/>
  <dc:title>QuoVadis accreditation with EuGridPMA</dc:title>
</cp:coreProperties>
</file>