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7DE-8D31-4162-A0E4-6B77E67E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256-CA2F-4E91-BA93-4CA244D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5AF-49A8-4F49-AF46-FD4C5CC2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571-1CEA-4A01-8120-B10B8F05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36B-E407-4904-AE0E-A8175A81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CE6-8517-485C-BE4B-9D979AE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077-5063-479A-B2F5-385B78DE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7E1-928B-42D1-A0A9-73B18E24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B9F-D51A-4039-8AD0-26627BAE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BDC-5D9F-4BE7-9CC3-CD30F09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7EF-66B1-4752-918B-28049A4A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A9C-0BE7-4830-BDD5-C048CA7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3CF22-4CB8-40CC-A3FD-A2219D96FD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D06F0-AA22-4792-8E3A-B0273A27F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le Seve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nce of three (out of four) undersea cables in the Mediterranean basin on December 19th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retrieval of CR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8122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NRS subordinate using MD5 will change to SHA1 shor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obus discussed proxy certificate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will request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ing 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repositories of issued certific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? Certificates are publ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. Public phone number versus publish in phon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access to RAT memb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: Will not require this for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Gather information to assess th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ways tell CAs to modify practice in the future based on new risk/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issue? OpenSSL will be pat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ying parties should patch in any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ssessment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members 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: 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0:50Z</dcterms:created>
  <dc:creator>Jim Basney</dc:creator>
  <dc:description/>
  <dc:language>en-US</dc:language>
  <cp:lastModifiedBy>Jim Basney</cp:lastModifiedBy>
  <dcterms:modified xsi:type="dcterms:W3CDTF">2009-01-26T08:57:30Z</dcterms:modified>
  <cp:revision>4</cp:revision>
  <dc:subject/>
  <dc:title>IGTF RAT</dc:title>
</cp:coreProperties>
</file>