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96DA-EA2A-4683-9F9D-4ABFB281658B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fere mais ao amb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fere mais ao amb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4EF34-116D-48C4-BCB2-1480B55B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8901E-F900-42EA-A600-FEC59DF2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7EAD3-8BE3-4B26-8AE1-6A257257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80CD5-F122-4716-8C3A-7652ABEE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DBBCF-6F16-49B6-98A3-CA6C31B1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A9779-A6B7-4799-AA70-A6F28177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4B892-FBD1-48BD-8E60-199F7DBF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07058-A3D3-444C-8573-AEF3B00C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6DF81-51CF-4515-9F3F-851DD7E3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DE42C-5520-4A04-9250-B46D4A94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CE8F4-1BBB-4E9A-AC1B-6AFD7D06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6E5B3-E9AA-41DB-9495-71E907FB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53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UGridPMA F2F, Jan 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31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inod Rebello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  <a:ea typeface="ＭＳ Ｐゴシック"/>
              </a:rPr>
              <a:t>vinod@ic.uff.br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87280" y="112536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332000" y="1197000"/>
            <a:ext cx="633708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76360" y="1268280"/>
            <a:ext cx="6048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439640" cy="6667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0F70-01C6-4853-BA16-B9790B66F8B1}" type="slidenum"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24360" y="333000"/>
            <a:ext cx="45338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6708-5992-4CB0-B426-86DD1D1C2F90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166920" cy="1467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824483@198.129.252.168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confId=45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4.jpeg"/><Relationship Id="rId2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agpma.es.net/wiki" TargetMode="External"/><Relationship Id="rId2" Type="http://schemas.openxmlformats.org/officeDocument/2006/relationships/hyperlink" Target="http://www.tagpma.org/" TargetMode="External"/><Relationship Id="rId3" Type="http://schemas.openxmlformats.org/officeDocument/2006/relationships/hyperlink" Target="http://www.tagpma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agpma.es.net/wiki/pub/Main/SLCS2/SLCS-2.1.1.pdf" TargetMode="External"/><Relationship Id="rId2" Type="http://schemas.openxmlformats.org/officeDocument/2006/relationships/hyperlink" Target="http://tagpma.es.net/wiki/pub/Main/SLCSPro/SLCS-Review-2.1.xls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24360" y="333360"/>
            <a:ext cx="45338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15</a:t>
            </a:r>
            <a:r>
              <a:rPr b="0" lang="en-US" sz="4400" spc="-1" strike="noStrike" baseline="30000">
                <a:solidFill>
                  <a:srgbClr val="ff0000"/>
                </a:solidFill>
                <a:latin typeface="Impact"/>
              </a:rPr>
              <a:t>th</a:t>
            </a: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 EUGridPMA Plenary Meeting</a:t>
            </a:r>
            <a:br>
              <a:rPr sz="4400"/>
            </a:b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Update from the TAGPMA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Impact"/>
              </a:rPr>
              <a:t>Vinod Rebello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360" y="4436640"/>
            <a:ext cx="7983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Impact"/>
              </a:rPr>
              <a:t>Nicosia, Cyprus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January 26 – 28, 2009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8360" y="2647800"/>
            <a:ext cx="3527280" cy="1287000"/>
            <a:chOff x="468360" y="2647800"/>
            <a:chExt cx="3527280" cy="1287000"/>
          </a:xfrm>
        </p:grpSpPr>
        <p:sp>
          <p:nvSpPr>
            <p:cNvPr id="97" name=""/>
            <p:cNvSpPr txBox="1"/>
            <p:nvPr/>
          </p:nvSpPr>
          <p:spPr>
            <a:xfrm>
              <a:off x="522360" y="26478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8360" y="32922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MICS Prof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o undergo language update to bring it in line with other profi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hould be done by next TAGPMA F2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Gui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CA Accreditation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CAR Registration Process (to be updat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Unde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How to setup an IGTF 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Beginners guide to …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Design decisions/options, OpenCA configuration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ontributions welcome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(IGTF) CA CP/CPS template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inimum Requirements and Best Prac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urrent version in Portugue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ranslation to include Classic and Grid Cert Prof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Verdana"/>
              </a:rPr>
              <a:t>Ready to start merging work with Jen's effort he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Verdana"/>
              </a:rPr>
              <a:t>CP/CPS doc based up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74760"/>
            <a:ext cx="807552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IST SP 800-53 - Recommended Security Controls for Federal Information Syste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IST SP 800-100 – Information Security Handbook: A Guide for Manag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SO/IEC 27002 - Code of practice for information security managem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OB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IST SP 800-50 – Building an Information Technology Security Awareness and Training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IST SP 800-61 - Computer Security Incident Handling Guid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Building an Incident Response Program To Suit Your Busi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www.sans.org/reading_room/whitepapers/incident/627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Verdana"/>
              </a:rPr>
              <a:t>GridCanada 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74760"/>
            <a:ext cx="807552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Officially member of the EUGridP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NARIE to hand over/back management and operations of the Canadian Grid CA to NR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ransition to take place over the next few mon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RC then plan to update/upgrade software, policy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F2F Meet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9th TAGPMA F2F to be held at PSC or Dartmouth College, US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eek of April 27th,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ossibly preceded with one day workshop on Identity Federation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ortnightly Video Conference Call on Wednesday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February 4th, 11am C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ESNet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824483@198.129.252.168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or GDS 0011349824483 or phone 1-510-883-7860 824483#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GTF World Ma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 wanted to have a graphical map like DavidG´s for the TAGP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onsidering the whole world seemed just as much work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ast TAGPMA F2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8th TAGPMA F2F in La Plata City, Argentina November 6-8, 2008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indico.rnp.br/conferenceDisplay.py?confId=45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18 attendees (2 from EUGridPMA) + 3 remotely + 1 (Jens) by proxy </a:t>
            </a:r>
            <a:r>
              <a:rPr b="0" lang="en-GB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receded by UNLP Grid Open 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Including talk from Argentinean Science Minist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92360" y="1484280"/>
            <a:ext cx="51832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ANARIE – Canad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DOEGrids (ESNet)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EELA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Fermi National Accelerator Laboratory -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EBCA/USHER/Dartmouth College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IBDS (ANSP) -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WLCG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CSA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ERS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pen Science Grid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Purdue University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REUNA – Ch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San Diego Supercomputer 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Center 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SENAMHI – Per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TAC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eraGrid – USA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xas High Energy Grid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University of Virginia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FF –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LA – Venezuela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AM – Mexico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LP – Argentina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The image “http://www.lib.utexas.edu/maps/americas/americas_pol96.jpg” cannot be displayed, because it contains errors."/>
          <p:cNvPicPr/>
          <p:nvPr/>
        </p:nvPicPr>
        <p:blipFill>
          <a:blip r:embed="rId23"/>
          <a:stretch/>
        </p:blipFill>
        <p:spPr>
          <a:xfrm>
            <a:off x="108000" y="1341360"/>
            <a:ext cx="3429000" cy="5173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046920" y="5451480"/>
            <a:ext cx="2817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IGTF Accredited CA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Verdana"/>
              </a:rPr>
              <a:t>CA Accreditation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Interested in accred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lying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35280" y="1484280"/>
            <a:ext cx="5051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22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7(+2) IGTF Approved C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6 Classic, 2 SLCS, 1 M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Venezuela, NERSC - n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3 CAs pend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1 Classic, 1 SLCS, 1M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FNAL: CP/CPS approved, pending HSM install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lus 3 more in the wor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6 Relying Par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olombia expected to join 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The image “http://www.lib.utexas.edu/maps/americas/americas_pol96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108000" y="1341360"/>
            <a:ext cx="342900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Offic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lection held in July of 2008 – 1 year te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hai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Vinod Rebello (UFF – Brazi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Vice-Ch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Jim Marstellar (PSC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cret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argaret Murray (UT-Austin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rusted Introducer (nominat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ike Helm (ESNet/LBL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dministrative Chan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NARIE no longer hosting TAGPMA inf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Snet offered to stand in but undergoing services overhaul, i.e. some problems required ironing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-general, IGTF mailing lists are at ES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twiki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(s)://tagpma.es.net/wik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o host document history, tutorials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Web sit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www.tagpma.org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ublic face of TAGPMA, more static inform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oved to PSC and extensive overhaul is plan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lso plan to mirror the Nagios CA monitoring and IGTF CA distribution, not necessarily at PS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-private mailing list hosted out of PS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ncident Respon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one of the Accredited CAs were affected by the Debian 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OpenSSL vulnerability (CVE-2008-0166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However, there was significant fallout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atchy communications and delayed responses due in part 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A manager inexperience/turn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Poorly organized communication infra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leaned up existing mailing 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tup alternative dedicated mailing list with out-of-band commun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cure private directory of membership with alternative contact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LCS Profile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LCS Profile (Version 2.1.1, 15/01/2009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RL requi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ncludes comments from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inor changes from previously approved vers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On the wiki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tagpma.es.net/wiki/pub/Main/SLCS2/SLCS-2.1.1.pd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LCS Evaluation Spreadsheet [Thanks to Reimer and Shreyas] available on the TAGPMA wiki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tagpma.es.net/wiki/pub/Main/SLCSPro/SLCS-Review-2.1.xl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assic Prof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lassic Profile (Version 4.2, 8/10/2008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pproved by the TAGPMA at UNLP F2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Have some minor textual clarif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Dinner conversation perha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Updated Evaluation Spreadshee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hanks to Reim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I will makes some minor ed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ill add an updated operational review spreadshe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Vinod Rebello</dc:creator>
  <dc:description/>
  <dc:language>en-US</dc:language>
  <cp:lastModifiedBy>Vinod Rebello</cp:lastModifiedBy>
  <dcterms:modified xsi:type="dcterms:W3CDTF">2009-01-26T07:34:31Z</dcterms:modified>
  <cp:revision>84</cp:revision>
  <dc:subject>EUGridPMA Nicosia 2009</dc:subject>
  <dc:title>TAGPMA Updates</dc:title>
</cp:coreProperties>
</file>