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1411-DFA5-4FCD-BFBC-97C44CF95F3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899-C4CF-4F09-8F71-BF4E059033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A21-0272-48BF-BD5A-A59045C01E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78568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Nicos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6,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GridPMA Chair, AIST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updates since Lisbon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90792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GCA was approved as an IGTF Classic AP compliant CA. (Nov. 05, 2008)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luded in IGTF CA Distribution 1.26 (Dec. 1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GO/Netrust CA was temporary dropped off from the IGTF CA distribution. (1.26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need more time to re-configure the CA system to extend the lifetime of CRL to three day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rted the review of HKU Grid CA (Jan. 2009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NIC and IGCA are primary reviewer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ad a VTC (Jan. 17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members attend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pdates from member Ca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iscussions on how to implement sustainable review &amp; external audi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Venue of the next F2F mee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SGC issued a new root CA certificat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d signature algorithm from MD5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SHA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713880"/>
            <a:ext cx="51069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CA (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H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/Netrust (S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H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n conjunction with ISGC 2009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ct date is not yet fixed, but probably in the week of April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9-01-25T18:42:29Z</dcterms:modified>
  <cp:revision>75</cp:revision>
  <dc:subject/>
  <dc:title>International Grid Trust Federation Session  GGF 18 Washington, DC, USA</dc:title>
</cp:coreProperties>
</file>