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move the slide</a:t>
            </a:r>
            <a:endParaRPr b="0" lang="en-US" sz="3600" spc="-1" strike="noStrike">
              <a:solidFill>
                <a:srgbClr val="ff0000"/>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296B-EA93-4079-8BCB-621E477A26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2FC4-1A78-4A85-8B4D-F02C423EA0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E66D1-79C9-4324-9969-4264AEC7DC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7"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9CF79F34-C7FB-4B28-90E7-28F0B58DD9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0"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38139BF3-B92B-4E44-8969-0961A70CA2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5"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4EA7DB15-29EC-4218-923E-4043723583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F6D7DD-7BBD-4BD7-BA86-407DBFC0AD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48"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A33C0643-7C67-4A31-A20B-ED5F8FE461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0"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95AD5330-8039-4DB4-9462-FC9581B73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2"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991D26E8-880A-4BA3-80D7-97C9C654CF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2"/>
          </p:nvPr>
        </p:nvSpPr>
        <p:spPr/>
        <p:txBody>
          <a:bodyPr/>
          <a:p>
            <a:fld id="{13A3AEA4-D65B-455C-8642-2E1788AFA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p:txBody>
          <a:bodyPr/>
          <a:p>
            <a:fld id="{66B8DD68-14D7-40FB-A8B2-D678162BBB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7"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253CB519-94B2-4B82-9D3E-E237644CE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01486F2-19F4-42B0-8E5A-3AC8CA630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1"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15ADD880-56D2-4ED5-AF33-0D1286992C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82AECBDF-4DAC-4391-A61D-7688982176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9"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AD075804-0370-4E55-ADF6-11F68FBA10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2"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2"/>
          </p:nvPr>
        </p:nvSpPr>
        <p:spPr/>
        <p:txBody>
          <a:bodyPr/>
          <a:p>
            <a:fld id="{D062541B-13E9-4A44-9AD4-F81FE93C21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7"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2"/>
          </p:nvPr>
        </p:nvSpPr>
        <p:spPr/>
        <p:txBody>
          <a:bodyPr/>
          <a:p>
            <a:fld id="{2D437C50-186F-455B-A2D0-D97614AA3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8"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946D4BD-010A-4D86-9EF3-6D510DE55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0"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6F23EB34-26D6-41B4-A73D-988BB1EF5D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1"/>
          </p:nvPr>
        </p:nvSpPr>
        <p:spPr/>
        <p:txBody>
          <a:bodyPr/>
          <a:p>
            <a:fld id="{A3B9460F-FCE2-41E9-96B4-C946B6EBA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6F391D10-99B6-478C-AF43-1D3B533D6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31F0BCC-F87C-4AA8-8473-8FB0A56B89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9"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E459406A-6B46-487B-93ED-E7ED0EFEC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3"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E750918-CEA9-4A37-AAFD-44E3B0DE3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QV_border_qv"/>
          <p:cNvPicPr/>
          <p:nvPr/>
        </p:nvPicPr>
        <p:blipFill>
          <a:blip r:embed="rId2"/>
          <a:stretch/>
        </p:blipFill>
        <p:spPr>
          <a:xfrm>
            <a:off x="-14400" y="-14400"/>
            <a:ext cx="9158400" cy="6872400"/>
          </a:xfrm>
          <a:prstGeom prst="rect">
            <a:avLst/>
          </a:prstGeom>
          <a:ln w="0">
            <a:noFill/>
          </a:ln>
        </p:spPr>
      </p:pic>
      <p:sp>
        <p:nvSpPr>
          <p:cNvPr id="1"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2"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8686800" y="6552720"/>
            <a:ext cx="380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9A13-C4D7-4D03-BC6F-C5B5D3F3C144}"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pic>
        <p:nvPicPr>
          <p:cNvPr id="4" name="Picture 6" descr="QVlogo2008.jpg"/>
          <p:cNvPicPr/>
          <p:nvPr/>
        </p:nvPicPr>
        <p:blipFill>
          <a:blip r:embed="rId3"/>
          <a:stretch/>
        </p:blipFill>
        <p:spPr>
          <a:xfrm>
            <a:off x="358920" y="311040"/>
            <a:ext cx="25398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QV_border_qv"/>
          <p:cNvPicPr/>
          <p:nvPr/>
        </p:nvPicPr>
        <p:blipFill>
          <a:blip r:embed="rId2"/>
          <a:stretch/>
        </p:blipFill>
        <p:spPr>
          <a:xfrm>
            <a:off x="-14400" y="-14400"/>
            <a:ext cx="9158400" cy="6872400"/>
          </a:xfrm>
          <a:prstGeom prst="rect">
            <a:avLst/>
          </a:prstGeom>
          <a:ln w="0">
            <a:noFill/>
          </a:ln>
        </p:spPr>
      </p:pic>
      <p:pic>
        <p:nvPicPr>
          <p:cNvPr id="42" name="Picture 8" descr="QVlogo2008.jpg"/>
          <p:cNvPicPr/>
          <p:nvPr/>
        </p:nvPicPr>
        <p:blipFill>
          <a:blip r:embed="rId3"/>
          <a:stretch/>
        </p:blipFill>
        <p:spPr>
          <a:xfrm>
            <a:off x="339840" y="330120"/>
            <a:ext cx="2539800" cy="635040"/>
          </a:xfrm>
          <a:prstGeom prst="rect">
            <a:avLst/>
          </a:prstGeom>
          <a:ln w="0">
            <a:noFill/>
          </a:ln>
        </p:spPr>
      </p:pic>
      <p:pic>
        <p:nvPicPr>
          <p:cNvPr id="43" name="Picture 8" descr="Swissanchor.gif"/>
          <p:cNvPicPr/>
          <p:nvPr/>
        </p:nvPicPr>
        <p:blipFill>
          <a:blip r:embed="rId4"/>
          <a:stretch/>
        </p:blipFill>
        <p:spPr>
          <a:xfrm>
            <a:off x="1373040" y="1935000"/>
            <a:ext cx="6143760" cy="1791000"/>
          </a:xfrm>
          <a:prstGeom prst="rect">
            <a:avLst/>
          </a:prstGeom>
          <a:ln w="0">
            <a:noFill/>
          </a:ln>
        </p:spPr>
      </p:pic>
      <p:sp>
        <p:nvSpPr>
          <p:cNvPr id="44"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45"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6"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2B30-2E65-4D38-8EE5-2816857BF613}"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quovadisglobal.bm/~/media/Files/Files_Global/QV_webtrust_EV_2007.ashx" TargetMode="External"/><Relationship Id="rId4" Type="http://schemas.openxmlformats.org/officeDocument/2006/relationships/image" Target="../media/image6.png"/><Relationship Id="rId5" Type="http://schemas.openxmlformats.org/officeDocument/2006/relationships/hyperlink" Target="http://www.quovadisglobal.bm/~/media/Files/Files_Global/QV_ZertES_EN.ashx" TargetMode="External"/><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350960"/>
            <a:ext cx="6451560" cy="801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QuoVadis Group</a:t>
            </a:r>
            <a:endParaRPr b="0" lang="en-US" sz="3600" spc="-1" strike="noStrike">
              <a:solidFill>
                <a:srgbClr val="ff0000"/>
              </a:solidFill>
              <a:latin typeface="Tahoma"/>
            </a:endParaRPr>
          </a:p>
        </p:txBody>
      </p:sp>
      <p:sp>
        <p:nvSpPr>
          <p:cNvPr id="91" name="PlaceHolder 2"/>
          <p:cNvSpPr>
            <a:spLocks noGrp="1"/>
          </p:cNvSpPr>
          <p:nvPr>
            <p:ph type="subTitle"/>
          </p:nvPr>
        </p:nvSpPr>
        <p:spPr>
          <a:xfrm>
            <a:off x="1371600" y="5235480"/>
            <a:ext cx="6400800" cy="4032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view for EUGridP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Netherlands Qualified Certification Services Provider</a:t>
            </a:r>
            <a:endParaRPr b="0" lang="en-US" sz="3100" spc="-1" strike="noStrike">
              <a:solidFill>
                <a:srgbClr val="ff0000"/>
              </a:solidFill>
              <a:latin typeface="Tahoma"/>
            </a:endParaRPr>
          </a:p>
        </p:txBody>
      </p:sp>
      <p:sp>
        <p:nvSpPr>
          <p:cNvPr id="121"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is certified by BSI for compliance with the TTP.NL Scheme for Certification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TTP.NL initiative is based on the European Directive for electronic signatures and the European standard ETSI TS 101 456.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nnual audit is performed by KPMG for BSI.</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22" name="Picture 9" descr="QuoVadis BSI seal ETS 010 for Dutch CSP"/>
          <p:cNvPicPr/>
          <p:nvPr/>
        </p:nvPicPr>
        <p:blipFill>
          <a:blip r:embed="rId1"/>
          <a:srcRect l="0" t="0" r="0" b="21352"/>
          <a:stretch/>
        </p:blipFill>
        <p:spPr>
          <a:xfrm>
            <a:off x="7962840" y="2619360"/>
            <a:ext cx="669960" cy="741240"/>
          </a:xfrm>
          <a:prstGeom prst="rect">
            <a:avLst/>
          </a:prstGeom>
          <a:ln w="0">
            <a:noFill/>
          </a:ln>
        </p:spPr>
      </p:pic>
      <p:sp>
        <p:nvSpPr>
          <p:cNvPr id="123" name="Title 1"/>
          <p:cNvSpPr/>
          <p:nvPr/>
        </p:nvSpPr>
        <p:spPr>
          <a:xfrm>
            <a:off x="235080" y="3340080"/>
            <a:ext cx="8762760" cy="71748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Bermuda Authorised Certification Services Provider</a:t>
            </a:r>
            <a:endParaRPr b="0" lang="en-US" sz="3100" spc="-1" strike="noStrike">
              <a:solidFill>
                <a:srgbClr val="000000"/>
              </a:solidFill>
              <a:latin typeface="Arial"/>
            </a:endParaRPr>
          </a:p>
        </p:txBody>
      </p:sp>
      <p:sp>
        <p:nvSpPr>
          <p:cNvPr id="124" name="Content Placeholder 2"/>
          <p:cNvSpPr/>
          <p:nvPr/>
        </p:nvSpPr>
        <p:spPr>
          <a:xfrm>
            <a:off x="457200" y="3981600"/>
            <a:ext cx="8229600" cy="22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Bermuda Authorised Certification Services Provider accreditation is granted by the Ministry of Energy, Telecommunications and E-Commerce.</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SP standard includes elements of ISO 17799 (Code of Practice for Information Security Management), EESSI (European Electronic Signature Standardisation Initiative), and WebTrust for CAs.</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ccreditation is based on an external review defined in the Bermuda Electronic Transactions Act.  This review was performed by Ernst &amp; Young.</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ccreditation requires biennial certification by the Government.</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http://www.quovadisglobal.bm/~/media/Images/CompanyLogos/logo%20bermudaCSP.ashx"/>
          <p:cNvPicPr/>
          <p:nvPr/>
        </p:nvPicPr>
        <p:blipFill>
          <a:blip r:embed="rId2"/>
          <a:stretch/>
        </p:blipFill>
        <p:spPr>
          <a:xfrm>
            <a:off x="8028000" y="5537160"/>
            <a:ext cx="549360" cy="102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QuoVadis Secure Data Centre - Bermuda</a:t>
            </a:r>
            <a:endParaRPr b="0" lang="en-US" sz="3100" spc="-1" strike="noStrike">
              <a:solidFill>
                <a:srgbClr val="ff0000"/>
              </a:solidFill>
              <a:latin typeface="Tahoma"/>
            </a:endParaRPr>
          </a:p>
        </p:txBody>
      </p:sp>
      <p:sp>
        <p:nvSpPr>
          <p:cNvPr id="12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QuoVadis Secure Data Centre in Bermuda is a Lampertz SYS-DATA IT Security room that meets a number of international standard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is a “stand alone” security room with a modular construction with tested wall, ceiling and floor element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oom is designed to offer protection against fire, humidity, magnetic influences, unauthorized access, explosions, falling debris and radiation.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meets a number of international standards, including:</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S/EN1047-2:2000 - the British Standard relating to data centres. The standard includes classification and methods of test for resistance to fir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ire protection – meets DIN 4102 F90 fire protection standard (withstand a fire lasting 90 minutes from inside and outsid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moke Proof – meets the DIN 18095 smoke protection standar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ightness against water and dust  – meets the IP55 EN 60529 standard relating to the sealing against intrusion from foreign bodies  </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urglar protection – the door system meets the DIN 18103 standard (ET2)</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napshot</a:t>
            </a:r>
            <a:endParaRPr b="0" lang="en-US" sz="3600" spc="-1" strike="noStrike">
              <a:solidFill>
                <a:srgbClr val="ff0000"/>
              </a:solidFill>
              <a:latin typeface="Tahoma"/>
            </a:endParaRPr>
          </a:p>
        </p:txBody>
      </p:sp>
      <p:sp>
        <p:nvSpPr>
          <p:cNvPr id="93"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st/Link certificate services for the global enterpris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certificates including End User, Qualified, SSL (including Extended Validation) etc.</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PKI (dedicated or share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signatures and related technolog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ffices in Switzerland, UK, Holland, Bermuda, and New Zealand</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cus on acceptance by relying part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dits and accreditat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de distribution of roots in OS and Browser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Root Distribution</a:t>
            </a:r>
            <a:endParaRPr b="0" lang="en-US" sz="3600" spc="-1" strike="noStrike">
              <a:solidFill>
                <a:srgbClr val="ff0000"/>
              </a:solidFill>
              <a:latin typeface="Tahoma"/>
            </a:endParaRPr>
          </a:p>
        </p:txBody>
      </p:sp>
      <p:sp>
        <p:nvSpPr>
          <p:cNvPr id="95" name=""/>
          <p:cNvSpPr txBox="1"/>
          <p:nvPr/>
        </p:nvSpPr>
        <p:spPr>
          <a:xfrm>
            <a:off x="45720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owser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Internet Explorer 5.0+ (including Maxthon and othe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Firefox 1.02+ (including Camino, Fennec, and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 9.26+ (including Opera Min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ari 1.0+  (including mobile Safar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Chrom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queror and K-Meleon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erating System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Windows X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OS/X+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4+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D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6" name=""/>
          <p:cNvSpPr txBox="1"/>
          <p:nvPr/>
        </p:nvSpPr>
        <p:spPr>
          <a:xfrm>
            <a:off x="464832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 Client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Mail.ap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udora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ntourag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Expres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Thunderbird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Mail (part of Core Applications)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ther</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 array of OSS applications that use the Mozilla Network Security Services (NSS) libraries 3.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QuoVadis Services</a:t>
            </a:r>
            <a:endParaRPr b="0" lang="en-US" sz="3600" spc="-1" strike="noStrike">
              <a:solidFill>
                <a:srgbClr val="ff0000"/>
              </a:solidFill>
              <a:latin typeface="Tahoma"/>
            </a:endParaRPr>
          </a:p>
        </p:txBody>
      </p:sp>
      <p:sp>
        <p:nvSpPr>
          <p:cNvPr id="9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aged PK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certificates, including Qualified and Advanced certificates, as well as various functional certificates for compliance in Switzerland, Netherlands, UK, and Bermuda. We also provide SSL including the new Extended Validation SSL.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tsourced certification authorities (CA) that can be tailored to the particular needs of a client or communit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pid-deployment Trust/Link registration authority (RA) web portals for easy issuance for both End User and SSL certificat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igning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usted time-stamping to reinforce data integrity and non-repudiation in the tracking, storage/archive, or submission of electronic record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signing tools (both client and server sid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ot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hosting for organisations wishing to set up their own trust ancho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signing enhances the trust and recognition of customers’ in-house CA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PKI professional services team is skilled in PKI policy, technologies, and integration into customer environmen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ummary of our Audits and Accreditations</a:t>
            </a:r>
            <a:endParaRPr b="0" lang="en-US" sz="3600" spc="-1" strike="noStrike">
              <a:solidFill>
                <a:srgbClr val="ff0000"/>
              </a:solidFill>
              <a:latin typeface="Tahoma"/>
            </a:endParaRPr>
          </a:p>
        </p:txBody>
      </p:sp>
      <p:sp>
        <p:nvSpPr>
          <p:cNvPr id="100"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ccreditations maintained by QuoVadis include:</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ertification Authorities</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Extended Validation</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wis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etherland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ermuda Authorised Certification Services Provider</a:t>
            </a: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1" name="Picture 2" descr="http://www.quovadisglobal.bm/~/media/Images/CompanyLogos/logo%20bermudaCSP.ashx"/>
          <p:cNvPicPr/>
          <p:nvPr/>
        </p:nvPicPr>
        <p:blipFill>
          <a:blip r:embed="rId1"/>
          <a:stretch/>
        </p:blipFill>
        <p:spPr>
          <a:xfrm>
            <a:off x="7550280" y="5557680"/>
            <a:ext cx="453960" cy="839880"/>
          </a:xfrm>
          <a:prstGeom prst="rect">
            <a:avLst/>
          </a:prstGeom>
          <a:ln w="0">
            <a:noFill/>
          </a:ln>
        </p:spPr>
      </p:pic>
      <p:pic>
        <p:nvPicPr>
          <p:cNvPr id="102" name="Picture 3" descr="http://www.quovadisglobal.bm/~/media/Images/CompanyLogos/WebTrust%20CA.ashx"/>
          <p:cNvPicPr/>
          <p:nvPr/>
        </p:nvPicPr>
        <p:blipFill>
          <a:blip r:embed="rId2"/>
          <a:stretch/>
        </p:blipFill>
        <p:spPr>
          <a:xfrm>
            <a:off x="2576520" y="5557680"/>
            <a:ext cx="668160" cy="824040"/>
          </a:xfrm>
          <a:prstGeom prst="rect">
            <a:avLst/>
          </a:prstGeom>
          <a:ln w="0">
            <a:noFill/>
          </a:ln>
        </p:spPr>
      </p:pic>
      <p:pic>
        <p:nvPicPr>
          <p:cNvPr id="103" name="Picture 5" descr="http://www.quovadisglobal.bm/~/media/Images/CompanyLogos/WebTrustEV.ashx">
            <a:hlinkClick r:id="rId3"/>
          </p:cNvPr>
          <p:cNvPicPr/>
          <p:nvPr/>
        </p:nvPicPr>
        <p:blipFill>
          <a:blip r:embed="rId4"/>
          <a:stretch/>
        </p:blipFill>
        <p:spPr>
          <a:xfrm>
            <a:off x="4259160" y="5556240"/>
            <a:ext cx="668520" cy="804960"/>
          </a:xfrm>
          <a:prstGeom prst="rect">
            <a:avLst/>
          </a:prstGeom>
          <a:ln w="0">
            <a:noFill/>
          </a:ln>
        </p:spPr>
      </p:pic>
      <p:pic>
        <p:nvPicPr>
          <p:cNvPr id="104" name="Picture 7" descr="http://www.quovadisglobal.bm/~/media/Images/CompanyLogos/logo%20swissCSP.ashx">
            <a:hlinkClick r:id="rId5"/>
          </p:cNvPr>
          <p:cNvPicPr/>
          <p:nvPr/>
        </p:nvPicPr>
        <p:blipFill>
          <a:blip r:embed="rId6"/>
          <a:stretch/>
        </p:blipFill>
        <p:spPr>
          <a:xfrm>
            <a:off x="1035000" y="5557680"/>
            <a:ext cx="544680" cy="860760"/>
          </a:xfrm>
          <a:prstGeom prst="rect">
            <a:avLst/>
          </a:prstGeom>
          <a:ln w="0">
            <a:noFill/>
          </a:ln>
        </p:spPr>
      </p:pic>
      <p:pic>
        <p:nvPicPr>
          <p:cNvPr id="105" name="Picture 9" descr="QuoVadis BSI seal ETS 010 for Dutch CSP"/>
          <p:cNvPicPr/>
          <p:nvPr/>
        </p:nvPicPr>
        <p:blipFill>
          <a:blip r:embed="rId7"/>
          <a:stretch/>
        </p:blipFill>
        <p:spPr>
          <a:xfrm>
            <a:off x="5943600" y="5557680"/>
            <a:ext cx="622440" cy="87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0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As is the dominant commercial standard to assess CA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a:t>
            </a:r>
            <a:r>
              <a:rPr b="0" lang="en-GB" sz="1500" spc="-1" strike="noStrike">
                <a:solidFill>
                  <a:srgbClr val="000000"/>
                </a:solidFill>
                <a:latin typeface="Calibri"/>
              </a:rPr>
              <a:t>jointly by the American Institute of Certified Public Accountants (AICPA) and the Canadian Institute of Chartered Accountants (CICA).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audit of QuoVadis is performed by Ernst &amp; Youn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 obtain and retain the WebTrust seal, the CA must meet all the WebTrust for CAs Principles and Criteria.</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every WebTrust engagement</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vice Integrity</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Environmental Controls</a:t>
            </a: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8" name="Picture 3" descr="http://www.quovadisglobal.bm/~/media/Images/CompanyLogos/WebTrust%20CA.ashx"/>
          <p:cNvPicPr/>
          <p:nvPr/>
        </p:nvPicPr>
        <p:blipFill>
          <a:blip r:embed="rId1"/>
          <a:stretch/>
        </p:blipFill>
        <p:spPr>
          <a:xfrm>
            <a:off x="7816680" y="5288040"/>
            <a:ext cx="873360" cy="107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10" name=""/>
          <p:cNvSpPr txBox="1"/>
          <p:nvPr/>
        </p:nvSpPr>
        <p:spPr>
          <a:xfrm>
            <a:off x="457200" y="2028960"/>
            <a:ext cx="8229600" cy="4419360"/>
          </a:xfrm>
          <a:prstGeom prst="rect">
            <a:avLst/>
          </a:prstGeom>
          <a:noFill/>
          <a:ln w="0">
            <a:noFill/>
          </a:ln>
        </p:spPr>
        <p:txBody>
          <a:bodyPr anchor="t">
            <a:normAutofit/>
          </a:bodyPr>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Service Integrity</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Environmental Controls</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1" name="Picture 3" descr="http://www.quovadisglobal.bm/~/media/Images/CompanyLogos/WebTrust%20CA.ashx"/>
          <p:cNvPicPr/>
          <p:nvPr/>
        </p:nvPicPr>
        <p:blipFill>
          <a:blip r:embed="rId1"/>
          <a:stretch/>
        </p:blipFill>
        <p:spPr>
          <a:xfrm>
            <a:off x="7816680" y="5337000"/>
            <a:ext cx="873360" cy="1078200"/>
          </a:xfrm>
          <a:prstGeom prst="rect">
            <a:avLst/>
          </a:prstGeom>
          <a:ln w="0">
            <a:noFill/>
          </a:ln>
        </p:spPr>
      </p:pic>
      <p:pic>
        <p:nvPicPr>
          <p:cNvPr id="112" name="Object 4" descr=""/>
          <p:cNvPicPr/>
          <p:nvPr/>
        </p:nvPicPr>
        <p:blipFill>
          <a:blip r:embed="rId2"/>
          <a:stretch/>
        </p:blipFill>
        <p:spPr>
          <a:xfrm>
            <a:off x="942840" y="2681280"/>
            <a:ext cx="8556840" cy="1682640"/>
          </a:xfrm>
          <a:prstGeom prst="rect">
            <a:avLst/>
          </a:prstGeom>
          <a:ln w="0">
            <a:noFill/>
          </a:ln>
        </p:spPr>
      </p:pic>
      <p:pic>
        <p:nvPicPr>
          <p:cNvPr id="113" name="Object 5" descr=""/>
          <p:cNvPicPr/>
          <p:nvPr/>
        </p:nvPicPr>
        <p:blipFill>
          <a:blip r:embed="rId3"/>
          <a:stretch/>
        </p:blipFill>
        <p:spPr>
          <a:xfrm>
            <a:off x="942840" y="4578480"/>
            <a:ext cx="854712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a:t>
            </a:r>
            <a:r>
              <a:rPr b="0" lang="en-GB" sz="3600" spc="-1" strike="noStrike">
                <a:solidFill>
                  <a:srgbClr val="ff0000"/>
                </a:solidFill>
                <a:latin typeface="Calibri"/>
              </a:rPr>
              <a:t>Extended Validation</a:t>
            </a:r>
            <a:endParaRPr b="0" lang="en-US" sz="3600" spc="-1" strike="noStrike">
              <a:solidFill>
                <a:srgbClr val="ff0000"/>
              </a:solidFill>
              <a:latin typeface="Tahoma"/>
            </a:endParaRPr>
          </a:p>
        </p:txBody>
      </p:sp>
      <p:sp>
        <p:nvSpPr>
          <p:cNvPr id="115"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bTrust for Extended Validation (EV) is used to assess a CA’s controls against the CA/B Forum “Guidelines for the Issuance and Management of EV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suitably accredited CAs may issue EV SSL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for EV audit of QuoVadis is performed by Ernst &amp; Young.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udit tests whether QuoVadis has maintained effective controls to provide reasonable assurance tha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V Subscriber information was properly collected, authenticated (for the registration activities performed by QuoVadis) and verified, an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integrity of keys and EV certificates QuoVadis manages is established and protected throughout their lifecycl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6" name="Picture 5" descr="http://www.quovadisglobal.bm/~/media/Images/CompanyLogos/WebTrustEV.ashx"/>
          <p:cNvPicPr/>
          <p:nvPr/>
        </p:nvPicPr>
        <p:blipFill>
          <a:blip r:embed="rId1"/>
          <a:stretch/>
        </p:blipFill>
        <p:spPr>
          <a:xfrm>
            <a:off x="7810560" y="5342040"/>
            <a:ext cx="874800" cy="105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76200"/>
            <a:ext cx="822960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Swiss Qualified Certification Services Provider</a:t>
            </a:r>
            <a:endParaRPr b="0" lang="en-US" sz="3100" spc="-1" strike="noStrike">
              <a:solidFill>
                <a:srgbClr val="ff0000"/>
              </a:solidFill>
              <a:latin typeface="Tahoma"/>
            </a:endParaRPr>
          </a:p>
        </p:txBody>
      </p:sp>
      <p:sp>
        <p:nvSpPr>
          <p:cNvPr id="11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is the Swiss digital signature law.</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accreditation is granted by the Swiss Accreditation Service (SAS) and the Swiss Federal Office of Communications (BAKOM) based on an audit by KPM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are audited against the requirements of Swiss law and on ETSI standards for Qualified Certification Service Providers and Time Stamping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the audi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ertification Service Provider (CSP) requirements of ZertES and the accompanying VZertES regulatory provis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Time Stamping Authorities (TSA) based on ETSI TS 102.023 and ETSI TS 101.861</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Qualified Electronic Signatures according to ETSI TS 101.456, ETSI TS 101.862 and SR943.032.1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9" name="Picture 7" descr="http://www.quovadisglobal.bm/~/media/Images/CompanyLogos/logo%20swissCSP.ashx"/>
          <p:cNvPicPr/>
          <p:nvPr/>
        </p:nvPicPr>
        <p:blipFill>
          <a:blip r:embed="rId1"/>
          <a:stretch/>
        </p:blipFill>
        <p:spPr>
          <a:xfrm>
            <a:off x="8001000" y="5245200"/>
            <a:ext cx="7128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3:09:53Z</dcterms:created>
  <dc:creator>EVC</dc:creator>
  <dc:description/>
  <dc:language>en-US</dc:language>
  <cp:lastModifiedBy>bkilborn</cp:lastModifiedBy>
  <dcterms:modified xsi:type="dcterms:W3CDTF">2009-01-23T20:15:06Z</dcterms:modified>
  <cp:revision>182</cp:revision>
  <dc:subject/>
  <dc:title>Slide 1</dc:title>
</cp:coreProperties>
</file>