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53BF3E0-1B37-49A1-AE0B-878D9F1D8C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0BCC619-7249-4567-B35B-6051725CA9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CFD104EB-15B8-485B-B4F4-8BBA52FB4F0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B9A6EA19-6F1C-4309-92EA-865D07FB436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2863207E-57B4-4934-A48A-EB2FB5445C1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5EA27DF3-E3B9-47C6-8C53-1C9FF7F24B2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BD7B4C20-3BE2-482B-BBCB-EFC957EB279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A7CDE319-A9FA-4CDE-BA0B-795DAFAD1F0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F5407133-DD48-4547-B32C-5E83BDA0C95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A015CA74-098A-4B43-987E-052CE00CFBA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E24F0F27-BFEC-4B76-980F-7FB5851357C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6880AC83-467F-4B8B-A124-EA587B396D7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2A8AA9AB-5586-48E6-B260-68125538280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5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6-28, 2009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Nicosia, Cypru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4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lcome to Cypru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6" name="Picture 5" descr="C:\Users\davidg\AppData\Local\Temp\cslogo.gif"/>
          <p:cNvPicPr/>
          <p:nvPr/>
        </p:nvPicPr>
        <p:blipFill>
          <a:blip r:embed="rId1"/>
          <a:stretch/>
        </p:blipFill>
        <p:spPr>
          <a:xfrm>
            <a:off x="601560" y="1357200"/>
            <a:ext cx="4829400" cy="11210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469800" y="2881440"/>
            <a:ext cx="488484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0" y="1076040"/>
            <a:ext cx="914400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Monday 26 09:30 – 17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Welcome, agenda, minutes last meeting, note taker, introd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3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ound-table upd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from the APGridPMA (Yoshio Tanak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from the TAGPMA (Vinod Rebell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GTF Risk Assessment Team report: MD5, (EC)DSA (EE) keys, cable severance (TB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fficiently querying CAs for signing processes, issued certs, &amp;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 CAs verify the incoming requests for san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exponent &gt;=65537, known-weak keys, MD5,EC/DS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igration of Root certs and CRLs to SHA-1, and the implementation of SHA-256+ in M/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RL issues: web caching and alternate download locations (David Groe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DFN SLCS Service (Reimer Karlsen-Masu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3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4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NetherNordic integrated SLCS-MICS Service (Jan Meijer, Teun Nijss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new SWITCH PKI (Alessando Usai): review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tephen Davidson (QuoVadis): Policy and Practices in the SWITCH PKI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1155240"/>
            <a:ext cx="914400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Tuesday 27 09:30 – 17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 audit report-outs: PK-grid 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audit report-outs: GridK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on almost- and recently accredited CAs: RENAM, CALC, BY-Gr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d to the Profiles following the SLCS/MICS influ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First approve pending MICS prof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uthorization Working Group  report-out (David Kelse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3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4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audit report: NIIF (Tam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Jens’ soap boxes Ltd. (Jens Jens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ealing with certificates with different status (AA signing, life-critical MD EEC, etc)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AOPS Working Group (Christos Kanellopoulos, Yoshio Tanak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lying Part Defined Namespace constraints – WG last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 and change status of GFD.1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2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resentation of the Next Meeting (Zurich, May 20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3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1163880"/>
            <a:ext cx="91440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81bd"/>
                </a:solidFill>
                <a:latin typeface="Cambria"/>
                <a:ea typeface="Times New Roman"/>
              </a:rPr>
              <a:t>Wednesday 28 09:30 – 15: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haring Common Software? Towards a repository of references to ‘useful stuff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4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FD.125 compliance testing tools and demonstrations (David O’Callagh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1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1.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lf audit report-outs: BalticGrid CA (Hard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GP and Thawte-WoT signing party (please bring pre-filled forms and ID photocopi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2.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4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igning policy semantics: Does The Issuer Need To Be In The Allowed Subject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4.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ending issues and other bus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n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? Please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nutes from last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Christos and David OC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roun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Videoconferenc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For direct connections (not using the GDS), enter the conference number using the key pad using the far-end controls, and confirm with the "#" key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The conference will not show up in the main menu, AFAIK. </a:t>
            </a:r>
            <a:br>
              <a:rPr sz="1600"/>
            </a:b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Different numbers each day, but NO need to register equipment beforehand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l day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CU name mcu.surfnet.nl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CU IP 192.87.102.23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Mond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1 Start Mon, 26.01.2009 07:00 (UTC) Duration 10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3667316 Conf no 3667316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Tuesday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2 Start Tue, 27.01.2009 07:00 (UTC) Duration 10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8215000 Conf no 8215000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Wednesd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3 Start Wed, 28.01.2009 07:00 (UTC) Duration 09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2205160 Conf no 2205160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9-01-25T21:48:05Z</dcterms:modified>
  <cp:revision>477</cp:revision>
  <dc:subject/>
  <dc:title>European Grid Policy Management Authority</dc:title>
</cp:coreProperties>
</file>