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6BD3-A308-4DA0-B06B-F4C1550891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8E43-9F17-4433-B3A1-B6180C5CFC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86A7-C267-4E00-9AA5-B3AC24D27F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845F-EA26-47F5-9E86-34DE56DA1E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A18E-1DDB-4931-85D3-A80FA283E9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79E4-3804-49B4-A1A4-BF82B4BF1C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285E-0D54-40BE-B779-F9C10771F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D0F1-CB0E-4803-8CCA-1689158057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A480-87A9-41A7-A7D9-5D011C46BF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A3C2-8DB9-42CB-903E-9BC0449276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FD13-9028-4896-AB8F-2E017611C0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6AB5-3EFE-4055-B41A-F00B8FC0B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142200" tIns="50760" bIns="50760" anchor="t">
            <a:normAutofit fontScale="12000"/>
          </a:bodyPr>
          <a:p>
            <a:pPr marL="46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2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360" indent="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0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51296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2D6E-D37C-4B67-BD9E-ABE03FDF6544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2"/>
          <p:cNvGrpSpPr/>
          <p:nvPr/>
        </p:nvGrpSpPr>
        <p:grpSpPr>
          <a:xfrm>
            <a:off x="0" y="1066680"/>
            <a:ext cx="9144000" cy="76320"/>
            <a:chOff x="0" y="1066680"/>
            <a:chExt cx="9144000" cy="76320"/>
          </a:xfrm>
        </p:grpSpPr>
        <p:sp>
          <p:nvSpPr>
            <p:cNvPr id="41" name="Rectangle 3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solidFill>
              <a:srgbClr val="5da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11160">
              <a:spcBef>
                <a:spcPts val="700"/>
              </a:spcBef>
              <a:buClr>
                <a:srgbClr val="176d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forge.gridforum.org/sf/go/doc4856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65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ristos Kanellopo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28920" y="4505400"/>
            <a:ext cx="3936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GridPMA, Lisbon,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94C2-7152-4BF8-BFCD-C291F2F23091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433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ge.gridforum.org/sf/go/doc4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3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344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the docu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for defining an Authentication Service Profile that can be used by IdPs to provide compliant Authentic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344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an Authentication Service Pro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uthentication Service Profile provides a way for Grid Relying Parties (RP) to be able to identify and compare Authentication Services provided by Identity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dP can provide Authentication Services based upon one or more Authentication Service Profi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1707-F5AE-40C3-96B5-02935CA66098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5431-5CB6-4433-9796-98114AA06EDE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ho is responsible for the service and change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the community that will be served by the Authenticatio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the scope of th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ystem architecture used to build the authentication service used by the Identity provider. How does the customer and management interface to the 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uthentication Service must describe how identity is managed and communicated in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uthentication service must define Identity vetting rules, what each user does to prove the identity of the user, host or service identified as part of an organiz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ty revocation: how a person or system is removed from the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a special Acceptable Use Policy that appl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73CA-5EFA-4C35-9262-D3CCC4BB1320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11F8-BC86-4B76-848D-A2500C22532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for the authentication service: is 24/7 support or no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uble ticket report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request and general customer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 contact information, problem reporting/resolution proced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y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ach authentication service used by the identity service provider describe the: Software, network, server and physical security at the site of the authentication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describe: procedural controls, personnel security controls. Life cycle for security controls - How do you update/change security controls and keep the community inform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Security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nformation must published and maintain by the Authenticatio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long information must be maintain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rights to read or use th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D282-FF0C-422D-918A-EB26290B424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03E-CE49-47E5-ACB1-51837A757F79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liability or warranties are supported by the service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ncial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pay for the serv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 financial responsibilities to your mem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udit each authentication service for compliance to your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conduct self audits or member audits or open to external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,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your privacy rules, IP polici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omise and Disaster rec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handle exposed shared secrets or other compromised secre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facilities are in place to rebuild the service in the case of a disas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long would the service be out of commission if the service is compromised or damag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6E1A-DA9F-4C81-B88B-9513F603876D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6:09:53Z</dcterms:created>
  <dc:creator>David Groep</dc:creator>
  <dc:description/>
  <cp:keywords/>
  <dc:language>en-US</dc:language>
  <cp:lastModifiedBy>Christos Kanellopoulos</cp:lastModifiedBy>
  <dcterms:modified xsi:type="dcterms:W3CDTF">2008-10-07T12:16:17Z</dcterms:modified>
  <cp:revision>186</cp:revision>
  <dc:subject/>
  <dc:title>Security Area Review December 2006</dc:title>
</cp:coreProperties>
</file>