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0B8B096-9FF4-43AE-B84D-405631E45D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1B95AE4-9D71-4AE2-ABD4-2E91240669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A16EC0AB-F4D3-43A6-B295-8A0B1CDA414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00D81DEC-9E17-4951-8FD4-8BF9D481A2C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78548097-90AD-4183-A1B4-783CEA86D9D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FFA2860-87AB-4847-B44F-1A6AA4CC27D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2C1001A7-FB83-4676-9674-C0E70907136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39DE9C8A-1C08-469D-B208-425AC4C8579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81BA2FB5-11F8-49EA-B457-7FD683F6C80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BBD4C2BF-DF27-4F93-9AA9-627E126F3EA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8E1F8DED-607B-49C9-825B-FB2F676362A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59F4F80-1C53-43DC-90D2-6E5E460E2C0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187CE52-CA3B-4894-9ABA-C85E4D8AEAF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GFD.125 AND POLICY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OMPLIANCE TESTING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/Issuer certificate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ame uniqueness (openssl x509 –subjec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RDN component ordering (openssl asn1parse –dum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Version: must be v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asicConstraints: critical? CA:FALSE? (openssl x509 –tex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only certSign, cRLSig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DP (if present) has http URL in URI attribut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Validity period: between 3 and 20 years, warn if &lt;1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gnatureAlgorithm: must be SHA-1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/Issuer certificate other chec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olicy OIDs (should not be presen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KU: check for weird attribu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rial number: warn if 0, error if &lt;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update: Did serial number chang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 in client cer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E cert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the namespace unique? Does it match the meta-data?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(openssl x509 –subjec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the RDN ordering correct (openssl asn1parse –dum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asicConstraints: critical, CA:FAL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no serverAuth in personal cer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KU: does it match any netscape attribute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KI: contains only keyID, error if name or serial detect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sCertType: matches eKU if pres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DP: must be included and must return DER C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E cert other chec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 no nonRepudiation &amp;c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C naming, matching registered WHOIS contac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 in meta-dat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is htt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yields a CRL issued by the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can sustain 4Hz reques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 validity is &gt; 7 days (warn if &gt;3days, manual if &gt;31 days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mail: address does not bou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ias is reasonable representation of CA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ias matches [A-Za-z][-A-Za-z0-9]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_url if present: gets CA cert, warn if miss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rl: leads to non-empty html or text pag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tatus: matches accredit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Next?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ho is willing to write the utility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 can do it, but then it will take a while, I think 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3:33Z</dcterms:modified>
  <cp:revision>469</cp:revision>
  <dc:subject/>
  <dc:title>European Grid Policy Management Authority</dc:title>
</cp:coreProperties>
</file>