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6873-D965-4673-A0A2-54E1C4A90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B8E8-D845-4614-B4DE-9DCD7C708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6A6C-ACE0-4468-9541-525EB4E28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D57B-6CB3-45B2-857C-18D9FC756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98EE-21B7-4309-A767-7A7E39946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F5EE-1598-4DB5-A9F8-AFF0378AC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44EA-BECB-48F0-9B61-631D1D0E3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43D1-EE4A-4E7E-82D4-EA69270BA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8F22-4E0D-4FE6-AE6B-5F0811A2C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5F30-77BB-488E-B8FA-6D213578E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FA32-C663-4A8A-801F-6397505B7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04DE-E172-4EE9-90E6-58EFD35CD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648-F79E-4502-965B-227697662598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3.6.1.4.1.8024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2.840.113612.5.2.2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S Web Server Authentication, 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S:server.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D154-8F1D-4632-9FC0-99FA3782AD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Issuing CA Certificate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ial Number: 13 (0x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suer: C=BM, O=QuoVadis Limited, CN=QuoVadis Root Certification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Before: Aug 26 17:01:51 200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After : Aug 24 17:01:51 201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: C=BM, O=QuoVadis Limited, CN=QuoVadis Grid Issuing 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or ICA?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80C7-9510-43B7-B023-6D12D42D8A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Basic Constraints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: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e Sign, CRL 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id:AD:0B:3E:70:61:2D:D2:8F:F0:E7:4F:DD:1D:DF:F1:32:70:CD:D6: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:E6:13:39:8B:3A:41:66:EA:40:C1:0B:81:CE:10:F7:DA:71:74:B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:http://crl.quovadisglobal.com/qvrca.c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 Issuers - URI:http://trust.quovadisglobal.com/qvrca.c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22A8-63D2-49B1-8176-160D7F5B6F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Switch Requirements/feedback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lifetime of at least ten years for the Issuing 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Entities and Server certificates lifetime of no more than 13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further certificate policies extension for the Issuing CA certificate must not  include a 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mediate certificate with a key longer than 2048 bits (CA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ing CA CRL lifetime will be of at least 7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CSP (online certificate status protocol)  responder URI in the Grid certificates, at least initi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A8CB-F192-4ABA-A15A-1C1518538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34360" cy="74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change?</a:t>
            </a:r>
            <a:endParaRPr b="1" lang="en-US" sz="38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ssSign hierarchy cumbersome e.g. we will not need a safe in a bank anymore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hassle as we will NOT have the email field in the certificates D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886200"/>
            <a:ext cx="50292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LCS CA is not affected by the transi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s management will remain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680" y="2971800"/>
            <a:ext cx="490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not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D200-0F9A-49C1-9AAA-4CDE718A9D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5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47d"/>
                </a:solidFill>
                <a:latin typeface="Arial"/>
              </a:rPr>
              <a:t>QuoVadis timeline</a:t>
            </a:r>
            <a:endParaRPr b="1" lang="en-US" sz="45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oVadis CP/CPS and Issuing 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rocess for the Issuing CA and update of the CP/CPS will be roughly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ft of the initial proposed updates to the CP/CPS over the next few week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greement with QuoVadis on the technical specifications for the issuing CA and the end user/device certificates (this includes OIDs et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ild of the issuing CA and first tests:  as an estimate the issuing CA should be able to be built by the end of the yea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al updates to the CP/CPS and formal approve by the QuoVadis PMA (dependent on the building of the issuing CA, but quick in princi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mission of the CP/CPS for approval by the EUGridP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1A14-80DA-411C-8EF2-CFF4B3774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EUGridPMA Accreditation Timeline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start with the current CP/CPS review?Any volunteers for the review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real review when the CP/CPS document is approved by QuoVa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 would like to be accredited by May 2009 the latest in Zurich, but if possible by January 2009 at the EUGridPMA meeting in Cypr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representative of QuoVadis might attend the meeting in Cyprus, if this is deemed usef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0C83-C4EA-4E68-92E0-2F423FDFAA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was founded in 1999 with backing from a venture capital affiliate of the Zurich Financial Services Group. The company later underwent a management buyout and subsequent private equity investment from ABRY Part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Vadis is a member of the CA/Browser Forum, and contributed to the creation of standards for the Extended Validation Certificate.QuoVadis is based in Berm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offices in Switzerland, UK, Holland, New Zealand;they will also open a second data centre in Zurich in November this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61D0-1269-43F8-ABA7-27B214556D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247d"/>
                </a:solidFill>
                <a:latin typeface="Arial"/>
              </a:rPr>
              <a:t>QuoVadis current business profile</a:t>
            </a:r>
            <a:endParaRPr b="1" lang="en-US" sz="39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89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, based on a certification by the British Standards Institute (BSI) using the TTP.NL Scheme for Certification Author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 based on a certification from KPMG using ETSI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uropean Telecommunications Standards Institute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S 101 456 and other related standard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758C-65C2-4D2F-AAA6-CA6223342C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QuoVadis as a CA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urrently have three root CAs (one CP/CPS for CA 1 and 3 and a separate one for CA 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will be linked to the root 1 CA (the one with 2048 bi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the CP/CPS look lik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http://www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quovadisglobal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.bm/~/media/Files/Repository/QV_RCA1_RCA3_CPCPS_V4_5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sh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oints to not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rdware, security procedures and auditing comply with the EuGridPMA requirements, In particul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M for Issuing CA to provide at least FISP Level 3 and/or EAL 4 security standards in both the generation and maintenance in all Root and Issuing CA private ke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controls, procedural controls, personnel controls, audit logging procedures, records archival, key changeover, compromise and disaster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994A-E426-47AC-A2A1-11369929C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3" idx="2"/>
            <a:endCxn id="94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8" idx="2"/>
            <a:endCxn id="99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9" idx="2"/>
            <a:endCxn id="101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9" idx="2"/>
            <a:endCxn id="102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8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8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3" idx="1"/>
            <a:endCxn id="106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6" idx="2"/>
            <a:endCxn id="108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22C1-2735-426E-BFDA-F06B8F872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What will the grid certificates look like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ice In particular tha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common prefix for all Grid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us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serv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ho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280" y="1682640"/>
            <a:ext cx="40698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st certific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suing CA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D200-249B-4306-955F-BE5C2E7D3E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EE Certific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ertificat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ersion: 3 (0x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rial Number: 31 (0x1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suer: C=BM, O=QuoVadis Limited, CN=QuoVadis Grid Issuing 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alid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Before: Aug 26 08:41:25 2008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After : Aug 26 08:41:25 2009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: DC=com, DC=quovadisglobal, DC=grid, DC=switch, DC=users, O=SWITCH, CN=Alessandro Us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 Public Key Inf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Key Algorithm: 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 Public Key: (2048 b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ulus (2048 bit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9B4A-4169-4CBE-B180-3F1041241B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3.6.1.4.1.8024.0.1              -&gt; ROOT CA 1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2.840.113612.5.2.2.1.4      -&gt; IGTF Classic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ail:alessandro.usai@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C71C-1993-4911-A8BB-C0D9FD4DBB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9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47d"/>
                </a:solidFill>
                <a:latin typeface="Arial"/>
              </a:rPr>
              <a:t>Host Certificate</a:t>
            </a:r>
            <a:endParaRPr b="1" lang="en-US" sz="5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Number: 33 (0x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r: C=BM, O=QuoVadis Limited, CN=QuoVadis Grid Issuing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fore: Aug 27 08:33:18 2008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fter : Aug 27 08:33:18 2009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: DC=com, DC=quovadisglobal, DC=grid, DC=switch, DC=hos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SWITCH, CN=server.switch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B224-3D8F-49E1-8870-9C7E9014F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8-10-05T12:28:46Z</dcterms:modified>
  <cp:revision>32</cp:revision>
  <dc:subject/>
  <dc:title>QuoVadis accreditation with EuGridPMA</dc:title>
</cp:coreProperties>
</file>