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00FBDC9-949F-4FA1-A85D-654272508F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9C4F659-6163-4A7D-B036-C3A21963B3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49EA0E3-FA17-44EF-814A-4E199EF6033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10BDE124-2001-43D3-8A07-598811F12B0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A5E5DF3E-438D-416E-A043-34BCB3EC4CB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D709305-B80A-4BDC-A608-9ED30776B5B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1BFE6FA8-90B4-45CB-B5EB-7C01A5DEFF6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F5D6A3B-786A-4286-A7D7-56250853B6B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49A9FD83-0183-424B-B5A4-A9EC5856A22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71CF4295-32FF-4292-AD5A-FE6EB64BC8A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95890BDD-8717-4FAE-B9F8-012202DC56F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D2B1B92-56FB-4E27-9AD3-BB66C57D54F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7826C952-E6B7-406A-889D-F9DFA24AE00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RL NEXT UPDAT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RL Fac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129528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.0  - d1737728 /C=SG/O=Netrust Certificate Authority 1/OU=Netrust CA1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2.0  - 1d879c6c /DC=ch/DC=cern/CN=CERN Trusted Certification Authority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7.0  - 9b59ecad /DC=cz/DC=cesnet-ca/CN=CESNE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8.0  - cc800af0 /C=HU/O=NIIF/OU=Certificate Authorities/CN=NIIF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0.0  - eebc7717 /C=CH/O=Switch - .../CN=SWITCH Server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0.0  - 47d3d1a0 /C=CH/O=Switch - .../CN=SWITCH Personal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4.0  - 9b95bbf2 /C=US/O=National Center for S.A./OU=Certificate Authorities/CN=CACL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0.0  - 1691b9ba /C=TR/O=TRGrid/CN=TR-Gri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0.0  - 2418a3f3 /DC=bg/DC=acad/CN=BG.ACA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1.0  - 55994d72 /C=RU/O=RDIG/CN=Russian Data-Intensive Gri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5.0  - 03aa0ecb /C=BE/O=BELNET/OU=BEGrid/CN=BEGrid CA/emailAddress=gridca@belnet.be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80.0  - 28a58577 /C=GR/O=HellasGrid/OU=Certification A.../CN=HellasGrid Root CA 2006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80.5  - d254cc30 /DC=ch/DC=cern/CN=CERN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365.0  - 566bf40f /C=EE/O=Grid/CN=Estonian Grid Certification Authority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366.0  - cf4ba8c8 /C=FR/O=CNRS/CN=CNRS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548.0  - d0b701c0 /C=CH/O=Switch - .../CN=SWITCHgrid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731.0  - 98ef0ee5 /C=UK/O=eScienceRoot/OU=Authority/CN=UK e-Science Root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assic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alidity between 7 and 30 day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7 day CRLs implies continuous issuanc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811080" y="1185840"/>
            <a:ext cx="810108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SLCS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alidity between 3 days and ∞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768240" y="1311120"/>
            <a:ext cx="80488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ssues see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etrust CRL of 1 day triggers many warning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MA warnings of actual invalidity are comm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navailability fo CRL is on average 20% at any ti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CERN TCA CRL of 2 days hardly causes any actual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 warning once every few month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CESNET CRL of 7 days causes no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nual 30 day CRLs give incidental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rmonize period between SLCS and Classic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t least 3 days before expir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nly for on-line auto-generated CR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nually generated CRLs and CRLs for off-line CAs stay at 7 day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x life time for Classis AP stays at 30 days for issuing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1:40Z</dcterms:modified>
  <cp:revision>467</cp:revision>
  <dc:subject/>
  <dc:title>European Grid Policy Management Authority</dc:title>
</cp:coreProperties>
</file>