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45D8004-27FD-4E7E-B5B2-D0439CF9EF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07C4CDA-4E32-4893-A881-EDB39944145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90CC86C4-4F76-4A2A-B5F9-D9495450C25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006BA1B6-383F-491A-8A76-4BE36165C52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293B668C-6E05-4BB3-9A5A-68DDAF0021F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962D1BEA-16E5-46A2-B2EC-EBD423DAEFD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1D8B86E9-AF21-47E1-9486-D825CCE713F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9989F69D-8B38-477A-9BAB-7F2CBAC36BD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B871AEC5-7A65-4AEA-8029-6AD50249E7F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C264FB43-D5EF-4130-8E28-0F74D0C6459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B036E4F9-F999-48A8-9DFA-61FB762CFD9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ECAB88F0-2995-43F6-9F2F-F169FF6C46B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F3AA2560-DE48-400A-9C84-2CE773BC380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14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October 6-8, 2008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isbon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04528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elcome to Lisbo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on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8" name="Picture 3" descr=""/>
          <p:cNvPicPr/>
          <p:nvPr/>
        </p:nvPicPr>
        <p:blipFill>
          <a:blip r:embed="rId1"/>
          <a:stretch/>
        </p:blipFill>
        <p:spPr>
          <a:xfrm>
            <a:off x="0" y="1581120"/>
            <a:ext cx="9144000" cy="40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Tues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528480" y="1566720"/>
            <a:ext cx="808704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ednes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0" y="2043000"/>
            <a:ext cx="9144000" cy="25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now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inutes from last meet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Mike and Ja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troduction round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08-10-07T08:23:11Z</dcterms:modified>
  <cp:revision>468</cp:revision>
  <dc:subject/>
  <dc:title>European Grid Policy Management Authority</dc:title>
</cp:coreProperties>
</file>