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7E55E-796A-4421-8B2C-8310F7A35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F0A1-1FF8-4909-880F-AD6AE225A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E3EE3-2D90-4428-9590-88CB8B0B6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C741B-F242-4360-9950-7C75F5BC9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AFB5-80D9-4378-A3EA-1A2C8A2E2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E742-73FD-4227-9A19-3297F68F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86964-3251-4FC0-8E98-802C81435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8350-F752-475F-AB18-570137B9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6D5B1-11F6-4512-A706-062B6712D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06E7-92E0-441D-B73F-A133D2666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AE1F-63E6-4413-A70D-C07E0E2A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28A8-4907-4778-8465-2CA25A279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4D0D2-EC93-4384-B76D-A2D43B63FE2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6D2AD-BCCD-4A0D-9C9D-F88B5D917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ssion: The International Grid Trust Federation (IGTF) Risk Assessment Team (RAT) is responsible for assessing risk and setting time and deadlines for response and action for concerns and vulnerabilit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RAT has form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ttp://tagpma.es.net/wiki/bin/view/IGTF-R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gtf-rat@eugridpma.org</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GridPMA: Yoshio Tanaka, Jinny Chi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GridPMA: Jens Jensen, Willy Weisz, David Groe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GPMA: Jim Basney, Vinod Rebello, Jim Marstel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Procedur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operates by consensus. To react quickly and effectively, the group must have the ability to quickly reach consensus. We take the Apache Voting Process as a guide. Specifically, consensus is reached if there are three positive votes and no negative votes. Any official action requires that we reach consensus in this mann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contacts CA operators via the email address in the .info file of the IGTF distribution. IGTF members are expected to monitor this address. The RAT expects responses from IGTF members within one business da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Communications Tes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http://tagpma.es.net/wiki/bin/view/IGTF-RAT/20080813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oa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CA contact email addre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one business day response tim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sul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57 (75% of 76) CAs responded within one d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60 (79% of 76) CAs responded within two d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3 (96% of 76) CAs responded within one wee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6 (100%) CAs responded within one mont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tact addresses have been upda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When should we do it aga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nex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sk Analy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s test twice per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8:18:34Z</dcterms:created>
  <dc:creator>Jim Basney</dc:creator>
  <dc:description/>
  <dc:language>en-US</dc:language>
  <cp:lastModifiedBy>Jim Basney</cp:lastModifiedBy>
  <dcterms:modified xsi:type="dcterms:W3CDTF">2008-10-06T09:32:27Z</dcterms:modified>
  <cp:revision>2</cp:revision>
  <dc:subject/>
  <dc:title>IGTF RAT</dc:title>
</cp:coreProperties>
</file>