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70C8-2FD6-4C55-8BD4-0D04A4B35D2F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6F4E-CE7C-40DB-AB62-A25399E7F9D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0C98-AD69-404D-AF5A-9C7C8B01C54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6BF-883C-4717-AD79-5207A9DB5CF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294-1E82-4D45-B678-1AAD798FE637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E3E4-FC15-4D09-BF40-9609B65B8D5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609-06E1-4DE7-99B2-60FF041DA70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BA0-006A-4854-89C3-F4706C46A61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6D1-72D8-4E73-876E-9DA6F61E6DEE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0DC-21E5-42F1-A2F4-67703106317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CC93-9578-4D07-B78A-CA477CF7FE3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E1A-61D5-42DC-B449-78A24306EDF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16A0-865A-4E4A-9431-8C314B4F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D21D-4B72-497D-976D-FBEAB76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9472B-C91A-47A6-99BF-B6BBC79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92F89-8D46-4757-9012-D240B36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CBC1E-4D6F-4CE3-9CEF-CBD859C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7CE1-EB1F-48AB-94D5-E3E7A75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ED49-41F3-4F9E-B2AE-489C810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8488-8A4B-4547-A116-922273C5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ABE8-3F58-4E93-9B33-333E836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56B8A-9D19-46EB-8F94-F7490E2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2D0F-4A0B-49F3-A976-D5227B05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64D14-115E-4F05-841F-1DC55B6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3827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5" descr="IGTF-logo-300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C64-6A75-4590-A919-B90FDE59F6B7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IGTF-logo-large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910-FC4B-41F8-A9F9-2AAC66D6B562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4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et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Update from TAGPMA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Jim Basn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isbon, Portug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October 6-8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WordArt 5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rter (v 2.5 approval pen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active Membership – impacts quor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wo year term of office for elected p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accred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uditing: Discussions on going, should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IST 800-5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btru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ther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1:2005; ISO/IEC 17799: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CP/CPS template : Minimum requirements an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7th TAGPMA F2F in Oakland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F2F in Merida, Venezu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as postponed due to expected lack of attend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ovember 6-8, 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Tu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tod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ULA – Venezue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The image “http://www.lib.utexas.edu/maps/americas/americas_pol96.jpg” cannot be displayed, because it contains errors."/>
          <p:cNvPicPr/>
          <p:nvPr/>
        </p:nvPicPr>
        <p:blipFill>
          <a:blip r:embed="rId22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1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Classic, 1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5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lassic, 2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eru and 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re-)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was no longer willing to host TAGPMA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ut ESnet undergoing large services overha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sruption to TAGPMA services in terms of availability and quality – Ap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ving/moved TAGPMA domain name, mailing lists and website to ESnet, as and when fea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TAGPMA information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secure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har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sion 2.4 of the Charter has been appr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etter reflects how the TAGPMA ope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 year Membership: Letter of introduction/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ies the representative (POC) to the soliciting I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ffirmed commitment by Institution to TAGPMA participation (F2F meetings, document development and review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tended inactivity will imply resig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Original Version 1.1, 15/11/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two pronged revision process (Version 2.0 s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rought up to date and in line with alterations made to the other profil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licy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owered HSM operating mode to Level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wo recent security incidents posed the question of whether or not CRLs SHOULD be made a requirement/o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version is 2.1, 18/08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s a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th exception for very short-lived certific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ow short is short? Current consensus is 1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though approved by both EU and AP GridPMAs, awaiting acceptance from existing SLCS CA opera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CSA 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WITCH 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Jim Basney</cp:lastModifiedBy>
  <dcterms:modified xsi:type="dcterms:W3CDTF">2008-10-03T20:23:00Z</dcterms:modified>
  <cp:revision>93</cp:revision>
  <dc:subject>TAGPMA@OGF24 2008</dc:subject>
  <dc:title>TAGPMA Updates</dc:title>
</cp:coreProperties>
</file>