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4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9C750-0F7F-4BFF-92FA-87AC0BBC26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D2CA-DCC9-4B95-B987-4DFC36D07C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2132-7CD9-4029-9481-7A2A725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D978-7B31-4C24-B56A-66BAFA7B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63D6-AA0A-4CD1-8612-6537DE2645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B494E-004E-4963-B716-F1E7278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441F-9220-43B8-A08D-73692061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E5AE-3066-4CAC-A191-2D3AC0CA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49E5-3FE4-4E7A-953D-E3B181EA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408A-25E0-4D1E-943F-6548F8F4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E937-9DF9-439B-BC60-7139670C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B112-94B1-4DE8-86F4-DD9FE233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1413-FCF3-4830-B7D4-E4B84473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8000" y="115920"/>
            <a:ext cx="8856720" cy="792000"/>
            <a:chOff x="108000" y="115920"/>
            <a:chExt cx="8856720" cy="792000"/>
          </a:xfrm>
        </p:grpSpPr>
        <p:sp>
          <p:nvSpPr>
            <p:cNvPr id="1" name=""/>
            <p:cNvSpPr/>
            <p:nvPr/>
          </p:nvSpPr>
          <p:spPr>
            <a:xfrm>
              <a:off x="108000" y="115920"/>
              <a:ext cx="8856720" cy="792000"/>
            </a:xfrm>
            <a:prstGeom prst="rect">
              <a:avLst/>
            </a:prstGeom>
            <a:solidFill>
              <a:srgbClr val="52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216072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solidFill>
            <a:srgbClr val="5262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solidFill>
            <a:srgbClr val="dce4e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642240" indent="-244440">
              <a:spcBef>
                <a:spcPts val="601"/>
              </a:spcBef>
              <a:buClr>
                <a:srgbClr val="3366cc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94320" indent="-198720">
              <a:spcBef>
                <a:spcPts val="601"/>
              </a:spcBef>
              <a:buClr>
                <a:srgbClr val="0099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3" marL="1354680" indent="-198720"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4" marL="1719360" indent="-198720">
              <a:spcBef>
                <a:spcPts val="601"/>
              </a:spcBef>
              <a:buClr>
                <a:srgbClr val="333399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5" marL="1719360" indent="-19872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6" marL="1719360" indent="-19872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9280" y="6381720"/>
            <a:ext cx="18669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33cc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rebuchet MS"/>
              </a:rPr>
              <a:t>6-8 Oc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461440" y="6460920"/>
            <a:ext cx="498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33339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23ADD-4631-4586-B8BC-A62BA0F2F7B2}" type="slidenum">
              <a:rPr b="0" lang="en-US" sz="1400" spc="-1" strike="noStrike">
                <a:solidFill>
                  <a:srgbClr val="33339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03640" y="5835600"/>
            <a:ext cx="504036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gradFill rotWithShape="0">
            <a:gsLst>
              <a:gs pos="0">
                <a:srgbClr val="757575">
                  <a:alpha val="78039"/>
                </a:srgbClr>
              </a:gs>
              <a:gs pos="50000">
                <a:srgbClr val="ffffff"/>
              </a:gs>
              <a:gs pos="100000">
                <a:srgbClr val="757575">
                  <a:alpha val="7803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624852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Your university or experiment logo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8360" indent="-281160">
              <a:spcBef>
                <a:spcPts val="601"/>
              </a:spcBef>
              <a:buClr>
                <a:srgbClr val="3366cc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3" marL="1557360" indent="-228600"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4" marL="1976400" indent="-228600">
              <a:spcBef>
                <a:spcPts val="601"/>
              </a:spcBef>
              <a:buClr>
                <a:srgbClr val="333399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5" marL="1976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6" marL="1976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484360" cy="100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916280"/>
            <a:ext cx="9144000" cy="4321080"/>
          </a:xfrm>
          <a:prstGeom prst="rect">
            <a:avLst/>
          </a:prstGeom>
          <a:solidFill>
            <a:srgbClr val="c0dec7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86240" y="214200"/>
            <a:ext cx="3746520" cy="1052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5640" y="90360"/>
            <a:ext cx="612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gradFill rotWithShape="0">
            <a:gsLst>
              <a:gs pos="0">
                <a:srgbClr val="757575">
                  <a:alpha val="78039"/>
                </a:srgbClr>
              </a:gs>
              <a:gs pos="50000">
                <a:srgbClr val="ffffff"/>
              </a:gs>
              <a:gs pos="100000">
                <a:srgbClr val="757575">
                  <a:alpha val="78039"/>
                </a:srgbClr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IGTF CP/CPS Template Working Party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gradFill rotWithShape="0">
            <a:gsLst>
              <a:gs pos="0">
                <a:srgbClr val="171746">
                  <a:alpha val="79215"/>
                </a:srgbClr>
              </a:gs>
              <a:gs pos="50000">
                <a:srgbClr val="333399"/>
              </a:gs>
              <a:gs pos="100000">
                <a:srgbClr val="171746">
                  <a:alpha val="79215"/>
                </a:srgbClr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pdate I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Jens Jense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U GridPMA Lisbon 6-8 Oct 2008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isionf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 track changes (N Walsh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Sun tool to automatically update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bars.xs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fine Meta-attrs (non-DocBook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/choic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plemented via attrs - or separate X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f separate, inspired by ASN.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o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39006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ep no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cument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GF and other publisher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ther PKI particip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6200" y="1714680"/>
            <a:ext cx="39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8040" indent="-338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tion: use DocBook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note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tip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important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caution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warning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e semantics not specified by Doc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ote/&gt; - general annotation (3647 text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tip/&gt; - suggestion to 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important/&gt; - note for 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aution/&gt; - suggestion to CA Manager/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warning/&gt; - strong suggestion to Manager/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ndering similar in 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ustomise l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ndering in WordML (Microsoft Word) limi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56000" y="152280"/>
            <a:ext cx="2730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otation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1928880"/>
            <a:ext cx="1857240" cy="11430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2790720" y="2219400"/>
            <a:ext cx="857160" cy="1428480"/>
          </a:xfrm>
          <a:prstGeom prst="pi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0200" y="2000160"/>
            <a:ext cx="1500480" cy="4287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4880" y="1928880"/>
            <a:ext cx="185724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040" y="4143240"/>
            <a:ext cx="171468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57880" y="4143240"/>
            <a:ext cx="171432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28960" y="4143240"/>
            <a:ext cx="171432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43080" y="4429080"/>
            <a:ext cx="857160" cy="4287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429080"/>
            <a:ext cx="857160" cy="4287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57880" y="5715000"/>
            <a:ext cx="171432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”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040" y="5715000"/>
            <a:ext cx="171468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71720" y="5072040"/>
            <a:ext cx="500040" cy="7142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29200" y="5072040"/>
            <a:ext cx="500040" cy="7142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3469320" y="397440"/>
            <a:ext cx="500040" cy="6715440"/>
          </a:xfrm>
          <a:custGeom>
            <a:avLst/>
            <a:gdLst>
              <a:gd name="textAreaLeft" fmla="*/ 319680 w 500040"/>
              <a:gd name="textAreaRight" fmla="*/ 500400 w 500040"/>
              <a:gd name="textAreaTop" fmla="*/ 105480 h 6715440"/>
              <a:gd name="textAreaBottom" fmla="*/ 6609960 h 671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4"/>
                  <a:pt x="10800" y="1087"/>
                </a:cubicBezTo>
                <a:lnTo>
                  <a:pt x="10800" y="9713"/>
                </a:lnTo>
                <a:cubicBezTo>
                  <a:pt x="10800" y="10257"/>
                  <a:pt x="5400" y="10800"/>
                  <a:pt x="0" y="10800"/>
                </a:cubicBezTo>
                <a:cubicBezTo>
                  <a:pt x="5400" y="10800"/>
                  <a:pt x="10800" y="11344"/>
                  <a:pt x="10800" y="11887"/>
                </a:cubicBezTo>
                <a:lnTo>
                  <a:pt x="10800" y="20513"/>
                </a:lnTo>
                <a:cubicBezTo>
                  <a:pt x="10800" y="2105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30880" y="2214720"/>
            <a:ext cx="2768400" cy="1191240"/>
          </a:xfrm>
          <a:prstGeom prst="rect">
            <a:avLst/>
          </a:prstGeom>
          <a:noFill/>
          <a:ln w="3492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ext/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s to avoid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ly experimental stu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pt (selectively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antic 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o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928880"/>
            <a:ext cx="82296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 substitute for real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al review and presentation at PMA will catch most non-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o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sibly, experience will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-in-on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vide/document transl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760" y="1500120"/>
            <a:ext cx="82296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e careful about IPR and Copy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sign copyright to the OGF/IGT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k “ownership” of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lean(ish) room implem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write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existing tex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known to be written by contrib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k original source of contribution if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FC 3647 converted to Doc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ropped the explanations but they could be added bac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 conversions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 annot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n change how it’s done as long as it’s done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file from IGTF cert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56000" y="92160"/>
            <a:ext cx="27302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unteer contributors to contribute 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 O’Callaghan (TC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 Groep (NIKHE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 Helm (ES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J Jensen (R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Rebello (UF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 Sova (CES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 Teder (EE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Velichkevych (NTU-KPI Kie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ään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n (NB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3760" y="2928960"/>
            <a:ext cx="257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CAs to implement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r exist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32000" y="-23760"/>
            <a:ext cx="59025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spects of documentation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90892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(Currently) use “role” attribute to track “role” of tex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minreq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Documented in </a:t>
            </a:r>
            <a:r>
              <a:rPr b="0" i="1" lang="en-US" sz="1800" spc="-1" strike="noStrike">
                <a:solidFill>
                  <a:srgbClr val="009999"/>
                </a:solidFill>
                <a:latin typeface="Trebuchet MS"/>
              </a:rPr>
              <a:t>relevant</a:t>
            </a: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 section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cp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ee = end entity issuing CA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cl = classic profile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Subdivide into feature section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E.g. suspension, certificate modification, renewal, rekey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ot using notes/warnings/caution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But could conver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Use “id” attribute to track original referen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But ensure unique in documen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Need to build/stretch existing hierarchical role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.g.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minreq.2.2.a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A709-5D82-46D8-92D4-8AA92DCEF0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E495A-318F-4321-8EE4-AA24438C1B7F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32000" y="-23760"/>
            <a:ext cx="59025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Overview (this page)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‏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view of presentation from OG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Apologies to people who already saw i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ore meant for a general audienc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asily recognised, using NGS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w stuff since OG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asily recognised, uses GridPP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ore meant for CA managers and suchlik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(Confused? – stupid limitations of OpenOffice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e document itsel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xt step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3C43-2E2A-4BBC-96F6-BD36006450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8310B-14F4-48EE-AB34-1D1F302585A2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ustomising blessed tex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Built-in entiti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inor customisations of blessed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Without un-blessing i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For things like CA nam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able or disable feature sets?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Conditional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xperimenta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6AA0-7186-46FB-A130-1E7CE049A1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8BA0A-5E00-4F66-8494-AA72F7549491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Writing and reviewing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90892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stinguished added text and blessed tex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ault (empty) paras to “No stipulation.”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stinguish chang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Keep deleted text by maintaining revision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ase of edi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Convert between DocBook and WordM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Need Word “template” for header/footer?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Limited?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Highly experimental?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dapt existing XSLT for XHTML or WordML?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DD10-935C-45FD-84F8-9847CDF1A2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1C1ED-66FA-462A-AA6D-4BD473BA2411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ublishing documen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raft → Fina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Drop explanations, drop minreq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Keep approved text and added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Drop markup (or don't add it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.g. run XSLT filters to drop minreq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Output as valid docbook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Then docbook can be converted to HTM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22B0-34DF-40A3-9261-0C7B08CBBF5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E63A0-E48A-4422-B9EE-568668CBFE18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urpos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peed up accreditation of new CAs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Too much bad stuff gets copied around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Not enough good stuff gets copied around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Known good stuff – can automate more stuf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GTF-blessed, documenting best practi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able existing CAs to chang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You'd do this only if there are benefit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(Or the PMA orders you to use it!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Use this to improve existing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8ED82-22E4-4D14-9A4D-79B131B41C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80870-6F40-4043-B1D2-8FFAA3D3E85D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2960" y="2143080"/>
            <a:ext cx="214308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81560" y="2193840"/>
            <a:ext cx="2468520" cy="1182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500880" y="2143080"/>
            <a:ext cx="21430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57680" y="25002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0840" y="257184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4960" y="3571920"/>
            <a:ext cx="214308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28880" y="3571920"/>
            <a:ext cx="214308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6240" y="5072040"/>
            <a:ext cx="2143440" cy="1214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7429320" y="3438360"/>
            <a:ext cx="571320" cy="928800"/>
          </a:xfrm>
          <a:prstGeom prst="pie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71960" y="371484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3240" y="4143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 rot="16200000">
            <a:off x="7000920" y="4784760"/>
            <a:ext cx="1428480" cy="714240"/>
          </a:xfrm>
          <a:prstGeom prst="pie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8680" y="5072040"/>
            <a:ext cx="41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implified vers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PMA have a more detailed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/edited by J Marsteller (PS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7800" y="2857680"/>
            <a:ext cx="214308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1720" y="2857680"/>
            <a:ext cx="214308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14800" y="300024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86080" y="342900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760" y="2143080"/>
            <a:ext cx="77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rt can take many iterations (10 is not unheard o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7840" y="414324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take year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42960" y="514368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noFill/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3240" y="4929120"/>
            <a:ext cx="40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s comments not 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manager needs several it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wait for their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040" y="1785960"/>
            <a:ext cx="8229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velop template and “safe”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loning is done all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ften bad stuff is cloned, 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ress IGTF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asier to write 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r old hands, easier to convert to 3647, to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5880" y="2071800"/>
            <a:ext cx="79009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wer errors, contrad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icker re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vanced goa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able review checklist (reviewer must check) and comments (manager must addres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intenance of IGTF-compliant CP/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pdate with new IGTF regul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Not automatically of course!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57160" y="3571920"/>
            <a:ext cx="2357640" cy="12859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14800" y="5286240"/>
            <a:ext cx="2357280" cy="12859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/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0800" y="3571920"/>
            <a:ext cx="2357280" cy="128592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3857760"/>
            <a:ext cx="1928880" cy="1357200"/>
          </a:xfrm>
          <a:prstGeom prst="downArrowCallout">
            <a:avLst>
              <a:gd name="adj1" fmla="val 25005"/>
              <a:gd name="adj2" fmla="val 25003"/>
              <a:gd name="adj3" fmla="val 25000"/>
              <a:gd name="adj4" fmla="val 2038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9800" y="5429160"/>
            <a:ext cx="2412000" cy="9169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-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A every 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928880"/>
            <a:ext cx="82296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mplate written in DocBook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utput to many format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omewhat limited markup?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eds XML editor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used Emacs with n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llows RFC 36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ns Jensen</dc:creator>
  <dc:description/>
  <dc:language>en-US</dc:language>
  <cp:lastModifiedBy/>
  <cp:revision>0</cp:revision>
  <dc:subject/>
  <dc:title>Slide 1</dc:title>
</cp:coreProperties>
</file>