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4955-BF6B-4E79-AFDB-B8A2E866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F8EE-F591-4434-963F-BC399CBA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D8A5-8020-4848-8C5E-7C23996F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786-0A44-4DD1-9C16-EADA2BE8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1750-F91D-403D-85BF-A409A3FB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500F-61CD-41E1-BB94-7D230CC2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32C4-1683-4723-BEDD-B3AA39E6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973F-05E0-47B6-84F5-D3BCCF7D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C367-FE52-41F0-A095-0722F011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B0E-A33F-4763-83CF-6A496114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0784-8E9B-4160-A8EB-7D8BF839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BE17-1E1F-41D5-A686-A6C806E5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996C-B490-4E11-82D4-25D0331FA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ernath@sunserv.kfki.hu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FKI RMKI CA Review</a:t>
            </a:r>
            <a:br>
              <a:rPr sz="4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UGridPMA May 26-28, Copenh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4508280"/>
            <a:ext cx="579276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abolcs Herná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TA KFKI RM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nath@sunserv.kfk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ki.kfk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ckground &amp;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esent Status &amp; Future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elf-assessment &amp;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essons learned &amp; Sugg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iscuss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. Background &amp;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Why 2 CAs in Hung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Community needed the service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NREN CA (NIIF) was planned, but no progress or road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RMKI had ~90% of LCG users &amp;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UGridPMA in Brussels, Sept. 200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KFKI RMKI CA pres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PMA demanded community agreement to preempt a 2 CA 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ec. 2004: Community agreement pres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Hungarian grid community will endorse KFKI RMKI CA until the NIIF CA can setup an RA at KFKI cam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PMA accepted the agreement, KFKI RMKI CA accred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started production in Jan.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cent progress in the setup of NIIF 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. Pres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liable operation on Debian/Op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a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All issued: 230 (6 for 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Revoked: 126 (none compromi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Valid: 47 (14 user, 33 h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All host: 145 (68 DNs, even less iden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All user: 79 (50 DNs, even less ident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All CRLs: 120 (1 overdue </a:t>
            </a:r>
            <a:r>
              <a:rPr b="0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IIF RA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RA secure admin interface deployed &amp; tested (based on toke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User web interface in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IdP for NIIF AAI Federation in deployment (for user preau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RA contract in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3. Futur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IIF RA in production later this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Will probably keep the CA for local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will rekey or extend the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could produce new CP/C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fter the NIIF RA is in production, will replace all grid c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ed to leave the club </a:t>
            </a:r>
            <a:r>
              <a:rPr b="0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4. Self-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Work in progress, preliminary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jor issues: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5) CP/CPS is RFC 2527 D/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7) Secure environment, access control &amp; log D/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9) Secure environment undocumented/unaudited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11) CA key protection B/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50) Operational audit D/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51) List of personnel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jor Issues: 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2) Identity vetting (user) B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3) Identity vetting (host) A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4) FQDN ownership B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10) Record archival in auditable form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5. Other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sufficient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o long-term planning (was not expe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ssing operational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oo many h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scheduled’ paper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6.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ore is l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specify everything as strict as 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write all operational documents before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perational audit/review ASAP (before produ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eparation of GRID namespace is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ccreditation profile version should be recorded on accred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udit guidelines updates for AP changes? (versions for each AP version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eparate audit guidelines for different AP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Thank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21:53:10Z</dcterms:created>
  <dc:creator>Hernáth Szabolcs</dc:creator>
  <dc:description/>
  <dc:language>en-US</dc:language>
  <cp:lastModifiedBy>Hernáth Szabolcs</cp:lastModifiedBy>
  <dcterms:modified xsi:type="dcterms:W3CDTF">2008-05-28T07:43:03Z</dcterms:modified>
  <cp:revision>25</cp:revision>
  <dc:subject/>
  <dc:title>KFKI RMKI Grid Storage</dc:title>
</cp:coreProperties>
</file>