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21C19-EB86-4FE8-B233-5865F035D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2204640"/>
            <a:ext cx="777240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4197960"/>
            <a:ext cx="777240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DD14E-137F-4FA3-B990-AD5941FE9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2204640"/>
            <a:ext cx="379260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7040" y="2204640"/>
            <a:ext cx="379260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4197960"/>
            <a:ext cx="379260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7040" y="4197960"/>
            <a:ext cx="379260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F18BD-4955-447A-A635-6BC82DE4C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2204640"/>
            <a:ext cx="250236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2360" y="2204640"/>
            <a:ext cx="250236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0000" y="2204640"/>
            <a:ext cx="250236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4197960"/>
            <a:ext cx="250236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2360" y="4197960"/>
            <a:ext cx="250236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0000" y="4197960"/>
            <a:ext cx="250236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33437-0B49-4CB3-B347-98CAC9C1D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2204640"/>
            <a:ext cx="7772400" cy="38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99A02-2134-4E60-A0B8-AE25EEA08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2204640"/>
            <a:ext cx="77724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B8C8A-926B-4AFB-84BF-E81DC1884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2204640"/>
            <a:ext cx="3792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7040" y="2204640"/>
            <a:ext cx="3792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750D9-1411-48AA-B859-9CD615E1A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7C123-AA70-4532-A7D1-88E344B1A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4360" y="980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4AA8E-DF18-4A6C-BEC2-794063B3E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2204640"/>
            <a:ext cx="379260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7040" y="2204640"/>
            <a:ext cx="3792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4197960"/>
            <a:ext cx="379260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E78FF-6921-48D4-95ED-FBC7BD9A5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2204640"/>
            <a:ext cx="3792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7040" y="2204640"/>
            <a:ext cx="379260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7040" y="4197960"/>
            <a:ext cx="379260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23ABE-95C6-40F6-974F-E1E60AD82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2204640"/>
            <a:ext cx="379260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7040" y="2204640"/>
            <a:ext cx="379260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4197960"/>
            <a:ext cx="777240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BD7A3-E12C-4285-B92D-2DE95CCFF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2204640"/>
            <a:ext cx="77724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683280" indent="-262800">
              <a:spcBef>
                <a:spcPts val="799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2" marL="1051560" indent="-21024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3" marL="1472040" indent="-210240">
              <a:spcBef>
                <a:spcPts val="799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4" marL="1892520" indent="-210240">
              <a:spcBef>
                <a:spcPts val="799"/>
              </a:spcBef>
              <a:buClr>
                <a:srgbClr val="000000"/>
              </a:buClr>
              <a:buFont typeface="Lucida Gran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5" marL="1892520" indent="-210240">
              <a:spcBef>
                <a:spcPts val="799"/>
              </a:spcBef>
              <a:buClr>
                <a:srgbClr val="000000"/>
              </a:buClr>
              <a:buFont typeface="Lucida Gran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6" marL="1892520" indent="-210240">
              <a:spcBef>
                <a:spcPts val="799"/>
              </a:spcBef>
              <a:buClr>
                <a:srgbClr val="000000"/>
              </a:buClr>
              <a:buFont typeface="Lucida Gran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Lucida Gran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Grande"/>
              </a:rPr>
              <a:t>27 May 08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Lucida Grande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Grande"/>
              </a:rPr>
              <a:t>EU Grid PMA, Kelsey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Lucida Gran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6C90A-F6C1-45E2-96BC-BAFBEBED93A0}" type="slidenum">
              <a:rPr b="0" lang="en-US" sz="14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5" name="Picture 7" descr="SCI_PPT_templ4"/>
          <p:cNvPicPr/>
          <p:nvPr/>
        </p:nvPicPr>
        <p:blipFill>
          <a:blip r:embed="rId2"/>
          <a:stretch/>
        </p:blipFill>
        <p:spPr>
          <a:xfrm>
            <a:off x="0" y="0"/>
            <a:ext cx="7162920" cy="1517760"/>
          </a:xfrm>
          <a:prstGeom prst="rect">
            <a:avLst/>
          </a:prstGeom>
          <a:ln w="0">
            <a:noFill/>
          </a:ln>
        </p:spPr>
      </p:pic>
      <p:pic>
        <p:nvPicPr>
          <p:cNvPr id="6" name="Picture 9" descr="gridpp2_logo"/>
          <p:cNvPicPr/>
          <p:nvPr/>
        </p:nvPicPr>
        <p:blipFill>
          <a:blip r:embed="rId3"/>
          <a:stretch/>
        </p:blipFill>
        <p:spPr>
          <a:xfrm>
            <a:off x="7020000" y="115920"/>
            <a:ext cx="1979640" cy="555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Authorization W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Update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David Kelsey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EU Grid PMA, Copenhage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27 May 2008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45" name="Picture 4" descr="egee"/>
          <p:cNvPicPr/>
          <p:nvPr/>
        </p:nvPicPr>
        <p:blipFill>
          <a:blip r:embed="rId1"/>
          <a:stretch/>
        </p:blipFill>
        <p:spPr>
          <a:xfrm>
            <a:off x="324000" y="5373720"/>
            <a:ext cx="201924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5" descr="LCGlogo"/>
          <p:cNvPicPr/>
          <p:nvPr/>
        </p:nvPicPr>
        <p:blipFill>
          <a:blip r:embed="rId2"/>
          <a:stretch/>
        </p:blipFill>
        <p:spPr>
          <a:xfrm>
            <a:off x="7524720" y="530064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cida Grande"/>
              </a:rPr>
              <a:t>Accreditation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684360" y="2204640"/>
            <a:ext cx="77724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Grande"/>
              </a:rPr>
              <a:t>Option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Grande"/>
              </a:rPr>
              <a:t>Existing IGTF PMAs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Grande"/>
              </a:rPr>
              <a:t>Form new AuthZ PMAs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Grande"/>
              </a:rPr>
              <a:t>Large Grids (EGEE, OSG etc)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Grande"/>
              </a:rPr>
              <a:t>NGIs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Grande"/>
              </a:rPr>
              <a:t>Or mix of some/all of these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0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Grande"/>
              </a:rPr>
              <a:t>27 May 08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1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Grande"/>
              </a:rPr>
              <a:t>EU Grid PMA, Kelsey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4C4F9-4B61-45FD-A8D2-F2758001B02D}" type="slidenum">
              <a:rPr b="0" lang="en-US" sz="14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cida Grande"/>
              </a:rPr>
              <a:t>Accreditation (2)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4360" y="2204640"/>
            <a:ext cx="77724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Lucida Grande"/>
              </a:rPr>
              <a:t>My personal preferences (not discussed yet)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Grande"/>
              </a:rPr>
              <a:t>IGTF defines the standards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Grande"/>
              </a:rPr>
              <a:t>Others do accreditation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Grande"/>
              </a:rPr>
              <a:t>With IGTF members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Grande"/>
              </a:rPr>
              <a:t>Important to have feedback into standards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Grande"/>
              </a:rPr>
              <a:t>Large Grids or Coordination (call it EGI)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Grande"/>
              </a:rPr>
              <a:t>Accredit Global VOs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Grande"/>
              </a:rPr>
              <a:t>And run AA services for them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Lucida Grande"/>
              </a:rPr>
              <a:t>Accredited by IGTF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5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Grande"/>
              </a:rPr>
              <a:t>27 May 08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6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Grande"/>
              </a:rPr>
              <a:t>EU Grid PMA, Kelsey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96D81-1AFD-4A92-B220-88E7C896D901}" type="slidenum">
              <a:rPr b="0" lang="en-US" sz="14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cida Grande"/>
              </a:rPr>
              <a:t>Accreditation (3)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4360" y="2204640"/>
            <a:ext cx="77724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Grande"/>
              </a:rPr>
              <a:t>Every VO should have a home Grid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Grande"/>
              </a:rPr>
              <a:t>Runs the AA services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Grande"/>
              </a:rPr>
              <a:t>NGI AA service is accredited by IGTF or EGI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Grande"/>
              </a:rPr>
              <a:t>Accredits the VO procedures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Grande"/>
              </a:rPr>
              <a:t>Bootstrap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Grande"/>
              </a:rPr>
              <a:t>Prepare draft profiles (AA and VO)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Grande"/>
              </a:rPr>
              <a:t>Accredit a small number of global VOs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Grande"/>
              </a:rPr>
              <a:t>Feedback and improve profiles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00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Grande"/>
              </a:rPr>
              <a:t>27 May 08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01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Grande"/>
              </a:rPr>
              <a:t>EU Grid PMA, Kelsey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0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03222-77B4-44BF-85B4-C6BF875CFEB3}" type="slidenum">
              <a:rPr b="0" lang="en-US" sz="14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cida Grande"/>
              </a:rPr>
              <a:t>AC validation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684360" y="2204640"/>
            <a:ext cx="77724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Grande"/>
              </a:rPr>
              <a:t>Document from OSG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Lucida Grande"/>
              </a:rPr>
              <a:t>Attribute Certificate Validation in OSG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Grande"/>
              </a:rPr>
              <a:t>Mike H to say more?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05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Grande"/>
              </a:rPr>
              <a:t>27 May 08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06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Grande"/>
              </a:rPr>
              <a:t>EU Grid PMA, Kelsey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0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DB1C6-9367-4B14-A637-248F3A44D202}" type="slidenum">
              <a:rPr b="0" lang="en-US" sz="14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cida Grande"/>
              </a:rPr>
              <a:t>Meetings and plans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684360" y="2204640"/>
            <a:ext cx="77724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Grande"/>
              </a:rPr>
              <a:t>Work should start on the draft AA profile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Grande"/>
              </a:rPr>
              <a:t>Needs a small team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Grande"/>
              </a:rPr>
              <a:t>Then wider discussion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Grande"/>
              </a:rPr>
              <a:t>I propose to hold a workshop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Grande"/>
              </a:rPr>
              <a:t>Early autumn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Grande"/>
              </a:rPr>
              <a:t>EGEE’08?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Grande"/>
              </a:rPr>
              <a:t>Joint with EU Grid PMA Lisbon meeting?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10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Grande"/>
              </a:rPr>
              <a:t>27 May 08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11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Grande"/>
              </a:rPr>
              <a:t>EU Grid PMA, Kelsey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1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92E58-9E8E-4B1C-8E4C-3F7537F604E6}" type="slidenum">
              <a:rPr b="0" lang="en-US" sz="14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cida Grande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4360" y="2204640"/>
            <a:ext cx="7772400" cy="3816360"/>
          </a:xfrm>
          <a:prstGeom prst="rect">
            <a:avLst/>
          </a:prstGeom>
          <a:ln w="0">
            <a:noFill/>
          </a:ln>
        </p:spPr>
      </p:pic>
      <p:sp>
        <p:nvSpPr>
          <p:cNvPr id="115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Grande"/>
              </a:rPr>
              <a:t>27 May 08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16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Grande"/>
              </a:rPr>
              <a:t>EU Grid PMA, Kelsey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1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87881-7ED9-4F9D-A71A-2720D9C0D622}" type="slidenum">
              <a:rPr b="0" lang="en-US" sz="14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Grande"/>
              </a:rPr>
              <a:t>27 May 08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8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Grande"/>
              </a:rPr>
              <a:t>EU Grid PMA, Kelsey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6ECA6-7CF0-4A5F-9E76-997A133FC8B5}" type="slidenum">
              <a:rPr b="0" lang="en-US" sz="14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Grande"/>
              </a:rPr>
              <a:t>Mandate</a:t>
            </a:r>
            <a:endParaRPr b="0" lang="en-US" sz="40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4360" y="2204640"/>
            <a:ext cx="77724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Lucida Grande"/>
              </a:rPr>
              <a:t>EUGridPMA Working Group on Policy Management for Grid Authorisation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Lucida Grande"/>
              </a:rPr>
              <a:t>Mandate and aims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Grande"/>
              </a:rPr>
              <a:t>To prepare recommendations on policy and global trust issues related to Grid Authorisation (AuthZ)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Grande"/>
              </a:rPr>
              <a:t>The initial list of issues will include: 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Grande"/>
              </a:rPr>
              <a:t>Minimum requirements and best practice for the operation of a Grid AuthZ attribute authority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Grande"/>
              </a:rPr>
              <a:t>Minimum requirements and best practice for Virtual Organisation user and service membership management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Grande"/>
              </a:rPr>
              <a:t>Accreditation of Attribute Authorities (AA)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Grande"/>
              </a:rPr>
              <a:t>Accreditation of Virtual Organisations and their membership management procedures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cida Grande"/>
              </a:rPr>
              <a:t>Mandate (2)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684360" y="2204640"/>
            <a:ext cx="77724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Grande"/>
              </a:rPr>
              <a:t>Repositories and distribution of accredited AA roots of trust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Grande"/>
              </a:rPr>
              <a:t>Technical details of attribute signing and trust validation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Grande"/>
              </a:rPr>
              <a:t>To recommend how IGTF could handle the definition of AuthZ policy and related accreditation during the next 3 to 5 years, taking into account the move towards a sustainable EU Grid Infrastructure and constituent national Grids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4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Grande"/>
              </a:rPr>
              <a:t>27 May 08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5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Grande"/>
              </a:rPr>
              <a:t>EU Grid PMA, Kelsey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E950B-930B-4B69-8780-FD826A9475F9}" type="slidenum">
              <a:rPr b="0" lang="en-US" sz="14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cida Grande"/>
              </a:rPr>
              <a:t>Mailing list members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84000" y="2204640"/>
            <a:ext cx="380988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Lucida Grande"/>
              </a:rPr>
              <a:t>M Altunay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Lucida Grande"/>
              </a:rPr>
              <a:t>J Basney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Lucida Grande"/>
              </a:rPr>
              <a:t>V Ciaschini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Lucida Grande"/>
              </a:rPr>
              <a:t>R Cowles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Lucida Grande"/>
              </a:rPr>
              <a:t>G Garzoglio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Lucida Grande"/>
              </a:rPr>
              <a:t>D Groep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Lucida Grande"/>
              </a:rPr>
              <a:t>M Helm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Lucida Grande"/>
              </a:rPr>
              <a:t>E Imamagic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Lucida Grande"/>
              </a:rPr>
              <a:t>J Jensen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Lucida Grande"/>
              </a:rPr>
              <a:t>C Kanellopoulos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646520" y="2204640"/>
            <a:ext cx="381024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Lucida Grande"/>
              </a:rPr>
              <a:t>D Kelsey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Lucida Grande"/>
              </a:rPr>
              <a:t>O Koeroo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Lucida Grande"/>
              </a:rPr>
              <a:t>D Kouril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Lucida Grande"/>
              </a:rPr>
              <a:t>A McNab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Lucida Grande"/>
              </a:rPr>
              <a:t>D O’Callaghan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Lucida Grande"/>
              </a:rPr>
              <a:t>M Sova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Lucida Grande"/>
              </a:rPr>
              <a:t>Y Tanaka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Lucida Grande"/>
              </a:rPr>
              <a:t>C Triantafyllidis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Lucida Grande"/>
              </a:rPr>
              <a:t>W Weisz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Lucida Grande"/>
              </a:rPr>
              <a:t>J Wolfrat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Grande"/>
              </a:rPr>
              <a:t>27 May 08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Grande"/>
              </a:rPr>
              <a:t>EU Grid PMA, Kelsey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CF864-295B-45EE-94FF-7F6842154B61}" type="slidenum">
              <a:rPr b="0" lang="en-US" sz="14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cida Grande"/>
              </a:rPr>
              <a:t>Discussion on mandate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684360" y="2204640"/>
            <a:ext cx="77724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Grande"/>
              </a:rPr>
              <a:t>Several suggestions received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Lucida Grande"/>
              </a:rPr>
              <a:t>First mandate for this WG should be to set up a list of all known AuthZ tools for the Grid environment available and in development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Lucida Grande"/>
              </a:rPr>
              <a:t>To determine actual and near future best practice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Lucida Grande"/>
              </a:rPr>
              <a:t>Especially it should help to discern advantages and disadvantages of SAML assertions versus Attribute certificates versus attributes directly included in proxy certificates.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Lucida Grande"/>
              </a:rPr>
              <a:t>This could guide us in the more theoretical aspects of the WG work.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5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Grande"/>
              </a:rPr>
              <a:t>27 May 08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6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Grande"/>
              </a:rPr>
              <a:t>EU Grid PMA, Kelsey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FF96B-844C-4971-BB6E-D66DC3B27F29}" type="slidenum">
              <a:rPr b="0" lang="en-US" sz="14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cida Grande"/>
              </a:rPr>
              <a:t>Discussion (2)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684360" y="2204640"/>
            <a:ext cx="77724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0c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70c0"/>
                </a:solidFill>
                <a:latin typeface="Lucida Grande"/>
              </a:rPr>
              <a:t>Policy implications for VOs and VO service providers are essentially the same whatever signing and attribute/assertion technology is used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b050"/>
                </a:solidFill>
                <a:latin typeface="Lucida Grande"/>
              </a:rPr>
              <a:t>Perhaps there is scope for an AAOPS in OGF?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601"/>
              </a:spcBef>
              <a:buClr>
                <a:srgbClr val="00b05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b050"/>
                </a:solidFill>
                <a:latin typeface="Lucida Grande"/>
              </a:rPr>
              <a:t>need for implementations that work, as opposed to blue sky protocol design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0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Grande"/>
              </a:rPr>
              <a:t>27 May 08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1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Grande"/>
              </a:rPr>
              <a:t>EU Grid PMA, Kelsey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9D2FE-7DB4-4BC1-8223-3154350A03CD}" type="slidenum">
              <a:rPr b="0" lang="en-US" sz="14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cida Grande"/>
              </a:rPr>
              <a:t>Discussion (3)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684360" y="2204640"/>
            <a:ext cx="77724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7030a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030a0"/>
                </a:solidFill>
                <a:latin typeface="Lucida Grande"/>
              </a:rPr>
              <a:t>I agree that we may start with working on VOMS; however, staying implementation-independent, as much as possible, would help us in the long run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22200" indent="-322200">
              <a:spcBef>
                <a:spcPts val="700"/>
              </a:spcBef>
              <a:buClr>
                <a:srgbClr val="00b05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b050"/>
                </a:solidFill>
                <a:latin typeface="Lucida Grande"/>
              </a:rPr>
              <a:t>How LoA of the underlying AuC assertions affect what AuZ can do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698400" indent="-268560">
              <a:spcBef>
                <a:spcPts val="601"/>
              </a:spcBef>
              <a:buClr>
                <a:srgbClr val="00b05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b050"/>
                </a:solidFill>
                <a:latin typeface="Lucida Grande"/>
              </a:rPr>
              <a:t>This leads to a sort of risk assessment framework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698400" indent="-268560">
              <a:spcBef>
                <a:spcPts val="601"/>
              </a:spcBef>
              <a:buClr>
                <a:srgbClr val="00b05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b050"/>
                </a:solidFill>
                <a:latin typeface="Lucida Grande"/>
              </a:rPr>
              <a:t>If I have a precious resource, I need high quality AuC assertions underneath it.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22200" indent="-322200">
              <a:spcBef>
                <a:spcPts val="601"/>
              </a:spcBef>
              <a:buClr>
                <a:srgbClr val="00b05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5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Grande"/>
              </a:rPr>
              <a:t>27 May 08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6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Grande"/>
              </a:rPr>
              <a:t>EU Grid PMA, Kelsey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6074E-16C4-4E42-8D68-F4741D4EC199}" type="slidenum">
              <a:rPr b="0" lang="en-US" sz="14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cida Grande"/>
              </a:rPr>
              <a:t>Policy models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684360" y="2204640"/>
            <a:ext cx="77724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Lucida Grande"/>
              </a:rPr>
              <a:t>Attribute Authority Service Profile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Grande"/>
              </a:rPr>
              <a:t>Based on VOMS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2" marL="1108440" indent="-221400">
              <a:spcBef>
                <a:spcPts val="499"/>
              </a:spcBef>
              <a:buClr>
                <a:srgbClr val="000000"/>
              </a:buClr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Grande"/>
              </a:rPr>
              <a:t>Can we make it technology independent?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Grande"/>
              </a:rPr>
              <a:t>This should be written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Grande"/>
              </a:rPr>
              <a:t>VO procedures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Grande"/>
              </a:rPr>
              <a:t>JSPG working on two documents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2" marL="1108440" indent="-221400">
              <a:spcBef>
                <a:spcPts val="499"/>
              </a:spcBef>
              <a:buClr>
                <a:srgbClr val="000000"/>
              </a:buClr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Grande"/>
              </a:rPr>
              <a:t>VO Registration Policy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2" marL="1108440" indent="-221400">
              <a:spcBef>
                <a:spcPts val="499"/>
              </a:spcBef>
              <a:buClr>
                <a:srgbClr val="000000"/>
              </a:buClr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Grande"/>
              </a:rPr>
              <a:t>VO Membership Management Policy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Grande"/>
              </a:rPr>
              <a:t>Probably don’t need another one!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0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Grande"/>
              </a:rPr>
              <a:t>27 May 08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1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Grande"/>
              </a:rPr>
              <a:t>EU Grid PMA, Kelsey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76B48-AD3F-4D7B-8AB9-C531F0B56421}" type="slidenum">
              <a:rPr b="0" lang="en-US" sz="14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cida Grande"/>
              </a:rPr>
              <a:t>Scaling issues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684360" y="2204640"/>
            <a:ext cx="77724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Grande"/>
              </a:rPr>
              <a:t>Today in EGEE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Grande"/>
              </a:rPr>
              <a:t>~200 VOs (mix of global, international, regional, national, local)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Grande"/>
              </a:rPr>
              <a:t># VOMS servers (how many?)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2" marL="1074240" indent="-214560">
              <a:spcBef>
                <a:spcPts val="499"/>
              </a:spcBef>
              <a:buClr>
                <a:srgbClr val="000000"/>
              </a:buClr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Grande"/>
              </a:rPr>
              <a:t>Need to quantify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Grande"/>
              </a:rPr>
              <a:t>Future EGI/NGI world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Grande"/>
              </a:rPr>
              <a:t>~35 to 40 Grids in Europe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Grande"/>
              </a:rPr>
              <a:t>EU Grid PMA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Grande"/>
              </a:rPr>
              <a:t>Accredits ~2 per meeting and reviews ~4 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5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Grande"/>
              </a:rPr>
              <a:t>27 May 08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6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Grande"/>
              </a:rPr>
              <a:t>EU Grid PMA, Kelsey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DAD10-11C7-4BB1-9932-99534C03EA07}" type="slidenum">
              <a:rPr b="0" lang="en-US" sz="14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8T14:19:45Z</dcterms:created>
  <dc:creator>D Kelsey</dc:creator>
  <dc:description/>
  <dc:language>en-US</dc:language>
  <cp:lastModifiedBy>Kelsey</cp:lastModifiedBy>
  <dcterms:modified xsi:type="dcterms:W3CDTF">2008-06-04T14:00:04Z</dcterms:modified>
  <cp:revision>62</cp:revision>
  <dc:subject/>
  <dc:title>Grid Security</dc:title>
</cp:coreProperties>
</file>