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5DF-949E-44FD-B06C-1D6E0176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5000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B0F-9C23-4BD0-9665-385E4955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5F3-C221-43B0-B165-C83541C4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532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532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606-3714-4FBF-9E98-3FCB25FD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C8D-1464-4FCF-ADEA-09AB68EA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EEC-C087-4220-8793-72526B37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A67-504C-4AFB-9614-8624B1C8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567-CC91-4093-99CF-A0AB4EB3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630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E53-7172-4031-97D9-830E19AD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60A-2EA6-4A12-95F8-64BD74ED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035-7BBE-4269-9606-6DDE3D12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82D-8FB5-46C4-B358-94F52334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4DCD8-FEE8-442A-90B9-ABFE30DEBB80}" type="slidenum"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bot Soap 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Jens Jensen &lt;j.jensen @ rl ac uk&g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Science and Technology Facilities Counci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EU GridPMA Meeting May 2008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roject-own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ccess to private key can be sha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ingle person responsib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uck can be pas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ust inform CA when buck is pas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ok closer at use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isks, 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mens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936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In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ertificate 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160" y="3048120"/>
            <a:ext cx="37893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ut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 am a Robot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uthority chain, LoA, risk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Verified Subscriber infor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erified by CA/R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on-verified Subscriber infor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sserted by Us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(How to) make things Verifi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hat's the risk of non-Verifi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-To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hould now work with OpenSC+PC/SC + Aladdin driver cross platform (P Millar, DESY)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penSC PKCS#15 suppor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ssert stored on Key To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2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3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4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ot yet certified but in process of certif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ot certified, no process (?)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bots Nam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aming is in the D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obots name themselves (Robot:)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obots name their own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arm and Fuzzy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g files show it's a robo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g files show whose robot it wa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uthorisation by DN for robo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36840"/>
            <a:ext cx="77659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How to communic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am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.g. hierarchical scheme (Brian)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urrent hacky vers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quire middleware to parse OID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rrot?  Stick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xternal source, e.g. LDA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03120" indent="-303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How tightly do we need to manage usag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OMS, porta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owerful clients vs weaker cli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3120" indent="-303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How to move away from personal nam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onfus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nnot be inheri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nnot be shar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roject owned/manag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47</cp:lastModifiedBy>
  <cp:revision>0</cp:revision>
  <dc:subject/>
  <dc:title>PowerPoint Presentation</dc:title>
</cp:coreProperties>
</file>