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0B6C-8E47-4449-A7B9-700F7C11DB4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44A3-8416-468C-8872-D925149E59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0198-8E6D-4C1E-970E-8917D2D5395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B515-FB3B-4CAE-94F8-3F3CA47CE2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A589-5A85-4D58-A94A-3E7349D18F1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5" descr="PMAlogo_large"/>
          <p:cNvPicPr/>
          <p:nvPr/>
        </p:nvPicPr>
        <p:blipFill>
          <a:blip r:embed="rId9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IGTF"/>
          <p:cNvPicPr/>
          <p:nvPr/>
        </p:nvPicPr>
        <p:blipFill>
          <a:blip r:embed="rId10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7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5" descr="PMAlogo_large"/>
          <p:cNvPicPr/>
          <p:nvPr/>
        </p:nvPicPr>
        <p:blipFill>
          <a:blip r:embed="rId9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IGTF"/>
          <p:cNvPicPr/>
          <p:nvPr/>
        </p:nvPicPr>
        <p:blipFill>
          <a:blip r:embed="rId10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MAlogo_large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IGTF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PMAlogo_large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GTF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7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2.png"/><Relationship Id="rId13" Type="http://schemas.openxmlformats.org/officeDocument/2006/relationships/image" Target="../media/image8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s of the APGrid PM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11280" y="2133360"/>
            <a:ext cx="7921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UGridPMA F2F@Copenhage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116000" y="3860640"/>
            <a:ext cx="6985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shio Tan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 memb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DAC, Ind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of a representativ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v. of Hong Ko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2F meeting in Taipei, in April 8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785880"/>
            <a:ext cx="84978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tende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APGridPMA members except CNIC/Chi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vid and Dave from EUGridP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ug from TAGP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ob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SzPct val="14523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EGEE Security staffs from Cern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SzPct val="145238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ossible new members from South East Asian countries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AGMA-UCSD CA was accredited as an IGTF-Classic AP compliant CA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GO/Netrust (Singapore) and NCHC (Taiwan) CA was examined, but not accredited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e agreed to strongly encourage new CAs to use Domain Component RDN for Issuer and Subject D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-depth report of self-auditing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IST and ASG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usiness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shio will continue to be the chai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GridPMA will have a deputy chai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SPAM filter provided KEK for the APGridPMA M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3 + 4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979200"/>
            <a:ext cx="4680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 Accredited CA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ope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ST (Japa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AC (Australi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GCC (Taiwa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NIC (Chin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HEP (Chin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K (Japa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STI (Ko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REGI (Japa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TEC (Thailan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be in ope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GMA-UCSD (US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4714920" y="979560"/>
            <a:ext cx="432108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 CA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 (Singap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aiw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iGrid (Thai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DAC (In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. Hong Kong (Ch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ral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saka U. (Jap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. Hyderabad (In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SM (Malays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orts on Debian OpenSSL Vulner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ly APAC Grid CA has issued suspicious certificate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user certs and 2 host cer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be revoked (probably has been revoked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xt F2F Mee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123560"/>
            <a:ext cx="84978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e: Mid. Septembe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enue: Singapo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-located event: OGF24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David Groep</dc:creator>
  <dc:description/>
  <dc:language>en-US</dc:language>
  <cp:lastModifiedBy>Yoshio Tanaka</cp:lastModifiedBy>
  <dcterms:modified xsi:type="dcterms:W3CDTF">2008-05-26T09:49:58Z</dcterms:modified>
  <cp:revision>59</cp:revision>
  <dc:subject/>
  <dc:title>International Grid Trust Federation Session  GGF 18 Washington, DC, USA</dc:title>
</cp:coreProperties>
</file>