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887E-6B03-4E28-8A83-D05DCA670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1D35-CC75-4713-B1E3-1BC3E9D94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21BD-05AA-4977-A4DB-DE2BF3259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3C73-1164-4F56-935E-D67A42EDA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0CA3-0E9B-4F7E-91F3-4CE489AB05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5058-8EED-421F-97D0-40CAB2F74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4AF2-EEEC-4453-A21D-2542B6D38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BD8B-8DDF-44EF-8E9E-BD5E546D7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506D-7662-4E38-BD3B-ACC63ADCA7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360E-5DAF-4605-927D-B89C867EC5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4B67-8435-463E-892A-A5CA05997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BE69-8B8C-4632-BAD0-A760A55CC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2F7-D7E1-46C3-99AE-68B359F07256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 - Yoshio Tana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57000" y="4505400"/>
            <a:ext cx="2773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th EUGrid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00F5-A76A-4030-9AF8-6A21E7B1E2F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ition to the Security Area as a Standard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4D00-F8D4-4E4B-9898-F37268097CB0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F40-D76B-490A-A92A-0BFDFBE95789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Yoshio Tanaka as the 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A136-C4DA-4B22-B9C7-8A1AC421001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85C9-B6D6-4894-B09E-A17894E264EA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 as a standards gro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decided next week at OGF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 better dissemination of the information to the user community, and get in CAOPS the opportunity to also publish recommendations-track documents and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s different oversight: from the security area in the standards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need to update (actually: write) the group charter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workshops and informational sessions are still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98D-C363-4154-B624-CC1A9B23DA1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9D07-2C53-4043-9CE8-0C649262E63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Full da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 CAOPS session (1 - 1,5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the day IGTF related discussion, food for thought both for IGTF &amp; CA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BED2-B55B-4BBA-B7F4-5CFA374D4F6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6F4-9B92-47E5-A7DC-DE74F14474F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joint CAOPS -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2, Boston, Feb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887-90F4-4DD7-AFB9-7E7CCC61587F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866960" y="2158920"/>
            <a:ext cx="81039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8:30 - 09:00 nCip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00 - 09:30  Kryp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30 - 10:00 Aladd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00 - 10:30 Safe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30 - 10:45 Q &amp;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45 - 11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00 - 11:30 Private Key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30 - 11:45 Certificate Renew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45 - 12:15 Higher Level CA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2:15 - 13:15 L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15 - 13:30 Guidelines for Auditing 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30 - 14:00 Authentication Service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00 - 14:30 Use Cases for Relying Party Enforced Namespace 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30 - 14:45 CP/CPS model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45 - 14:50 Election of new CAOPS co-ch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50 - 15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00 - 15:20 BalticGrid 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20 - 16:30 Robot Certific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30 - 16:45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45 - 17:00 OpenCA + PRQP (PKI Resource Query Protoco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00 - 17:30 Identification in IGT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30 - 18:00 Distribution process 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8:00 - 18:15 Discussion on SLCS (Revoca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181160" y="2070000"/>
            <a:ext cx="406440" cy="4648320"/>
          </a:xfrm>
          <a:custGeom>
            <a:avLst/>
            <a:gdLst>
              <a:gd name="textAreaLeft" fmla="*/ 55800 w 406440"/>
              <a:gd name="textAreaRight" fmla="*/ 350640 w 406440"/>
              <a:gd name="textAreaTop" fmla="*/ 55800 h 4648320"/>
              <a:gd name="textAreaBottom" fmla="*/ 4592520 h 4648320"/>
            </a:gdLst>
            <a:ahLst/>
            <a:rect l="textAreaLeft" t="textAreaTop" r="textAreaRight" b="textAreaBottom"/>
            <a:pathLst>
              <a:path w="21600" h="246833">
                <a:moveTo>
                  <a:pt x="10125" y="0"/>
                </a:moveTo>
                <a:arcTo wR="10125" hR="10125" stAng="16200000" swAng="-5400000"/>
                <a:lnTo>
                  <a:pt x="0" y="236708"/>
                </a:lnTo>
                <a:arcTo wR="10125" hR="10125" stAng="10800000" swAng="-5400000"/>
                <a:lnTo>
                  <a:pt x="11475" y="246833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5dad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 rot="16176000">
            <a:off x="1107360" y="2660760"/>
            <a:ext cx="44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16176000">
            <a:off x="1103040" y="345600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 rot="16176000">
            <a:off x="1023120" y="4381200"/>
            <a:ext cx="66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 rot="16176000">
            <a:off x="1103040" y="553896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1219320" y="509256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219320" y="396252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1219320" y="317484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F307-5888-4BC1-BF05-4A74654C53E6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joint CAOPS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3, Barcelona, June 4t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Top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FC3-1A1B-4FAA-A197-5E60FC41BF1A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CF2-A3D1-4DD7-ACBA-4F3D3434B1C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CAOPS-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dit Guidelin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Yoshio Tanak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ovide guidelines for auditing C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Auditing Check Li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thentication Service Profile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Christos Kanellopoulos, David Groe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efinition of what and Authentication Profile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for writing Authentication Pro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this acts as the document template for the Authentication Profiles used in the 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Relying Party Defined Namespace Polici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David Groep, Olle Mulmo, Von Wel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Identify the requirements on the expression of the namespace constraints policy and on the processing and interpretation semantics of the policy by the relying par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 the existing signing_policy file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iscuss alternatives to thi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OCSP requirements for Grid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Olle Mulmo, Mike Helm, Jesus Luna, Oscar Manso, Milan Sov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on relying parties and responder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ervice architecture option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ite caches, clearing house, high-level respond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3C1-2595-4B02-9198-2A5F0CF261B8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995A-615F-40C0-A05B-193B5F97CC7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 (cont’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LoA-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gap analysis of current LoA definitions versus LoA requirements in e-Science/Grid context </a:t>
            </a:r>
            <a:r>
              <a:rPr b="0" i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Mike Jones, et.al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give an overview of current LoA definitions and the related efforts, and identify gaps between these definitions and the potential use of LoA in the e-Science/Grid con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risk analysis in relation to LoA and use case gathering in an e-Science context (Mike Hel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esent a risk analysis from the prospective of relying parties (or service prov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9DE-A3E6-4926-8192-3946BB8C391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Groep</dc:creator>
  <dc:description/>
  <cp:keywords/>
  <dc:language>en-US</dc:language>
  <cp:lastModifiedBy>Yoshio Tanaka</cp:lastModifiedBy>
  <dcterms:modified xsi:type="dcterms:W3CDTF">2008-05-27T12:39:18Z</dcterms:modified>
  <cp:revision>2</cp:revision>
  <dc:subject/>
  <dc:title>Security Area Review December 2006</dc:title>
</cp:coreProperties>
</file>