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AD5-B11F-48B2-9ECF-B1857AF6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A3-B6FD-42AC-A711-9A585AC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9DB-DAAF-495E-A0E2-59798644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2F9-B0AA-4CF5-8B7C-6F0DC741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257-B43B-42DA-B6F6-D0C8D22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146-8E63-4ED3-AECF-94A8497D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079-6D24-4C37-B1E7-C064B5B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333-4DCC-4AEF-82AE-7D871C7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04D-A5A1-4022-AC97-3A577E07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DC8-CE5C-4E10-8FE7-F968441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C83-69F7-4E8B-A348-AE5C6D3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5A4-B7C9-4330-9218-1A0014A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7C7-4158-4F7E-8C42-94D808780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G Request to Regional P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F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Cowles &amp; Dane Sk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redit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or develop accepted standard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re approximate parity in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ee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and arbitrate over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only non-overlapping CA signing polic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ur participation as a relying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ing parties able to make known needs and rais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nformation about accredited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thods for relying parties to obtain automatic informati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 &amp;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tandard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remains decision of resour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to encourage reliance on IGF member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gnificant value as role of comm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accept this requested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03:05Z</dcterms:created>
  <dc:creator>Robert Cowles</dc:creator>
  <dc:description/>
  <dc:language>en-US</dc:language>
  <cp:lastModifiedBy>Robert Cowles</cp:lastModifiedBy>
  <dcterms:modified xsi:type="dcterms:W3CDTF">2005-03-15T08:33:48Z</dcterms:modified>
  <cp:revision>1</cp:revision>
  <dc:subject/>
  <dc:title>OSG Request to Regional P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6807805</vt:r8>
  </property>
  <property fmtid="{D5CDD505-2E9C-101B-9397-08002B2CF9AE}" pid="3" name="_AuthorEmail">
    <vt:lpwstr>rdc@slac.stanford.edu</vt:lpwstr>
  </property>
  <property fmtid="{D5CDD505-2E9C-101B-9397-08002B2CF9AE}" pid="4" name="_AuthorEmailDisplayName">
    <vt:lpwstr>Cowles, Robert D.</vt:lpwstr>
  </property>
  <property fmtid="{D5CDD505-2E9C-101B-9397-08002B2CF9AE}" pid="5" name="_EmailSubject">
    <vt:lpwstr>OSG Request to Regional PMAs.ppt</vt:lpwstr>
  </property>
  <property fmtid="{D5CDD505-2E9C-101B-9397-08002B2CF9AE}" pid="6" name="_NewReviewCycle">
    <vt:lpwstr/>
  </property>
</Properties>
</file>