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1E4-61A0-4012-9BD0-3FB81998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1E9-CE2D-444D-BB11-4D4EDE6C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7F9-7ACB-477F-AD16-C9D69A7E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407-1B73-4C54-BABC-D11EF91B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28ED-BF96-4FC9-9E2A-E494E805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7FEC-DA69-488A-87CA-1836B37F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D7AF-3A96-4599-8F37-A2F71E83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4469-ABCF-4C0C-BFFA-390E274B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78D2-B160-435F-833B-21847D9D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4488-D0E9-4BDE-AF25-5BFF3BDC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F005-D6AE-46CD-93F1-9BED01C2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D58-0CAF-4F07-900C-F559D1D2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85CB-8571-4F93-B4DB-65595709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F3A7-8B5C-4044-9A35-95AFF48B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261E-353F-4791-B8AE-869E3E2D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8C8E-9797-487E-B083-88974DC5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0A2F-51E2-4121-A805-1DA5435D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FCD-6959-4B85-B539-E29FF7DE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5440-7F77-4CB6-BB06-F9798ED4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41E-E2B5-427E-B0EF-E2E4EAEE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258-8CFC-47AC-B48D-D945A639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778-6C0A-40E7-9F42-68586C25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A30-7E2D-4E3D-9C7E-C88D83A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024-7DD9-48EC-BDE4-86B1D243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2A52-82EF-4C88-B17D-21DBF76865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453D-6D9A-49E7-9713-344C35B87F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ridpma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national Grid Fede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 up in March 2003 – the Tokyo accord. </a:t>
            </a:r>
            <a:r>
              <a:rPr b="0" lang="en-US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GridPMA.or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e trust peering between The Americas, European and Asian Pacific commun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U Grid Policy Management Author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GEE: Enabling Grids for E-science in Europ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ian Pacific Policy Management Author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PGrid: National Institute of Advanced Industrial Science and Technolog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mericas Grid PMA – n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nada and USA (DO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es the establishment of top level CA registri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usted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arty repositories need for establishment of trus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oot CA certificates, CA repositories and CRL publishing poin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U Grid PMA registry – de facto  (CNRS: French National Center for Scientific Researc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ian Pacific CA registry (AP PM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RENA TACAR (TERENA Academic CA Reposit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Global Grid Forum for publishing Standards and community best practi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9:35:45Z</dcterms:created>
  <dc:creator>Tony</dc:creator>
  <dc:description/>
  <dc:language>en-US</dc:language>
  <cp:lastModifiedBy>Tony</cp:lastModifiedBy>
  <dcterms:modified xsi:type="dcterms:W3CDTF">2005-01-28T09:36:11Z</dcterms:modified>
  <cp:revision>1</cp:revision>
  <dc:subject/>
  <dc:title>International Grid Federation</dc:title>
</cp:coreProperties>
</file>