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B97-6854-4322-BB28-D44442D6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6F-D22C-4405-A295-62B7E82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3E9-8B60-4B70-BDB8-31718FA9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A37-AF10-4110-8161-C97B6CF9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8C3-82D0-4313-B0F1-4BFC5E2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EDC-76AE-4194-A8C8-C7EF08FD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4CE-67C1-4D18-9B69-9E84C72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640-83AE-4C0E-A237-1F08EB3E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216-05A7-4738-85C8-DF4F63B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D33-73F1-4B8F-A1C1-AC7444E1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F407-3B2A-4F39-B356-2C04446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0FC-5C0C-43AE-914F-705ADA3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A73D-D1CE-4963-A42D-874A211E05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OCSP Requirements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c479d"/>
                </a:solidFill>
                <a:latin typeface="Verdana"/>
              </a:rPr>
              <a:t>GGF13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Refreshener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OCSP = Online Certificate Status Protocol (RFC2560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Removes(?) burden of CRL distribution and update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ents still have to do path validation!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ightweight request/response (HTTP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hanges since last tim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Document “finish” applied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sections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re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based on (marginal)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ast week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mments from S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280" y="1844640"/>
            <a:ext cx="4761000" cy="398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99548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6000" y="3027240"/>
            <a:ext cx="1644480" cy="7797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875120" y="1341360"/>
            <a:ext cx="2144880" cy="2111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5120" y="2421000"/>
            <a:ext cx="2144880" cy="11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645000"/>
            <a:ext cx="14702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or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229360"/>
            <a:ext cx="2160720" cy="936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4707000"/>
            <a:ext cx="147168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793520" y="5149800"/>
            <a:ext cx="104940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00" y="3519360"/>
            <a:ext cx="1471680" cy="8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3520" y="3941280"/>
            <a:ext cx="1049400" cy="85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440" y="187632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/organ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000" y="3429000"/>
            <a:ext cx="208764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83664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4149720"/>
            <a:ext cx="216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58136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73724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6800" y="4881600"/>
            <a:ext cx="164484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02596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17032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31324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877000"/>
            <a:ext cx="14716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83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iodic CRL downlo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CSP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7640" y="1413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640" y="98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51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3" idx="3"/>
          </p:cNvCxnSpPr>
          <p:nvPr/>
        </p:nvCxnSpPr>
        <p:spPr>
          <a:xfrm flipV="1" rot="16200000">
            <a:off x="3444480" y="420912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4" idx="0"/>
            <a:endCxn id="88" idx="3"/>
          </p:cNvCxnSpPr>
          <p:nvPr/>
        </p:nvCxnSpPr>
        <p:spPr>
          <a:xfrm flipH="1" flipV="1" rot="5400000">
            <a:off x="3971880" y="420948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Updated architectur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560" y="990720"/>
            <a:ext cx="1981080" cy="2057400"/>
          </a:xfrm>
          <a:prstGeom prst="line">
            <a:avLst/>
          </a:prstGeom>
          <a:ln w="28440">
            <a:solidFill>
              <a:srgbClr val="47c16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1400">
            <a:off x="4497120" y="1750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c164"/>
                </a:solidFill>
                <a:latin typeface="Verdana"/>
              </a:rPr>
              <a:t>Push, Delta C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Outstanding issues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igned request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tronger differentiation on suspension vs revoc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Use of OCSP response extensions to convey additional (validation) inform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More wording on Delta CRL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Notion of a caution period (RFC3125)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Moving forward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Address the Spanish contributions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Move towards WG last cal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Have document in public comment before GGF14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27:48Z</dcterms:created>
  <dc:creator>Olle Mulmo</dc:creator>
  <dc:description/>
  <dc:language>en-US</dc:language>
  <cp:lastModifiedBy>Olle Mulmo</cp:lastModifiedBy>
  <dcterms:modified xsi:type="dcterms:W3CDTF">2005-03-15T05:40:07Z</dcterms:modified>
  <cp:revision>32</cp:revision>
  <dc:subject/>
  <dc:title>OCSP Confessions</dc:title>
</cp:coreProperties>
</file>