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E1B-A639-4A35-8BF6-505BA875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BF1-BECF-4CEF-9664-CB8F056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E51-B7A7-461A-B627-06E09A86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FB5-3356-48E0-9F7F-1D77BF0C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4188-D9F9-4C90-BB79-8D48065D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2D94-2785-45EA-AA17-6352D6D2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A43F-5269-49BC-9751-65F37226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1A2A-3801-448B-966A-A39904A3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7BA8-432C-4BF5-A99F-B8077845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EDDC-213F-4A1F-99CE-A800FE97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0A00-1EFA-4A47-99B9-D05C7F97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BB9-E482-4793-A1C7-AEB55FC6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4207-948C-4BB7-A9F4-71485F2D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E964-731A-4D71-AF44-B4332C73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597A-C130-4F40-AB4F-A1032C20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EC13-AFC4-4081-B158-5542BCD4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10D0-3E09-4BD4-9D1B-015553A4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C74-1956-4766-9E70-9E89F02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B4E-5B0B-4728-8074-B89DF4D8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6CD-BCF6-444A-BE66-70F4AE0B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9E8-1997-45FD-9106-F4C1948E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146-AAD0-4D53-839A-E8582205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EC2-878F-4D0A-936B-A578D7AA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9E7-0ED9-4908-92B7-80958548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4051-9353-4ACB-AA08-BC00F073D360}" type="slidenum">
              <a:rPr b="0" lang="en-US" sz="10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cember 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1C96-73EB-48F0-A273-9ACD724EE2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-OPS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uthentication Profi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Genove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F team ES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rence Berkeley National Lab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uthentication pro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n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ederation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7FC-4850-4410-A9FD-221DCFE823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uthentication Profil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uthentication services will fragment the current global trust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we must allow for innovations in Authenticatio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PKI procrustean bed no longer wor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a draft GGF informational do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57D-5F12-45C9-9C7C-992A3F025D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uthentication Profile what is in i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Services must provide basic information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vernance of authentication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membership and operational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ing model that Relying parties can tr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D2A-E322-4A83-87E5-1D2BBE11D2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neral Federation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definition -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secu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ation and repository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s and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and confidenti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omise and disaster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657-348C-4DC4-A6AF-1020384A3F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w Federations that can be profil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Federation with common Auth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PS - Site Integrated Prox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A exam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 SSL support - Host certificat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F - RADIUS Authentication Fa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Credential S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7C8-2784-4DF8-B92A-7F0058A8F0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us of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guidance material being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name to reflect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 Federations for Gr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Federation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Federation set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used by the Americas Grid PMA for chart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CB6-2FBE-4219-A027-7988BBE33F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6T00:37:25Z</dcterms:created>
  <dc:creator>TonyG</dc:creator>
  <dc:description/>
  <dc:language>en-US</dc:language>
  <cp:lastModifiedBy>Tony</cp:lastModifiedBy>
  <dcterms:modified xsi:type="dcterms:W3CDTF">2005-03-11T00:35:46Z</dcterms:modified>
  <cp:revision>27</cp:revision>
  <dc:subject/>
  <dc:title>PKI Service changes</dc:title>
</cp:coreProperties>
</file>