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431-926B-4F1A-B428-BBDB9410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142-3DC5-4755-A616-9544EB7B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FC6-A142-4282-BAB5-D212F158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CCA-C3A3-47FC-85C0-24381A0A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5FC-1A28-49BC-B52E-4C2C2368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8020-3486-4906-AC25-DD02315C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601-849F-4A54-81A5-0F512B60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3FA-6C26-49FC-A5E7-6B102C9B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F5C-4A7E-4B1C-BB86-350B2410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1FA-C68E-4E04-B00D-73AEE94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48C-55FF-494E-A4AE-CEA10DC3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322-7456-42E5-AB04-7AD1BB1F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D7DE-4CF3-496C-A273-2C356292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CAOPS-WG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Document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5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CSP Requirements for OCSP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lle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ony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diting Topics for Grid CA’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Yoshio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CAOPS-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ristos Kanellopolous is now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s to Tony for his mad st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cond session, at 17:00-18:30 in Crystal Ballroom 3, that will concern itself with the International Grid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id Security Area meeting, 19:00-20:30 in Sapphire Ballroo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in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CSP Requirements for Grid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Olle, Mike, M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e editor queu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(kind of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PMA Model Charter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Bob, Tony, Peter, M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ertificates for Automated Client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Steve, M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A Common Naming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ertificate Extension Profile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David (out of retirement agai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05:06Z</dcterms:created>
  <dc:creator>Darcy Quesnel</dc:creator>
  <dc:description/>
  <dc:language>en-US</dc:language>
  <cp:lastModifiedBy>Darcy Quesnel</cp:lastModifiedBy>
  <dcterms:modified xsi:type="dcterms:W3CDTF">2005-03-15T06:19:00Z</dcterms:modified>
  <cp:revision>4</cp:revision>
  <dc:subject/>
  <dc:title>Agenda</dc:title>
</cp:coreProperties>
</file>