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E262-2C1D-4EB3-8A09-67B7493F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5358-5C90-45E8-8300-92196BAB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6D63-159A-4690-8D4B-4119D18A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6271-2A72-4E8A-89F9-4A0CC4F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6BAF-DE59-4D42-A40C-69B61762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BF03-0813-4846-8651-F88D4117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D390-AA17-4AC7-A310-D91F43C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3DE4-B9EC-44BA-ADE5-8F521FB4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AD25-0181-4812-8594-94DADBAA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24C6-F9F4-4602-848A-18DE9FE6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54F6-C36D-423F-8674-549B9559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5F92-574A-4F97-8373-C04339AD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0A19-8DC6-4186-91FA-5FBB7DBDE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www.cica.ca/" TargetMode="External"/><Relationship Id="rId8" Type="http://schemas.openxmlformats.org/officeDocument/2006/relationships/hyperlink" Target="http://www.aicpa.org/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posals for audi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ccredit/certify/audit authorit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A regional PMA shoul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accredit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re-certify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coordinate peer-review (peer-audit) of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How a CA is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omic Sans MS"/>
              </a:rPr>
              <a:t>criteria for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audit pro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Should PMA be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osed audit ite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NAREGI PKI WG has subjectively selected criteria for auditing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ICPA/CICA WebTrus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 Program for Certification Autho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inimum CA requirements of APGrid PMA and EU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Web Trus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ebTrust is a seal awarded to web sites that consistently adhere to certain business standards established by the Canadian Institute of Chartered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CICA.c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 and the American Institute of Certified Public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AICP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In the program, “Web Trust Principles and Criteria for  Certification Authorities” lists criteria for C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ay too much for Grid C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6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1: CA Business Practices Disclosu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discloses its key and certificate life cycle management business and information privacy practices and provides its services in accordance with its disclosed pract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2: Service Integr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criber information was properly authenticated (for the registration activities performed by ABC-CA)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grity of keys and certificates it manages is established and protected throughout their life cyc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nciple 3: CA Environmental Contr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criber and relying party information is restricted to authorized individuals and protected from uses not specified in the CA's business practices disclosure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inuity of key and certificate life cycle management operations is maintained;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 systems development, maintenance, and operation are properly authorized and performed to maintain CA systems integrit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 and propos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 GRID CA will be audited by NAREGI CA according to the proposed criteria for audit in March 29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valuate its appropriat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will audit production-level CAs based on the proposed criteri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The proposed criteria for audit can be a starting point to establish common criteria for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circulate the proposed criteria to the CAOPs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may provide documents if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mments and discussions are wel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5T03:46:35Z</dcterms:modified>
  <cp:revision>102</cp:revision>
  <dc:subject/>
  <dc:title>スライド 1</dc:title>
</cp:coreProperties>
</file>